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13003213" cy="9752013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7200" spc="-1" strike="noStrike">
              <a:solidFill>
                <a:srgbClr val="535353"/>
              </a:solidFill>
              <a:latin typeface="Gill Sans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55320" y="2730600"/>
            <a:ext cx="12293640" cy="300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120000"/>
              </a:lnSpc>
              <a:spcBef>
                <a:spcPts val="46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600" spc="-1" strike="noStrike">
              <a:solidFill>
                <a:srgbClr val="535353"/>
              </a:solidFill>
              <a:latin typeface="Gill Sans Ligh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55320" y="6021000"/>
            <a:ext cx="12293640" cy="300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120000"/>
              </a:lnSpc>
              <a:spcBef>
                <a:spcPts val="46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600" spc="-1" strike="noStrike">
              <a:solidFill>
                <a:srgbClr val="535353"/>
              </a:solidFill>
              <a:latin typeface="Gill Sans Light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7200" spc="-1" strike="noStrike">
              <a:solidFill>
                <a:srgbClr val="535353"/>
              </a:solidFill>
              <a:latin typeface="Gill Sans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55320" y="2730600"/>
            <a:ext cx="5999040" cy="300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120000"/>
              </a:lnSpc>
              <a:spcBef>
                <a:spcPts val="46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600" spc="-1" strike="noStrike">
              <a:solidFill>
                <a:srgbClr val="535353"/>
              </a:solidFill>
              <a:latin typeface="Gill Sans Ligh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54600" y="2730600"/>
            <a:ext cx="5999040" cy="300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120000"/>
              </a:lnSpc>
              <a:spcBef>
                <a:spcPts val="46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600" spc="-1" strike="noStrike">
              <a:solidFill>
                <a:srgbClr val="535353"/>
              </a:solidFill>
              <a:latin typeface="Gill Sans Light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55320" y="6021000"/>
            <a:ext cx="5999040" cy="300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120000"/>
              </a:lnSpc>
              <a:spcBef>
                <a:spcPts val="46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600" spc="-1" strike="noStrike">
              <a:solidFill>
                <a:srgbClr val="535353"/>
              </a:solidFill>
              <a:latin typeface="Gill Sans Light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54600" y="6021000"/>
            <a:ext cx="5999040" cy="300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120000"/>
              </a:lnSpc>
              <a:spcBef>
                <a:spcPts val="46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600" spc="-1" strike="noStrike">
              <a:solidFill>
                <a:srgbClr val="535353"/>
              </a:solidFill>
              <a:latin typeface="Gill Sans Light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7200" spc="-1" strike="noStrike">
              <a:solidFill>
                <a:srgbClr val="535353"/>
              </a:solidFill>
              <a:latin typeface="Gill Sans Ligh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55320" y="2730600"/>
            <a:ext cx="3958200" cy="300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120000"/>
              </a:lnSpc>
              <a:spcBef>
                <a:spcPts val="46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600" spc="-1" strike="noStrike">
              <a:solidFill>
                <a:srgbClr val="535353"/>
              </a:solidFill>
              <a:latin typeface="Gill Sans Ligh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11880" y="2730600"/>
            <a:ext cx="3958200" cy="300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120000"/>
              </a:lnSpc>
              <a:spcBef>
                <a:spcPts val="46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600" spc="-1" strike="noStrike">
              <a:solidFill>
                <a:srgbClr val="535353"/>
              </a:solidFill>
              <a:latin typeface="Gill Sans Light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668440" y="2730600"/>
            <a:ext cx="3958200" cy="300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120000"/>
              </a:lnSpc>
              <a:spcBef>
                <a:spcPts val="46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600" spc="-1" strike="noStrike">
              <a:solidFill>
                <a:srgbClr val="535353"/>
              </a:solidFill>
              <a:latin typeface="Gill Sans Light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355320" y="6021000"/>
            <a:ext cx="3958200" cy="300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120000"/>
              </a:lnSpc>
              <a:spcBef>
                <a:spcPts val="46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600" spc="-1" strike="noStrike">
              <a:solidFill>
                <a:srgbClr val="535353"/>
              </a:solidFill>
              <a:latin typeface="Gill Sans Light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511880" y="6021000"/>
            <a:ext cx="3958200" cy="300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120000"/>
              </a:lnSpc>
              <a:spcBef>
                <a:spcPts val="46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600" spc="-1" strike="noStrike">
              <a:solidFill>
                <a:srgbClr val="535353"/>
              </a:solidFill>
              <a:latin typeface="Gill Sans Light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668440" y="6021000"/>
            <a:ext cx="3958200" cy="300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120000"/>
              </a:lnSpc>
              <a:spcBef>
                <a:spcPts val="46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600" spc="-1" strike="noStrike">
              <a:solidFill>
                <a:srgbClr val="535353"/>
              </a:solidFill>
              <a:latin typeface="Gill Sans Ligh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7200" spc="-1" strike="noStrike">
              <a:solidFill>
                <a:srgbClr val="535353"/>
              </a:solidFill>
              <a:latin typeface="Gill Sans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355320" y="2730600"/>
            <a:ext cx="12293640" cy="629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6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600" spc="-1" strike="noStrike">
              <a:solidFill>
                <a:srgbClr val="535353"/>
              </a:solidFill>
              <a:latin typeface="Gill Sans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7200" spc="-1" strike="noStrike">
              <a:solidFill>
                <a:srgbClr val="535353"/>
              </a:solidFill>
              <a:latin typeface="Gill Sans Ligh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355320" y="2730600"/>
            <a:ext cx="12293640" cy="629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120000"/>
              </a:lnSpc>
              <a:spcBef>
                <a:spcPts val="46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600" spc="-1" strike="noStrike">
              <a:solidFill>
                <a:srgbClr val="535353"/>
              </a:solidFill>
              <a:latin typeface="Gill Sans Ligh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7200" spc="-1" strike="noStrike">
              <a:solidFill>
                <a:srgbClr val="535353"/>
              </a:solidFill>
              <a:latin typeface="Gill Sans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55320" y="2730600"/>
            <a:ext cx="5999040" cy="629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120000"/>
              </a:lnSpc>
              <a:spcBef>
                <a:spcPts val="46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600" spc="-1" strike="noStrike">
              <a:solidFill>
                <a:srgbClr val="535353"/>
              </a:solidFill>
              <a:latin typeface="Gill Sans Ligh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54600" y="2730600"/>
            <a:ext cx="5999040" cy="629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120000"/>
              </a:lnSpc>
              <a:spcBef>
                <a:spcPts val="46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600" spc="-1" strike="noStrike">
              <a:solidFill>
                <a:srgbClr val="535353"/>
              </a:solidFill>
              <a:latin typeface="Gill Sans Light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7200" spc="-1" strike="noStrike">
              <a:solidFill>
                <a:srgbClr val="535353"/>
              </a:solidFill>
              <a:latin typeface="Gill Sans Ligh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355320" y="253800"/>
            <a:ext cx="122936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6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600" spc="-1" strike="noStrike">
              <a:solidFill>
                <a:srgbClr val="535353"/>
              </a:solidFill>
              <a:latin typeface="Gill Sans Light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7200" spc="-1" strike="noStrike">
              <a:solidFill>
                <a:srgbClr val="535353"/>
              </a:solidFill>
              <a:latin typeface="Gill Sans Ligh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55320" y="2730600"/>
            <a:ext cx="5999040" cy="300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120000"/>
              </a:lnSpc>
              <a:spcBef>
                <a:spcPts val="46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600" spc="-1" strike="noStrike">
              <a:solidFill>
                <a:srgbClr val="535353"/>
              </a:solidFill>
              <a:latin typeface="Gill Sans Light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54600" y="2730600"/>
            <a:ext cx="5999040" cy="629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120000"/>
              </a:lnSpc>
              <a:spcBef>
                <a:spcPts val="46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600" spc="-1" strike="noStrike">
              <a:solidFill>
                <a:srgbClr val="535353"/>
              </a:solidFill>
              <a:latin typeface="Gill Sans Light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355320" y="6021000"/>
            <a:ext cx="5999040" cy="300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120000"/>
              </a:lnSpc>
              <a:spcBef>
                <a:spcPts val="46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600" spc="-1" strike="noStrike">
              <a:solidFill>
                <a:srgbClr val="535353"/>
              </a:solidFill>
              <a:latin typeface="Gill Sans Light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7200" spc="-1" strike="noStrike">
              <a:solidFill>
                <a:srgbClr val="535353"/>
              </a:solidFill>
              <a:latin typeface="Gill Sans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55320" y="2730600"/>
            <a:ext cx="5999040" cy="629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120000"/>
              </a:lnSpc>
              <a:spcBef>
                <a:spcPts val="46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600" spc="-1" strike="noStrike">
              <a:solidFill>
                <a:srgbClr val="535353"/>
              </a:solidFill>
              <a:latin typeface="Gill Sans Ligh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54600" y="2730600"/>
            <a:ext cx="5999040" cy="300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120000"/>
              </a:lnSpc>
              <a:spcBef>
                <a:spcPts val="46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600" spc="-1" strike="noStrike">
              <a:solidFill>
                <a:srgbClr val="535353"/>
              </a:solidFill>
              <a:latin typeface="Gill Sans Ligh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54600" y="6021000"/>
            <a:ext cx="5999040" cy="300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120000"/>
              </a:lnSpc>
              <a:spcBef>
                <a:spcPts val="46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600" spc="-1" strike="noStrike">
              <a:solidFill>
                <a:srgbClr val="535353"/>
              </a:solidFill>
              <a:latin typeface="Gill Sans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7200" spc="-1" strike="noStrike">
              <a:solidFill>
                <a:srgbClr val="535353"/>
              </a:solidFill>
              <a:latin typeface="Gill Sans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55320" y="2730600"/>
            <a:ext cx="5999040" cy="300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120000"/>
              </a:lnSpc>
              <a:spcBef>
                <a:spcPts val="46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600" spc="-1" strike="noStrike">
              <a:solidFill>
                <a:srgbClr val="535353"/>
              </a:solidFill>
              <a:latin typeface="Gill Sans Ligh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54600" y="2730600"/>
            <a:ext cx="5999040" cy="300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120000"/>
              </a:lnSpc>
              <a:spcBef>
                <a:spcPts val="46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600" spc="-1" strike="noStrike">
              <a:solidFill>
                <a:srgbClr val="535353"/>
              </a:solidFill>
              <a:latin typeface="Gill Sans Ligh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55320" y="6021000"/>
            <a:ext cx="12293640" cy="300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120000"/>
              </a:lnSpc>
              <a:spcBef>
                <a:spcPts val="46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600" spc="-1" strike="noStrike">
              <a:solidFill>
                <a:srgbClr val="535353"/>
              </a:solidFill>
              <a:latin typeface="Gill Sans Light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7200" spc="-1" strike="noStrike">
                <a:solidFill>
                  <a:srgbClr val="535353"/>
                </a:solidFill>
                <a:latin typeface="Gill Sans Light"/>
              </a:rPr>
              <a:t>Click to edit the title text format</a:t>
            </a:r>
            <a:endParaRPr b="0" lang="en-US" sz="7200" spc="-1" strike="noStrike">
              <a:solidFill>
                <a:srgbClr val="535353"/>
              </a:solidFill>
              <a:latin typeface="Gill Sans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55320" y="2730600"/>
            <a:ext cx="12293640" cy="629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 fontScale="67000"/>
          </a:bodyPr>
          <a:p>
            <a:pPr marL="348480" indent="-348480">
              <a:lnSpc>
                <a:spcPct val="120000"/>
              </a:lnSpc>
              <a:spcBef>
                <a:spcPts val="4601"/>
              </a:spcBef>
              <a:buClr>
                <a:srgbClr val="535353"/>
              </a:buClr>
              <a:buSzPct val="82000"/>
              <a:buFont typeface="Gill Sans Light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600" spc="-1" strike="noStrike">
                <a:solidFill>
                  <a:srgbClr val="535353"/>
                </a:solidFill>
                <a:latin typeface="Gill Sans Light"/>
              </a:rPr>
              <a:t>Click to edit the outline text format</a:t>
            </a:r>
            <a:endParaRPr b="0" lang="en-US" sz="4600" spc="-1" strike="noStrike">
              <a:solidFill>
                <a:srgbClr val="535353"/>
              </a:solidFill>
              <a:latin typeface="Gill Sans Light"/>
            </a:endParaRPr>
          </a:p>
          <a:p>
            <a:pPr lvl="1" marL="697680" indent="-348840">
              <a:lnSpc>
                <a:spcPct val="120000"/>
              </a:lnSpc>
              <a:spcBef>
                <a:spcPts val="4601"/>
              </a:spcBef>
              <a:buClr>
                <a:srgbClr val="535353"/>
              </a:buClr>
              <a:buSzPct val="82000"/>
              <a:buFont typeface="Gill Sans Light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600" spc="-1" strike="noStrike">
                <a:solidFill>
                  <a:srgbClr val="535353"/>
                </a:solidFill>
                <a:latin typeface="Gill Sans Light"/>
              </a:rPr>
              <a:t>Second Outline Level</a:t>
            </a:r>
            <a:endParaRPr b="0" lang="en-US" sz="4600" spc="-1" strike="noStrike">
              <a:solidFill>
                <a:srgbClr val="535353"/>
              </a:solidFill>
              <a:latin typeface="Gill Sans Light"/>
            </a:endParaRPr>
          </a:p>
          <a:p>
            <a:pPr lvl="2" marL="1046520" indent="-348480">
              <a:lnSpc>
                <a:spcPct val="120000"/>
              </a:lnSpc>
              <a:spcBef>
                <a:spcPts val="4601"/>
              </a:spcBef>
              <a:buClr>
                <a:srgbClr val="535353"/>
              </a:buClr>
              <a:buSzPct val="82000"/>
              <a:buFont typeface="Gill Sans Light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600" spc="-1" strike="noStrike">
                <a:solidFill>
                  <a:srgbClr val="535353"/>
                </a:solidFill>
                <a:latin typeface="Gill Sans Light"/>
              </a:rPr>
              <a:t>Third Outline Level</a:t>
            </a:r>
            <a:endParaRPr b="0" lang="en-US" sz="4600" spc="-1" strike="noStrike">
              <a:solidFill>
                <a:srgbClr val="535353"/>
              </a:solidFill>
              <a:latin typeface="Gill Sans Light"/>
            </a:endParaRPr>
          </a:p>
          <a:p>
            <a:pPr lvl="3" marL="1395360" indent="-348840">
              <a:lnSpc>
                <a:spcPct val="120000"/>
              </a:lnSpc>
              <a:spcBef>
                <a:spcPts val="4601"/>
              </a:spcBef>
              <a:buClr>
                <a:srgbClr val="535353"/>
              </a:buClr>
              <a:buSzPct val="82000"/>
              <a:buFont typeface="Gill Sans Light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600" spc="-1" strike="noStrike">
                <a:solidFill>
                  <a:srgbClr val="535353"/>
                </a:solidFill>
                <a:latin typeface="Gill Sans Light"/>
              </a:rPr>
              <a:t>Fourth Outline Level</a:t>
            </a:r>
            <a:endParaRPr b="0" lang="en-US" sz="4600" spc="-1" strike="noStrike">
              <a:solidFill>
                <a:srgbClr val="535353"/>
              </a:solidFill>
              <a:latin typeface="Gill Sans Light"/>
            </a:endParaRPr>
          </a:p>
          <a:p>
            <a:pPr lvl="4" marL="1744200" indent="-348480">
              <a:lnSpc>
                <a:spcPct val="120000"/>
              </a:lnSpc>
              <a:spcBef>
                <a:spcPts val="4601"/>
              </a:spcBef>
              <a:buClr>
                <a:srgbClr val="535353"/>
              </a:buClr>
              <a:buSzPct val="82000"/>
              <a:buFont typeface="Gill Sans Light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600" spc="-1" strike="noStrike">
                <a:solidFill>
                  <a:srgbClr val="535353"/>
                </a:solidFill>
                <a:latin typeface="Gill Sans Light"/>
              </a:rPr>
              <a:t>Fifth Outline Level</a:t>
            </a:r>
            <a:endParaRPr b="0" lang="en-US" sz="4600" spc="-1" strike="noStrike">
              <a:solidFill>
                <a:srgbClr val="535353"/>
              </a:solidFill>
              <a:latin typeface="Gill Sans Light"/>
            </a:endParaRPr>
          </a:p>
          <a:p>
            <a:pPr lvl="5" marL="1744200" indent="-348480">
              <a:lnSpc>
                <a:spcPct val="120000"/>
              </a:lnSpc>
              <a:spcBef>
                <a:spcPts val="4601"/>
              </a:spcBef>
              <a:buClr>
                <a:srgbClr val="535353"/>
              </a:buClr>
              <a:buSzPct val="82000"/>
              <a:buFont typeface="Gill Sans Light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600" spc="-1" strike="noStrike">
                <a:solidFill>
                  <a:srgbClr val="535353"/>
                </a:solidFill>
                <a:latin typeface="Gill Sans Light"/>
              </a:rPr>
              <a:t>Sixth Outline Level</a:t>
            </a:r>
            <a:endParaRPr b="0" lang="en-US" sz="4600" spc="-1" strike="noStrike">
              <a:solidFill>
                <a:srgbClr val="535353"/>
              </a:solidFill>
              <a:latin typeface="Gill Sans Light"/>
            </a:endParaRPr>
          </a:p>
          <a:p>
            <a:pPr lvl="6" marL="1744200" indent="-348480">
              <a:lnSpc>
                <a:spcPct val="120000"/>
              </a:lnSpc>
              <a:spcBef>
                <a:spcPts val="4601"/>
              </a:spcBef>
              <a:buClr>
                <a:srgbClr val="535353"/>
              </a:buClr>
              <a:buSzPct val="82000"/>
              <a:buFont typeface="Gill Sans Light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600" spc="-1" strike="noStrike">
                <a:solidFill>
                  <a:srgbClr val="535353"/>
                </a:solidFill>
                <a:latin typeface="Gill Sans Light"/>
              </a:rPr>
              <a:t>Seventh Outline Level</a:t>
            </a:r>
            <a:endParaRPr b="0" lang="en-US" sz="4600" spc="-1" strike="noStrike">
              <a:solidFill>
                <a:srgbClr val="535353"/>
              </a:solidFill>
              <a:latin typeface="Gill Sans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715680" y="518760"/>
            <a:ext cx="7118280" cy="859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505050"/>
                </a:solidFill>
                <a:latin typeface="Arial"/>
                <a:ea typeface="Arial"/>
              </a:rPr>
              <a:t>ОГБУ «НАУЧНО-ИССЛЕДОВАТЕЛЬСКИЙ ИНСТИТУТ ИСТОРИИ И КУЛЬТУРЫ УЛЬЯНОВСКОЙ ОБЛАСТИ ИМЕНИ Н.М.КАРАМЗИНА»</a:t>
            </a:r>
            <a:br>
              <a:rPr sz="2000"/>
            </a:br>
            <a:br>
              <a:rPr sz="3800"/>
            </a:br>
            <a:r>
              <a:rPr b="0" lang="ru-RU" sz="3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РЕЗУЛЬТАТЫ СОЦИОЛОГИЧЕСКОГО ИССЛЕДОВАНИЯ</a:t>
            </a:r>
            <a:br>
              <a:rPr sz="3800"/>
            </a:br>
            <a:br>
              <a:rPr sz="3800"/>
            </a:br>
            <a:r>
              <a:rPr b="0" lang="ru-RU" sz="50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«ИСТОРИЧЕСКАЯ ПАМЯТЬ О ВЕЛИКОЙ ОТЕЧЕСТВЕННОЙ ВОЙНЕ УЧАЩЕЙСЯ МОЛОДЕЖИ Г.УЛЬЯНОВСКА»</a:t>
            </a:r>
            <a:endParaRPr b="0" lang="en-US" sz="5000" spc="-1" strike="noStrike">
              <a:solidFill>
                <a:srgbClr val="535353"/>
              </a:solidFill>
              <a:latin typeface="Gill Sans Light"/>
            </a:endParaRPr>
          </a:p>
        </p:txBody>
      </p:sp>
      <p:pic>
        <p:nvPicPr>
          <p:cNvPr id="39" name="Picture 2" descr=""/>
          <p:cNvPicPr/>
          <p:nvPr/>
        </p:nvPicPr>
        <p:blipFill>
          <a:blip r:embed="rId1"/>
          <a:stretch/>
        </p:blipFill>
        <p:spPr>
          <a:xfrm>
            <a:off x="8359920" y="303120"/>
            <a:ext cx="4344840" cy="628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2"/>
          <p:cNvSpPr/>
          <p:nvPr/>
        </p:nvSpPr>
        <p:spPr>
          <a:xfrm>
            <a:off x="0" y="0"/>
            <a:ext cx="13004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535353"/>
              </a:solidFill>
              <a:latin typeface="Gill Sans Light"/>
            </a:endParaRPr>
          </a:p>
        </p:txBody>
      </p:sp>
      <p:pic>
        <p:nvPicPr>
          <p:cNvPr id="66" name="Object 1" descr=""/>
          <p:cNvPicPr/>
          <p:nvPr/>
        </p:nvPicPr>
        <p:blipFill>
          <a:blip r:embed="rId1"/>
          <a:stretch/>
        </p:blipFill>
        <p:spPr>
          <a:xfrm>
            <a:off x="287280" y="304920"/>
            <a:ext cx="12430080" cy="921528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3"/>
          <p:cNvSpPr/>
          <p:nvPr/>
        </p:nvSpPr>
        <p:spPr>
          <a:xfrm>
            <a:off x="0" y="2171880"/>
            <a:ext cx="13004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535353"/>
              </a:solidFill>
              <a:latin typeface="Gill Sans Light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355320" y="484200"/>
            <a:ext cx="12293640" cy="85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 fontScale="95000"/>
          </a:bodyPr>
          <a:p>
            <a:pPr marL="494280" indent="0" algn="just">
              <a:lnSpc>
                <a:spcPct val="100000"/>
              </a:lnSpc>
              <a:spcBef>
                <a:spcPts val="46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ru-RU" sz="3200" spc="-1" strike="noStrike">
                <a:solidFill>
                  <a:srgbClr val="535353"/>
                </a:solidFill>
                <a:latin typeface="Gill Sans Light"/>
              </a:rPr>
              <a:t>Выдающимися полководцами и героями Великой Отечественной войны опрошенные назвали (по частоте упоминаний):</a:t>
            </a:r>
            <a:endParaRPr b="0" lang="en-US" sz="3200" spc="-1" strike="noStrike">
              <a:solidFill>
                <a:srgbClr val="535353"/>
              </a:solidFill>
              <a:latin typeface="Gill Sans Light"/>
            </a:endParaRPr>
          </a:p>
          <a:p>
            <a:pPr marL="494280" indent="-494280">
              <a:lnSpc>
                <a:spcPct val="100000"/>
              </a:lnSpc>
              <a:spcBef>
                <a:spcPts val="4601"/>
              </a:spcBef>
              <a:buClr>
                <a:srgbClr val="535353"/>
              </a:buClr>
              <a:buSzPct val="82000"/>
              <a:buFont typeface="Gill Sans Light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ru-RU" sz="3200" spc="-1" strike="noStrike">
                <a:solidFill>
                  <a:srgbClr val="535353"/>
                </a:solidFill>
                <a:latin typeface="Gill Sans Light"/>
              </a:rPr>
              <a:t>Сталин И. В. (564 – 26,41%)</a:t>
            </a:r>
            <a:endParaRPr b="0" lang="en-US" sz="3200" spc="-1" strike="noStrike">
              <a:solidFill>
                <a:srgbClr val="535353"/>
              </a:solidFill>
              <a:latin typeface="Gill Sans Light"/>
            </a:endParaRPr>
          </a:p>
          <a:p>
            <a:pPr marL="494280" indent="-494280">
              <a:lnSpc>
                <a:spcPct val="100000"/>
              </a:lnSpc>
              <a:spcBef>
                <a:spcPts val="4601"/>
              </a:spcBef>
              <a:buClr>
                <a:srgbClr val="535353"/>
              </a:buClr>
              <a:buSzPct val="82000"/>
              <a:buFont typeface="Gill Sans Light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ru-RU" sz="3200" spc="-1" strike="noStrike">
                <a:solidFill>
                  <a:srgbClr val="535353"/>
                </a:solidFill>
                <a:latin typeface="Gill Sans Light"/>
              </a:rPr>
              <a:t>Жуков Г. К. (255 - 11,94%)</a:t>
            </a:r>
            <a:endParaRPr b="0" lang="en-US" sz="3200" spc="-1" strike="noStrike">
              <a:solidFill>
                <a:srgbClr val="535353"/>
              </a:solidFill>
              <a:latin typeface="Gill Sans Light"/>
            </a:endParaRPr>
          </a:p>
          <a:p>
            <a:pPr marL="494280" indent="-494280">
              <a:lnSpc>
                <a:spcPct val="100000"/>
              </a:lnSpc>
              <a:spcBef>
                <a:spcPts val="4601"/>
              </a:spcBef>
              <a:buClr>
                <a:srgbClr val="535353"/>
              </a:buClr>
              <a:buSzPct val="82000"/>
              <a:buFont typeface="Gill Sans Light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ru-RU" sz="3200" spc="-1" strike="noStrike">
                <a:solidFill>
                  <a:srgbClr val="535353"/>
                </a:solidFill>
                <a:latin typeface="Gill Sans Light"/>
              </a:rPr>
              <a:t>Матросов А. М. (232 – 10,86%)</a:t>
            </a:r>
            <a:endParaRPr b="0" lang="en-US" sz="3200" spc="-1" strike="noStrike">
              <a:solidFill>
                <a:srgbClr val="535353"/>
              </a:solidFill>
              <a:latin typeface="Gill Sans Light"/>
            </a:endParaRPr>
          </a:p>
          <a:p>
            <a:pPr marL="494280" indent="-494280">
              <a:lnSpc>
                <a:spcPct val="100000"/>
              </a:lnSpc>
              <a:spcBef>
                <a:spcPts val="4601"/>
              </a:spcBef>
              <a:buClr>
                <a:srgbClr val="535353"/>
              </a:buClr>
              <a:buSzPct val="82000"/>
              <a:buFont typeface="Gill Sans Light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ru-RU" sz="3200" spc="-1" strike="noStrike">
                <a:solidFill>
                  <a:srgbClr val="535353"/>
                </a:solidFill>
                <a:latin typeface="Gill Sans Light"/>
              </a:rPr>
              <a:t>Полбин И. С. (186 – 8,71%)</a:t>
            </a:r>
            <a:endParaRPr b="0" lang="en-US" sz="3200" spc="-1" strike="noStrike">
              <a:solidFill>
                <a:srgbClr val="535353"/>
              </a:solidFill>
              <a:latin typeface="Gill Sans Light"/>
            </a:endParaRPr>
          </a:p>
          <a:p>
            <a:pPr marL="494280" indent="-494280">
              <a:lnSpc>
                <a:spcPct val="100000"/>
              </a:lnSpc>
              <a:spcBef>
                <a:spcPts val="4601"/>
              </a:spcBef>
              <a:buClr>
                <a:srgbClr val="535353"/>
              </a:buClr>
              <a:buSzPct val="82000"/>
              <a:buFont typeface="Gill Sans Light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i="1" lang="ru-RU" sz="3200" spc="-1" strike="noStrike">
                <a:solidFill>
                  <a:srgbClr val="535353"/>
                </a:solidFill>
                <a:latin typeface="Gill Sans Light"/>
              </a:rPr>
              <a:t>Ленин В. И. (117 – 5,48%)</a:t>
            </a:r>
            <a:endParaRPr b="0" lang="en-US" sz="3200" spc="-1" strike="noStrike">
              <a:solidFill>
                <a:srgbClr val="535353"/>
              </a:solidFill>
              <a:latin typeface="Gill Sans Light"/>
            </a:endParaRPr>
          </a:p>
          <a:p>
            <a:pPr marL="494280" indent="-494280">
              <a:lnSpc>
                <a:spcPct val="100000"/>
              </a:lnSpc>
              <a:spcBef>
                <a:spcPts val="4601"/>
              </a:spcBef>
              <a:buClr>
                <a:srgbClr val="535353"/>
              </a:buClr>
              <a:buSzPct val="82000"/>
              <a:buFont typeface="Gill Sans Light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ru-RU" sz="3200" spc="-1" strike="noStrike">
                <a:solidFill>
                  <a:srgbClr val="535353"/>
                </a:solidFill>
                <a:latin typeface="Gill Sans Light"/>
              </a:rPr>
              <a:t>Рокоссовский К. К. (97 – 4,54%)</a:t>
            </a:r>
            <a:endParaRPr b="0" lang="en-US" sz="3200" spc="-1" strike="noStrike">
              <a:solidFill>
                <a:srgbClr val="535353"/>
              </a:solidFill>
              <a:latin typeface="Gill Sans Light"/>
            </a:endParaRPr>
          </a:p>
          <a:p>
            <a:pPr marL="494280" indent="-494280">
              <a:lnSpc>
                <a:spcPct val="100000"/>
              </a:lnSpc>
              <a:spcBef>
                <a:spcPts val="4601"/>
              </a:spcBef>
              <a:buClr>
                <a:srgbClr val="535353"/>
              </a:buClr>
              <a:buSzPct val="82000"/>
              <a:buFont typeface="Gill Sans Light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ru-RU" sz="3200" spc="-1" strike="noStrike">
                <a:solidFill>
                  <a:srgbClr val="535353"/>
                </a:solidFill>
                <a:latin typeface="Gill Sans Light"/>
              </a:rPr>
              <a:t>Конев И. С.53 – (2,48%)</a:t>
            </a:r>
            <a:endParaRPr b="0" lang="en-US" sz="3200" spc="-1" strike="noStrike">
              <a:solidFill>
                <a:srgbClr val="535353"/>
              </a:solidFill>
              <a:latin typeface="Gill Sans Light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430200" y="1519200"/>
          <a:ext cx="12144240" cy="7858080"/>
        </p:xfrm>
        <a:graphic>
          <a:graphicData uri="http://schemas.openxmlformats.org/drawingml/2006/table">
            <a:tbl>
              <a:tblPr/>
              <a:tblGrid>
                <a:gridCol w="1174680"/>
                <a:gridCol w="8729640"/>
                <a:gridCol w="2239920"/>
              </a:tblGrid>
              <a:tr h="561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84280"/>
                          <a:tab algn="l" pos="1168560"/>
                          <a:tab algn="l" pos="1752480"/>
                          <a:tab algn="l" pos="2336760"/>
                          <a:tab algn="l" pos="2921040"/>
                          <a:tab algn="l" pos="3505320"/>
                          <a:tab algn="l" pos="4089240"/>
                          <a:tab algn="l" pos="4673520"/>
                          <a:tab algn="l" pos="5257800"/>
                          <a:tab algn="l" pos="5842080"/>
                          <a:tab algn="l" pos="6426360"/>
                          <a:tab algn="l" pos="7010280"/>
                          <a:tab algn="l" pos="7594560"/>
                          <a:tab algn="l" pos="8178840"/>
                          <a:tab algn="l" pos="8763120"/>
                          <a:tab algn="l" pos="9347040"/>
                          <a:tab algn="l" pos="9931320"/>
                          <a:tab algn="l" pos="10515600"/>
                        </a:tabLst>
                      </a:pPr>
                      <a:endParaRPr b="0" lang="en-US" sz="3600" spc="-1" strike="noStrike">
                        <a:solidFill>
                          <a:srgbClr val="535353"/>
                        </a:solidFill>
                        <a:latin typeface="Gill Sans Light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84280"/>
                          <a:tab algn="l" pos="1168560"/>
                          <a:tab algn="l" pos="1752480"/>
                          <a:tab algn="l" pos="2336760"/>
                          <a:tab algn="l" pos="2921040"/>
                          <a:tab algn="l" pos="3505320"/>
                          <a:tab algn="l" pos="4089240"/>
                          <a:tab algn="l" pos="4673520"/>
                          <a:tab algn="l" pos="5257800"/>
                          <a:tab algn="l" pos="5842080"/>
                          <a:tab algn="l" pos="6426360"/>
                          <a:tab algn="l" pos="7010280"/>
                          <a:tab algn="l" pos="7594560"/>
                          <a:tab algn="l" pos="8178840"/>
                          <a:tab algn="l" pos="8763120"/>
                          <a:tab algn="l" pos="9347040"/>
                          <a:tab algn="l" pos="9931320"/>
                          <a:tab algn="l" pos="10515600"/>
                        </a:tabLst>
                      </a:pPr>
                      <a:r>
                        <a:rPr b="0" i="1" lang="ru-RU" sz="3200" spc="-1" strike="noStrike">
                          <a:solidFill>
                            <a:srgbClr val="535353"/>
                          </a:solidFill>
                          <a:latin typeface="Times New Roman"/>
                        </a:rPr>
                        <a:t>Варианты ответа</a:t>
                      </a:r>
                      <a:endParaRPr b="0" lang="en-US" sz="3200" spc="-1" strike="noStrike">
                        <a:solidFill>
                          <a:srgbClr val="535353"/>
                        </a:solidFill>
                        <a:latin typeface="Gill Sans Light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84280"/>
                          <a:tab algn="l" pos="1168560"/>
                          <a:tab algn="l" pos="1752480"/>
                          <a:tab algn="l" pos="2336760"/>
                          <a:tab algn="l" pos="2921040"/>
                          <a:tab algn="l" pos="3505320"/>
                          <a:tab algn="l" pos="4089240"/>
                          <a:tab algn="l" pos="4673520"/>
                          <a:tab algn="l" pos="5257800"/>
                          <a:tab algn="l" pos="5842080"/>
                          <a:tab algn="l" pos="6426360"/>
                          <a:tab algn="l" pos="7010280"/>
                          <a:tab algn="l" pos="7594560"/>
                          <a:tab algn="l" pos="8178840"/>
                          <a:tab algn="l" pos="8763120"/>
                          <a:tab algn="l" pos="9347040"/>
                          <a:tab algn="l" pos="9931320"/>
                          <a:tab algn="l" pos="10515600"/>
                        </a:tabLst>
                      </a:pPr>
                      <a:r>
                        <a:rPr b="0" lang="ru-RU" sz="3200" spc="-1" strike="noStrike">
                          <a:solidFill>
                            <a:srgbClr val="535353"/>
                          </a:solidFill>
                          <a:latin typeface="Times New Roman"/>
                        </a:rPr>
                        <a:t>ранг</a:t>
                      </a:r>
                      <a:endParaRPr b="0" lang="en-US" sz="3200" spc="-1" strike="noStrike">
                        <a:solidFill>
                          <a:srgbClr val="535353"/>
                        </a:solidFill>
                        <a:latin typeface="Gill Sans Light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2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84280"/>
                          <a:tab algn="l" pos="1168560"/>
                          <a:tab algn="l" pos="1752480"/>
                          <a:tab algn="l" pos="2336760"/>
                          <a:tab algn="l" pos="2921040"/>
                          <a:tab algn="l" pos="3505320"/>
                          <a:tab algn="l" pos="4089240"/>
                          <a:tab algn="l" pos="4673520"/>
                          <a:tab algn="l" pos="5257800"/>
                          <a:tab algn="l" pos="5842080"/>
                          <a:tab algn="l" pos="6426360"/>
                          <a:tab algn="l" pos="7010280"/>
                          <a:tab algn="l" pos="7594560"/>
                          <a:tab algn="l" pos="8178840"/>
                          <a:tab algn="l" pos="8763120"/>
                          <a:tab algn="l" pos="9347040"/>
                          <a:tab algn="l" pos="9931320"/>
                          <a:tab algn="l" pos="10515600"/>
                        </a:tabLst>
                      </a:pPr>
                      <a:r>
                        <a:rPr b="0" lang="ru-RU" sz="3200" spc="-1" strike="noStrike">
                          <a:solidFill>
                            <a:srgbClr val="535353"/>
                          </a:solidFill>
                          <a:latin typeface="Times New Roman"/>
                        </a:rPr>
                        <a:t>1.</a:t>
                      </a:r>
                      <a:endParaRPr b="0" lang="en-US" sz="3200" spc="-1" strike="noStrike">
                        <a:solidFill>
                          <a:srgbClr val="535353"/>
                        </a:solidFill>
                        <a:latin typeface="Gill Sans Light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84280"/>
                          <a:tab algn="l" pos="1168560"/>
                          <a:tab algn="l" pos="1752480"/>
                          <a:tab algn="l" pos="2336760"/>
                          <a:tab algn="l" pos="2921040"/>
                          <a:tab algn="l" pos="3505320"/>
                          <a:tab algn="l" pos="4089240"/>
                          <a:tab algn="l" pos="4673520"/>
                          <a:tab algn="l" pos="5257800"/>
                          <a:tab algn="l" pos="5842080"/>
                          <a:tab algn="l" pos="6426360"/>
                          <a:tab algn="l" pos="7010280"/>
                          <a:tab algn="l" pos="7594560"/>
                          <a:tab algn="l" pos="8178840"/>
                          <a:tab algn="l" pos="8763120"/>
                          <a:tab algn="l" pos="9347040"/>
                          <a:tab algn="l" pos="9931320"/>
                          <a:tab algn="l" pos="10515600"/>
                        </a:tabLst>
                      </a:pPr>
                      <a:r>
                        <a:rPr b="0" lang="ru-RU" sz="3200" spc="-1" strike="noStrike">
                          <a:solidFill>
                            <a:srgbClr val="535353"/>
                          </a:solidFill>
                          <a:latin typeface="Times New Roman"/>
                        </a:rPr>
                        <a:t>Уроки истории, учебники и учебные материалы</a:t>
                      </a:r>
                      <a:endParaRPr b="0" lang="en-US" sz="3200" spc="-1" strike="noStrike">
                        <a:solidFill>
                          <a:srgbClr val="535353"/>
                        </a:solidFill>
                        <a:latin typeface="Gill Sans Light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84280"/>
                          <a:tab algn="l" pos="1168560"/>
                          <a:tab algn="l" pos="1752480"/>
                          <a:tab algn="l" pos="2336760"/>
                          <a:tab algn="l" pos="2921040"/>
                          <a:tab algn="l" pos="3505320"/>
                          <a:tab algn="l" pos="4089240"/>
                          <a:tab algn="l" pos="4673520"/>
                          <a:tab algn="l" pos="5257800"/>
                          <a:tab algn="l" pos="5842080"/>
                          <a:tab algn="l" pos="6426360"/>
                          <a:tab algn="l" pos="7010280"/>
                          <a:tab algn="l" pos="7594560"/>
                          <a:tab algn="l" pos="8178840"/>
                          <a:tab algn="l" pos="8763120"/>
                          <a:tab algn="l" pos="9347040"/>
                          <a:tab algn="l" pos="9931320"/>
                          <a:tab algn="l" pos="10515600"/>
                        </a:tabLst>
                      </a:pPr>
                      <a:r>
                        <a:rPr b="0" lang="ru-RU" sz="3200" spc="-1" strike="noStrike">
                          <a:solidFill>
                            <a:srgbClr val="535353"/>
                          </a:solidFill>
                          <a:latin typeface="Times New Roman"/>
                        </a:rPr>
                        <a:t>1</a:t>
                      </a:r>
                      <a:endParaRPr b="0" lang="en-US" sz="3200" spc="-1" strike="noStrike">
                        <a:solidFill>
                          <a:srgbClr val="535353"/>
                        </a:solidFill>
                        <a:latin typeface="Gill Sans Light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0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84280"/>
                          <a:tab algn="l" pos="1168560"/>
                          <a:tab algn="l" pos="1752480"/>
                          <a:tab algn="l" pos="2336760"/>
                          <a:tab algn="l" pos="2921040"/>
                          <a:tab algn="l" pos="3505320"/>
                          <a:tab algn="l" pos="4089240"/>
                          <a:tab algn="l" pos="4673520"/>
                          <a:tab algn="l" pos="5257800"/>
                          <a:tab algn="l" pos="5842080"/>
                          <a:tab algn="l" pos="6426360"/>
                          <a:tab algn="l" pos="7010280"/>
                          <a:tab algn="l" pos="7594560"/>
                          <a:tab algn="l" pos="8178840"/>
                          <a:tab algn="l" pos="8763120"/>
                          <a:tab algn="l" pos="9347040"/>
                          <a:tab algn="l" pos="9931320"/>
                          <a:tab algn="l" pos="10515600"/>
                        </a:tabLst>
                      </a:pPr>
                      <a:r>
                        <a:rPr b="0" lang="ru-RU" sz="3200" spc="-1" strike="noStrike">
                          <a:solidFill>
                            <a:srgbClr val="535353"/>
                          </a:solidFill>
                          <a:latin typeface="Times New Roman"/>
                        </a:rPr>
                        <a:t>2.</a:t>
                      </a:r>
                      <a:endParaRPr b="0" lang="en-US" sz="3200" spc="-1" strike="noStrike">
                        <a:solidFill>
                          <a:srgbClr val="535353"/>
                        </a:solidFill>
                        <a:latin typeface="Gill Sans Light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84280"/>
                          <a:tab algn="l" pos="1168560"/>
                          <a:tab algn="l" pos="1752480"/>
                          <a:tab algn="l" pos="2336760"/>
                          <a:tab algn="l" pos="2921040"/>
                          <a:tab algn="l" pos="3505320"/>
                          <a:tab algn="l" pos="4089240"/>
                          <a:tab algn="l" pos="4673520"/>
                          <a:tab algn="l" pos="5257800"/>
                          <a:tab algn="l" pos="5842080"/>
                          <a:tab algn="l" pos="6426360"/>
                          <a:tab algn="l" pos="7010280"/>
                          <a:tab algn="l" pos="7594560"/>
                          <a:tab algn="l" pos="8178840"/>
                          <a:tab algn="l" pos="8763120"/>
                          <a:tab algn="l" pos="9347040"/>
                          <a:tab algn="l" pos="9931320"/>
                          <a:tab algn="l" pos="10515600"/>
                        </a:tabLst>
                      </a:pPr>
                      <a:r>
                        <a:rPr b="0" lang="ru-RU" sz="3200" spc="-1" strike="noStrike">
                          <a:solidFill>
                            <a:srgbClr val="535353"/>
                          </a:solidFill>
                          <a:latin typeface="Times New Roman"/>
                        </a:rPr>
                        <a:t>Интернет</a:t>
                      </a:r>
                      <a:endParaRPr b="0" lang="en-US" sz="3200" spc="-1" strike="noStrike">
                        <a:solidFill>
                          <a:srgbClr val="535353"/>
                        </a:solidFill>
                        <a:latin typeface="Gill Sans Light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84280"/>
                          <a:tab algn="l" pos="1168560"/>
                          <a:tab algn="l" pos="1752480"/>
                          <a:tab algn="l" pos="2336760"/>
                          <a:tab algn="l" pos="2921040"/>
                          <a:tab algn="l" pos="3505320"/>
                          <a:tab algn="l" pos="4089240"/>
                          <a:tab algn="l" pos="4673520"/>
                          <a:tab algn="l" pos="5257800"/>
                          <a:tab algn="l" pos="5842080"/>
                          <a:tab algn="l" pos="6426360"/>
                          <a:tab algn="l" pos="7010280"/>
                          <a:tab algn="l" pos="7594560"/>
                          <a:tab algn="l" pos="8178840"/>
                          <a:tab algn="l" pos="8763120"/>
                          <a:tab algn="l" pos="9347040"/>
                          <a:tab algn="l" pos="9931320"/>
                          <a:tab algn="l" pos="10515600"/>
                        </a:tabLst>
                      </a:pPr>
                      <a:r>
                        <a:rPr b="0" lang="ru-RU" sz="3200" spc="-1" strike="noStrike">
                          <a:solidFill>
                            <a:srgbClr val="535353"/>
                          </a:solidFill>
                          <a:latin typeface="Times New Roman"/>
                        </a:rPr>
                        <a:t>2</a:t>
                      </a:r>
                      <a:endParaRPr b="0" lang="en-US" sz="3200" spc="-1" strike="noStrike">
                        <a:solidFill>
                          <a:srgbClr val="535353"/>
                        </a:solidFill>
                        <a:latin typeface="Gill Sans Light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2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84280"/>
                          <a:tab algn="l" pos="1168560"/>
                          <a:tab algn="l" pos="1752480"/>
                          <a:tab algn="l" pos="2336760"/>
                          <a:tab algn="l" pos="2921040"/>
                          <a:tab algn="l" pos="3505320"/>
                          <a:tab algn="l" pos="4089240"/>
                          <a:tab algn="l" pos="4673520"/>
                          <a:tab algn="l" pos="5257800"/>
                          <a:tab algn="l" pos="5842080"/>
                          <a:tab algn="l" pos="6426360"/>
                          <a:tab algn="l" pos="7010280"/>
                          <a:tab algn="l" pos="7594560"/>
                          <a:tab algn="l" pos="8178840"/>
                          <a:tab algn="l" pos="8763120"/>
                          <a:tab algn="l" pos="9347040"/>
                          <a:tab algn="l" pos="9931320"/>
                          <a:tab algn="l" pos="10515600"/>
                        </a:tabLst>
                      </a:pPr>
                      <a:r>
                        <a:rPr b="0" lang="ru-RU" sz="3200" spc="-1" strike="noStrike">
                          <a:solidFill>
                            <a:srgbClr val="535353"/>
                          </a:solidFill>
                          <a:latin typeface="Times New Roman"/>
                        </a:rPr>
                        <a:t>3.</a:t>
                      </a:r>
                      <a:endParaRPr b="0" lang="en-US" sz="3200" spc="-1" strike="noStrike">
                        <a:solidFill>
                          <a:srgbClr val="535353"/>
                        </a:solidFill>
                        <a:latin typeface="Gill Sans Light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84280"/>
                          <a:tab algn="l" pos="1168560"/>
                          <a:tab algn="l" pos="1752480"/>
                          <a:tab algn="l" pos="2336760"/>
                          <a:tab algn="l" pos="2921040"/>
                          <a:tab algn="l" pos="3505320"/>
                          <a:tab algn="l" pos="4089240"/>
                          <a:tab algn="l" pos="4673520"/>
                          <a:tab algn="l" pos="5257800"/>
                          <a:tab algn="l" pos="5842080"/>
                          <a:tab algn="l" pos="6426360"/>
                          <a:tab algn="l" pos="7010280"/>
                          <a:tab algn="l" pos="7594560"/>
                          <a:tab algn="l" pos="8178840"/>
                          <a:tab algn="l" pos="8763120"/>
                          <a:tab algn="l" pos="9347040"/>
                          <a:tab algn="l" pos="9931320"/>
                          <a:tab algn="l" pos="10515600"/>
                        </a:tabLst>
                      </a:pPr>
                      <a:r>
                        <a:rPr b="0" lang="ru-RU" sz="3200" spc="-1" strike="noStrike">
                          <a:solidFill>
                            <a:srgbClr val="535353"/>
                          </a:solidFill>
                          <a:latin typeface="Times New Roman"/>
                        </a:rPr>
                        <a:t>Средства массовой информации (телевидение, радио, газеты)</a:t>
                      </a:r>
                      <a:endParaRPr b="0" lang="en-US" sz="3200" spc="-1" strike="noStrike">
                        <a:solidFill>
                          <a:srgbClr val="535353"/>
                        </a:solidFill>
                        <a:latin typeface="Gill Sans Light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84280"/>
                          <a:tab algn="l" pos="1168560"/>
                          <a:tab algn="l" pos="1752480"/>
                          <a:tab algn="l" pos="2336760"/>
                          <a:tab algn="l" pos="2921040"/>
                          <a:tab algn="l" pos="3505320"/>
                          <a:tab algn="l" pos="4089240"/>
                          <a:tab algn="l" pos="4673520"/>
                          <a:tab algn="l" pos="5257800"/>
                          <a:tab algn="l" pos="5842080"/>
                          <a:tab algn="l" pos="6426360"/>
                          <a:tab algn="l" pos="7010280"/>
                          <a:tab algn="l" pos="7594560"/>
                          <a:tab algn="l" pos="8178840"/>
                          <a:tab algn="l" pos="8763120"/>
                          <a:tab algn="l" pos="9347040"/>
                          <a:tab algn="l" pos="9931320"/>
                          <a:tab algn="l" pos="10515600"/>
                        </a:tabLst>
                      </a:pPr>
                      <a:r>
                        <a:rPr b="0" lang="ru-RU" sz="3200" spc="-1" strike="noStrike">
                          <a:solidFill>
                            <a:srgbClr val="535353"/>
                          </a:solidFill>
                          <a:latin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535353"/>
                        </a:solidFill>
                        <a:latin typeface="Gill Sans Light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84280"/>
                          <a:tab algn="l" pos="1168560"/>
                          <a:tab algn="l" pos="1752480"/>
                          <a:tab algn="l" pos="2336760"/>
                          <a:tab algn="l" pos="2921040"/>
                          <a:tab algn="l" pos="3505320"/>
                          <a:tab algn="l" pos="4089240"/>
                          <a:tab algn="l" pos="4673520"/>
                          <a:tab algn="l" pos="5257800"/>
                          <a:tab algn="l" pos="5842080"/>
                          <a:tab algn="l" pos="6426360"/>
                          <a:tab algn="l" pos="7010280"/>
                          <a:tab algn="l" pos="7594560"/>
                          <a:tab algn="l" pos="8178840"/>
                          <a:tab algn="l" pos="8763120"/>
                          <a:tab algn="l" pos="9347040"/>
                          <a:tab algn="l" pos="9931320"/>
                          <a:tab algn="l" pos="10515600"/>
                        </a:tabLst>
                      </a:pPr>
                      <a:r>
                        <a:rPr b="0" lang="ru-RU" sz="3200" spc="-1" strike="noStrike">
                          <a:solidFill>
                            <a:srgbClr val="535353"/>
                          </a:solidFill>
                          <a:latin typeface="Times New Roman"/>
                        </a:rPr>
                        <a:t>4.</a:t>
                      </a:r>
                      <a:endParaRPr b="0" lang="en-US" sz="3200" spc="-1" strike="noStrike">
                        <a:solidFill>
                          <a:srgbClr val="535353"/>
                        </a:solidFill>
                        <a:latin typeface="Gill Sans Light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84280"/>
                          <a:tab algn="l" pos="1168560"/>
                          <a:tab algn="l" pos="1752480"/>
                          <a:tab algn="l" pos="2336760"/>
                          <a:tab algn="l" pos="2921040"/>
                          <a:tab algn="l" pos="3505320"/>
                          <a:tab algn="l" pos="4089240"/>
                          <a:tab algn="l" pos="4673520"/>
                          <a:tab algn="l" pos="5257800"/>
                          <a:tab algn="l" pos="5842080"/>
                          <a:tab algn="l" pos="6426360"/>
                          <a:tab algn="l" pos="7010280"/>
                          <a:tab algn="l" pos="7594560"/>
                          <a:tab algn="l" pos="8178840"/>
                          <a:tab algn="l" pos="8763120"/>
                          <a:tab algn="l" pos="9347040"/>
                          <a:tab algn="l" pos="9931320"/>
                          <a:tab algn="l" pos="10515600"/>
                        </a:tabLst>
                      </a:pPr>
                      <a:r>
                        <a:rPr b="0" lang="ru-RU" sz="3200" spc="-1" strike="noStrike">
                          <a:solidFill>
                            <a:srgbClr val="535353"/>
                          </a:solidFill>
                          <a:latin typeface="Times New Roman"/>
                        </a:rPr>
                        <a:t>Рассказы родителей, знакомых, друзей</a:t>
                      </a:r>
                      <a:endParaRPr b="0" lang="en-US" sz="3200" spc="-1" strike="noStrike">
                        <a:solidFill>
                          <a:srgbClr val="535353"/>
                        </a:solidFill>
                        <a:latin typeface="Gill Sans Light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84280"/>
                          <a:tab algn="l" pos="1168560"/>
                          <a:tab algn="l" pos="1752480"/>
                          <a:tab algn="l" pos="2336760"/>
                          <a:tab algn="l" pos="2921040"/>
                          <a:tab algn="l" pos="3505320"/>
                          <a:tab algn="l" pos="4089240"/>
                          <a:tab algn="l" pos="4673520"/>
                          <a:tab algn="l" pos="5257800"/>
                          <a:tab algn="l" pos="5842080"/>
                          <a:tab algn="l" pos="6426360"/>
                          <a:tab algn="l" pos="7010280"/>
                          <a:tab algn="l" pos="7594560"/>
                          <a:tab algn="l" pos="8178840"/>
                          <a:tab algn="l" pos="8763120"/>
                          <a:tab algn="l" pos="9347040"/>
                          <a:tab algn="l" pos="9931320"/>
                          <a:tab algn="l" pos="10515600"/>
                        </a:tabLst>
                      </a:pPr>
                      <a:r>
                        <a:rPr b="0" lang="ru-RU" sz="3200" spc="-1" strike="noStrike">
                          <a:solidFill>
                            <a:srgbClr val="535353"/>
                          </a:solidFill>
                          <a:latin typeface="Times New Roman"/>
                        </a:rPr>
                        <a:t>4</a:t>
                      </a:r>
                      <a:endParaRPr b="0" lang="en-US" sz="3200" spc="-1" strike="noStrike">
                        <a:solidFill>
                          <a:srgbClr val="535353"/>
                        </a:solidFill>
                        <a:latin typeface="Gill Sans Light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84280"/>
                          <a:tab algn="l" pos="1168560"/>
                          <a:tab algn="l" pos="1752480"/>
                          <a:tab algn="l" pos="2336760"/>
                          <a:tab algn="l" pos="2921040"/>
                          <a:tab algn="l" pos="3505320"/>
                          <a:tab algn="l" pos="4089240"/>
                          <a:tab algn="l" pos="4673520"/>
                          <a:tab algn="l" pos="5257800"/>
                          <a:tab algn="l" pos="5842080"/>
                          <a:tab algn="l" pos="6426360"/>
                          <a:tab algn="l" pos="7010280"/>
                          <a:tab algn="l" pos="7594560"/>
                          <a:tab algn="l" pos="8178840"/>
                          <a:tab algn="l" pos="8763120"/>
                          <a:tab algn="l" pos="9347040"/>
                          <a:tab algn="l" pos="9931320"/>
                          <a:tab algn="l" pos="10515600"/>
                        </a:tabLst>
                      </a:pPr>
                      <a:r>
                        <a:rPr b="0" lang="ru-RU" sz="3200" spc="-1" strike="noStrike">
                          <a:solidFill>
                            <a:srgbClr val="535353"/>
                          </a:solidFill>
                          <a:latin typeface="Times New Roman"/>
                        </a:rPr>
                        <a:t>5.</a:t>
                      </a:r>
                      <a:endParaRPr b="0" lang="en-US" sz="3200" spc="-1" strike="noStrike">
                        <a:solidFill>
                          <a:srgbClr val="535353"/>
                        </a:solidFill>
                        <a:latin typeface="Gill Sans Light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84280"/>
                          <a:tab algn="l" pos="1168560"/>
                          <a:tab algn="l" pos="1752480"/>
                          <a:tab algn="l" pos="2336760"/>
                          <a:tab algn="l" pos="2921040"/>
                          <a:tab algn="l" pos="3505320"/>
                          <a:tab algn="l" pos="4089240"/>
                          <a:tab algn="l" pos="4673520"/>
                          <a:tab algn="l" pos="5257800"/>
                          <a:tab algn="l" pos="5842080"/>
                          <a:tab algn="l" pos="6426360"/>
                          <a:tab algn="l" pos="7010280"/>
                          <a:tab algn="l" pos="7594560"/>
                          <a:tab algn="l" pos="8178840"/>
                          <a:tab algn="l" pos="8763120"/>
                          <a:tab algn="l" pos="9347040"/>
                          <a:tab algn="l" pos="9931320"/>
                          <a:tab algn="l" pos="10515600"/>
                        </a:tabLst>
                      </a:pPr>
                      <a:r>
                        <a:rPr b="0" lang="ru-RU" sz="3200" spc="-1" strike="noStrike">
                          <a:solidFill>
                            <a:srgbClr val="535353"/>
                          </a:solidFill>
                          <a:latin typeface="Times New Roman"/>
                        </a:rPr>
                        <a:t>Кинофильмы, театральные постановки</a:t>
                      </a:r>
                      <a:endParaRPr b="0" lang="en-US" sz="3200" spc="-1" strike="noStrike">
                        <a:solidFill>
                          <a:srgbClr val="535353"/>
                        </a:solidFill>
                        <a:latin typeface="Gill Sans Light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84280"/>
                          <a:tab algn="l" pos="1168560"/>
                          <a:tab algn="l" pos="1752480"/>
                          <a:tab algn="l" pos="2336760"/>
                          <a:tab algn="l" pos="2921040"/>
                          <a:tab algn="l" pos="3505320"/>
                          <a:tab algn="l" pos="4089240"/>
                          <a:tab algn="l" pos="4673520"/>
                          <a:tab algn="l" pos="5257800"/>
                          <a:tab algn="l" pos="5842080"/>
                          <a:tab algn="l" pos="6426360"/>
                          <a:tab algn="l" pos="7010280"/>
                          <a:tab algn="l" pos="7594560"/>
                          <a:tab algn="l" pos="8178840"/>
                          <a:tab algn="l" pos="8763120"/>
                          <a:tab algn="l" pos="9347040"/>
                          <a:tab algn="l" pos="9931320"/>
                          <a:tab algn="l" pos="10515600"/>
                        </a:tabLst>
                      </a:pPr>
                      <a:r>
                        <a:rPr b="0" lang="ru-RU" sz="3200" spc="-1" strike="noStrike">
                          <a:solidFill>
                            <a:srgbClr val="535353"/>
                          </a:solidFill>
                          <a:latin typeface="Times New Roman"/>
                        </a:rPr>
                        <a:t>5</a:t>
                      </a:r>
                      <a:endParaRPr b="0" lang="en-US" sz="3200" spc="-1" strike="noStrike">
                        <a:solidFill>
                          <a:srgbClr val="535353"/>
                        </a:solidFill>
                        <a:latin typeface="Gill Sans Light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0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84280"/>
                          <a:tab algn="l" pos="1168560"/>
                          <a:tab algn="l" pos="1752480"/>
                          <a:tab algn="l" pos="2336760"/>
                          <a:tab algn="l" pos="2921040"/>
                          <a:tab algn="l" pos="3505320"/>
                          <a:tab algn="l" pos="4089240"/>
                          <a:tab algn="l" pos="4673520"/>
                          <a:tab algn="l" pos="5257800"/>
                          <a:tab algn="l" pos="5842080"/>
                          <a:tab algn="l" pos="6426360"/>
                          <a:tab algn="l" pos="7010280"/>
                          <a:tab algn="l" pos="7594560"/>
                          <a:tab algn="l" pos="8178840"/>
                          <a:tab algn="l" pos="8763120"/>
                          <a:tab algn="l" pos="9347040"/>
                          <a:tab algn="l" pos="9931320"/>
                          <a:tab algn="l" pos="10515600"/>
                        </a:tabLst>
                      </a:pPr>
                      <a:r>
                        <a:rPr b="0" lang="ru-RU" sz="3200" spc="-1" strike="noStrike">
                          <a:solidFill>
                            <a:srgbClr val="535353"/>
                          </a:solidFill>
                          <a:latin typeface="Times New Roman"/>
                        </a:rPr>
                        <a:t>6.</a:t>
                      </a:r>
                      <a:endParaRPr b="0" lang="en-US" sz="3200" spc="-1" strike="noStrike">
                        <a:solidFill>
                          <a:srgbClr val="535353"/>
                        </a:solidFill>
                        <a:latin typeface="Gill Sans Light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84280"/>
                          <a:tab algn="l" pos="1168560"/>
                          <a:tab algn="l" pos="1752480"/>
                          <a:tab algn="l" pos="2336760"/>
                          <a:tab algn="l" pos="2921040"/>
                          <a:tab algn="l" pos="3505320"/>
                          <a:tab algn="l" pos="4089240"/>
                          <a:tab algn="l" pos="4673520"/>
                          <a:tab algn="l" pos="5257800"/>
                          <a:tab algn="l" pos="5842080"/>
                          <a:tab algn="l" pos="6426360"/>
                          <a:tab algn="l" pos="7010280"/>
                          <a:tab algn="l" pos="7594560"/>
                          <a:tab algn="l" pos="8178840"/>
                          <a:tab algn="l" pos="8763120"/>
                          <a:tab algn="l" pos="9347040"/>
                          <a:tab algn="l" pos="9931320"/>
                          <a:tab algn="l" pos="10515600"/>
                        </a:tabLst>
                      </a:pPr>
                      <a:r>
                        <a:rPr b="0" lang="ru-RU" sz="3200" spc="-1" strike="noStrike">
                          <a:solidFill>
                            <a:srgbClr val="535353"/>
                          </a:solidFill>
                          <a:latin typeface="Times New Roman"/>
                        </a:rPr>
                        <a:t>Художественная литература о войне</a:t>
                      </a:r>
                      <a:endParaRPr b="0" lang="en-US" sz="3200" spc="-1" strike="noStrike">
                        <a:solidFill>
                          <a:srgbClr val="535353"/>
                        </a:solidFill>
                        <a:latin typeface="Gill Sans Light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84280"/>
                          <a:tab algn="l" pos="1168560"/>
                          <a:tab algn="l" pos="1752480"/>
                          <a:tab algn="l" pos="2336760"/>
                          <a:tab algn="l" pos="2921040"/>
                          <a:tab algn="l" pos="3505320"/>
                          <a:tab algn="l" pos="4089240"/>
                          <a:tab algn="l" pos="4673520"/>
                          <a:tab algn="l" pos="5257800"/>
                          <a:tab algn="l" pos="5842080"/>
                          <a:tab algn="l" pos="6426360"/>
                          <a:tab algn="l" pos="7010280"/>
                          <a:tab algn="l" pos="7594560"/>
                          <a:tab algn="l" pos="8178840"/>
                          <a:tab algn="l" pos="8763120"/>
                          <a:tab algn="l" pos="9347040"/>
                          <a:tab algn="l" pos="9931320"/>
                          <a:tab algn="l" pos="10515600"/>
                        </a:tabLst>
                      </a:pPr>
                      <a:r>
                        <a:rPr b="0" lang="ru-RU" sz="3200" spc="-1" strike="noStrike">
                          <a:solidFill>
                            <a:srgbClr val="535353"/>
                          </a:solidFill>
                          <a:latin typeface="Times New Roman"/>
                        </a:rPr>
                        <a:t>5</a:t>
                      </a:r>
                      <a:endParaRPr b="0" lang="en-US" sz="3200" spc="-1" strike="noStrike">
                        <a:solidFill>
                          <a:srgbClr val="535353"/>
                        </a:solidFill>
                        <a:latin typeface="Gill Sans Light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2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84280"/>
                          <a:tab algn="l" pos="1168560"/>
                          <a:tab algn="l" pos="1752480"/>
                          <a:tab algn="l" pos="2336760"/>
                          <a:tab algn="l" pos="2921040"/>
                          <a:tab algn="l" pos="3505320"/>
                          <a:tab algn="l" pos="4089240"/>
                          <a:tab algn="l" pos="4673520"/>
                          <a:tab algn="l" pos="5257800"/>
                          <a:tab algn="l" pos="5842080"/>
                          <a:tab algn="l" pos="6426360"/>
                          <a:tab algn="l" pos="7010280"/>
                          <a:tab algn="l" pos="7594560"/>
                          <a:tab algn="l" pos="8178840"/>
                          <a:tab algn="l" pos="8763120"/>
                          <a:tab algn="l" pos="9347040"/>
                          <a:tab algn="l" pos="9931320"/>
                          <a:tab algn="l" pos="10515600"/>
                        </a:tabLst>
                      </a:pPr>
                      <a:r>
                        <a:rPr b="0" lang="ru-RU" sz="3200" spc="-1" strike="noStrike">
                          <a:solidFill>
                            <a:srgbClr val="535353"/>
                          </a:solidFill>
                          <a:latin typeface="Times New Roman"/>
                        </a:rPr>
                        <a:t>7.</a:t>
                      </a:r>
                      <a:endParaRPr b="0" lang="en-US" sz="3200" spc="-1" strike="noStrike">
                        <a:solidFill>
                          <a:srgbClr val="535353"/>
                        </a:solidFill>
                        <a:latin typeface="Gill Sans Light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84280"/>
                          <a:tab algn="l" pos="1168560"/>
                          <a:tab algn="l" pos="1752480"/>
                          <a:tab algn="l" pos="2336760"/>
                          <a:tab algn="l" pos="2921040"/>
                          <a:tab algn="l" pos="3505320"/>
                          <a:tab algn="l" pos="4089240"/>
                          <a:tab algn="l" pos="4673520"/>
                          <a:tab algn="l" pos="5257800"/>
                          <a:tab algn="l" pos="5842080"/>
                          <a:tab algn="l" pos="6426360"/>
                          <a:tab algn="l" pos="7010280"/>
                          <a:tab algn="l" pos="7594560"/>
                          <a:tab algn="l" pos="8178840"/>
                          <a:tab algn="l" pos="8763120"/>
                          <a:tab algn="l" pos="9347040"/>
                          <a:tab algn="l" pos="9931320"/>
                          <a:tab algn="l" pos="10515600"/>
                        </a:tabLst>
                      </a:pPr>
                      <a:r>
                        <a:rPr b="0" lang="ru-RU" sz="3200" spc="-1" strike="noStrike">
                          <a:solidFill>
                            <a:srgbClr val="535353"/>
                          </a:solidFill>
                          <a:latin typeface="Times New Roman"/>
                        </a:rPr>
                        <a:t>Посещения музеев, воинских мемориалов</a:t>
                      </a:r>
                      <a:endParaRPr b="0" lang="en-US" sz="3200" spc="-1" strike="noStrike">
                        <a:solidFill>
                          <a:srgbClr val="535353"/>
                        </a:solidFill>
                        <a:latin typeface="Gill Sans Light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84280"/>
                          <a:tab algn="l" pos="1168560"/>
                          <a:tab algn="l" pos="1752480"/>
                          <a:tab algn="l" pos="2336760"/>
                          <a:tab algn="l" pos="2921040"/>
                          <a:tab algn="l" pos="3505320"/>
                          <a:tab algn="l" pos="4089240"/>
                          <a:tab algn="l" pos="4673520"/>
                          <a:tab algn="l" pos="5257800"/>
                          <a:tab algn="l" pos="5842080"/>
                          <a:tab algn="l" pos="6426360"/>
                          <a:tab algn="l" pos="7010280"/>
                          <a:tab algn="l" pos="7594560"/>
                          <a:tab algn="l" pos="8178840"/>
                          <a:tab algn="l" pos="8763120"/>
                          <a:tab algn="l" pos="9347040"/>
                          <a:tab algn="l" pos="9931320"/>
                          <a:tab algn="l" pos="10515600"/>
                        </a:tabLst>
                      </a:pPr>
                      <a:r>
                        <a:rPr b="0" lang="ru-RU" sz="3200" spc="-1" strike="noStrike">
                          <a:solidFill>
                            <a:srgbClr val="535353"/>
                          </a:solidFill>
                          <a:latin typeface="Times New Roman"/>
                        </a:rPr>
                        <a:t>7</a:t>
                      </a:r>
                      <a:endParaRPr b="0" lang="en-US" sz="3200" spc="-1" strike="noStrike">
                        <a:solidFill>
                          <a:srgbClr val="535353"/>
                        </a:solidFill>
                        <a:latin typeface="Gill Sans Light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84280"/>
                          <a:tab algn="l" pos="1168560"/>
                          <a:tab algn="l" pos="1752480"/>
                          <a:tab algn="l" pos="2336760"/>
                          <a:tab algn="l" pos="2921040"/>
                          <a:tab algn="l" pos="3505320"/>
                          <a:tab algn="l" pos="4089240"/>
                          <a:tab algn="l" pos="4673520"/>
                          <a:tab algn="l" pos="5257800"/>
                          <a:tab algn="l" pos="5842080"/>
                          <a:tab algn="l" pos="6426360"/>
                          <a:tab algn="l" pos="7010280"/>
                          <a:tab algn="l" pos="7594560"/>
                          <a:tab algn="l" pos="8178840"/>
                          <a:tab algn="l" pos="8763120"/>
                          <a:tab algn="l" pos="9347040"/>
                          <a:tab algn="l" pos="9931320"/>
                          <a:tab algn="l" pos="10515600"/>
                        </a:tabLst>
                      </a:pPr>
                      <a:r>
                        <a:rPr b="0" lang="ru-RU" sz="3200" spc="-1" strike="noStrike">
                          <a:solidFill>
                            <a:srgbClr val="535353"/>
                          </a:solidFill>
                          <a:latin typeface="Times New Roman"/>
                        </a:rPr>
                        <a:t>8.</a:t>
                      </a:r>
                      <a:endParaRPr b="0" lang="en-US" sz="3200" spc="-1" strike="noStrike">
                        <a:solidFill>
                          <a:srgbClr val="535353"/>
                        </a:solidFill>
                        <a:latin typeface="Gill Sans Light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84280"/>
                          <a:tab algn="l" pos="1168560"/>
                          <a:tab algn="l" pos="1752480"/>
                          <a:tab algn="l" pos="2336760"/>
                          <a:tab algn="l" pos="2921040"/>
                          <a:tab algn="l" pos="3505320"/>
                          <a:tab algn="l" pos="4089240"/>
                          <a:tab algn="l" pos="4673520"/>
                          <a:tab algn="l" pos="5257800"/>
                          <a:tab algn="l" pos="5842080"/>
                          <a:tab algn="l" pos="6426360"/>
                          <a:tab algn="l" pos="7010280"/>
                          <a:tab algn="l" pos="7594560"/>
                          <a:tab algn="l" pos="8178840"/>
                          <a:tab algn="l" pos="8763120"/>
                          <a:tab algn="l" pos="9347040"/>
                          <a:tab algn="l" pos="9931320"/>
                          <a:tab algn="l" pos="10515600"/>
                        </a:tabLst>
                      </a:pPr>
                      <a:r>
                        <a:rPr b="0" lang="ru-RU" sz="3200" spc="-1" strike="noStrike">
                          <a:solidFill>
                            <a:srgbClr val="535353"/>
                          </a:solidFill>
                          <a:latin typeface="Times New Roman"/>
                        </a:rPr>
                        <a:t>Походы по местам боевой славы</a:t>
                      </a:r>
                      <a:endParaRPr b="0" lang="en-US" sz="3200" spc="-1" strike="noStrike">
                        <a:solidFill>
                          <a:srgbClr val="535353"/>
                        </a:solidFill>
                        <a:latin typeface="Gill Sans Light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84280"/>
                          <a:tab algn="l" pos="1168560"/>
                          <a:tab algn="l" pos="1752480"/>
                          <a:tab algn="l" pos="2336760"/>
                          <a:tab algn="l" pos="2921040"/>
                          <a:tab algn="l" pos="3505320"/>
                          <a:tab algn="l" pos="4089240"/>
                          <a:tab algn="l" pos="4673520"/>
                          <a:tab algn="l" pos="5257800"/>
                          <a:tab algn="l" pos="5842080"/>
                          <a:tab algn="l" pos="6426360"/>
                          <a:tab algn="l" pos="7010280"/>
                          <a:tab algn="l" pos="7594560"/>
                          <a:tab algn="l" pos="8178840"/>
                          <a:tab algn="l" pos="8763120"/>
                          <a:tab algn="l" pos="9347040"/>
                          <a:tab algn="l" pos="9931320"/>
                          <a:tab algn="l" pos="10515600"/>
                        </a:tabLst>
                      </a:pPr>
                      <a:r>
                        <a:rPr b="0" lang="ru-RU" sz="3200" spc="-1" strike="noStrike">
                          <a:solidFill>
                            <a:srgbClr val="535353"/>
                          </a:solidFill>
                          <a:latin typeface="Times New Roman"/>
                        </a:rPr>
                        <a:t>8</a:t>
                      </a:r>
                      <a:endParaRPr b="0" lang="en-US" sz="3200" spc="-1" strike="noStrike">
                        <a:solidFill>
                          <a:srgbClr val="535353"/>
                        </a:solidFill>
                        <a:latin typeface="Gill Sans Light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0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84280"/>
                          <a:tab algn="l" pos="1168560"/>
                          <a:tab algn="l" pos="1752480"/>
                          <a:tab algn="l" pos="2336760"/>
                          <a:tab algn="l" pos="2921040"/>
                          <a:tab algn="l" pos="3505320"/>
                          <a:tab algn="l" pos="4089240"/>
                          <a:tab algn="l" pos="4673520"/>
                          <a:tab algn="l" pos="5257800"/>
                          <a:tab algn="l" pos="5842080"/>
                          <a:tab algn="l" pos="6426360"/>
                          <a:tab algn="l" pos="7010280"/>
                          <a:tab algn="l" pos="7594560"/>
                          <a:tab algn="l" pos="8178840"/>
                          <a:tab algn="l" pos="8763120"/>
                          <a:tab algn="l" pos="9347040"/>
                          <a:tab algn="l" pos="9931320"/>
                          <a:tab algn="l" pos="10515600"/>
                        </a:tabLst>
                      </a:pPr>
                      <a:r>
                        <a:rPr b="0" lang="ru-RU" sz="3200" spc="-1" strike="noStrike">
                          <a:solidFill>
                            <a:srgbClr val="535353"/>
                          </a:solidFill>
                          <a:latin typeface="Times New Roman"/>
                        </a:rPr>
                        <a:t>9.</a:t>
                      </a:r>
                      <a:endParaRPr b="0" lang="en-US" sz="3200" spc="-1" strike="noStrike">
                        <a:solidFill>
                          <a:srgbClr val="535353"/>
                        </a:solidFill>
                        <a:latin typeface="Gill Sans Light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84280"/>
                          <a:tab algn="l" pos="1168560"/>
                          <a:tab algn="l" pos="1752480"/>
                          <a:tab algn="l" pos="2336760"/>
                          <a:tab algn="l" pos="2921040"/>
                          <a:tab algn="l" pos="3505320"/>
                          <a:tab algn="l" pos="4089240"/>
                          <a:tab algn="l" pos="4673520"/>
                          <a:tab algn="l" pos="5257800"/>
                          <a:tab algn="l" pos="5842080"/>
                          <a:tab algn="l" pos="6426360"/>
                          <a:tab algn="l" pos="7010280"/>
                          <a:tab algn="l" pos="7594560"/>
                          <a:tab algn="l" pos="8178840"/>
                          <a:tab algn="l" pos="8763120"/>
                          <a:tab algn="l" pos="9347040"/>
                          <a:tab algn="l" pos="9931320"/>
                          <a:tab algn="l" pos="10515600"/>
                        </a:tabLst>
                      </a:pPr>
                      <a:r>
                        <a:rPr b="0" lang="ru-RU" sz="3200" spc="-1" strike="noStrike">
                          <a:solidFill>
                            <a:srgbClr val="535353"/>
                          </a:solidFill>
                          <a:latin typeface="Times New Roman"/>
                        </a:rPr>
                        <a:t>Встречи с ветеранами</a:t>
                      </a:r>
                      <a:endParaRPr b="0" lang="en-US" sz="3200" spc="-1" strike="noStrike">
                        <a:solidFill>
                          <a:srgbClr val="535353"/>
                        </a:solidFill>
                        <a:latin typeface="Gill Sans Light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84280"/>
                          <a:tab algn="l" pos="1168560"/>
                          <a:tab algn="l" pos="1752480"/>
                          <a:tab algn="l" pos="2336760"/>
                          <a:tab algn="l" pos="2921040"/>
                          <a:tab algn="l" pos="3505320"/>
                          <a:tab algn="l" pos="4089240"/>
                          <a:tab algn="l" pos="4673520"/>
                          <a:tab algn="l" pos="5257800"/>
                          <a:tab algn="l" pos="5842080"/>
                          <a:tab algn="l" pos="6426360"/>
                          <a:tab algn="l" pos="7010280"/>
                          <a:tab algn="l" pos="7594560"/>
                          <a:tab algn="l" pos="8178840"/>
                          <a:tab algn="l" pos="8763120"/>
                          <a:tab algn="l" pos="9347040"/>
                          <a:tab algn="l" pos="9931320"/>
                          <a:tab algn="l" pos="10515600"/>
                        </a:tabLst>
                      </a:pPr>
                      <a:r>
                        <a:rPr b="0" lang="ru-RU" sz="3200" spc="-1" strike="noStrike">
                          <a:solidFill>
                            <a:srgbClr val="535353"/>
                          </a:solidFill>
                          <a:latin typeface="Times New Roman"/>
                        </a:rPr>
                        <a:t>9</a:t>
                      </a:r>
                      <a:endParaRPr b="0" lang="en-US" sz="3200" spc="-1" strike="noStrike">
                        <a:solidFill>
                          <a:srgbClr val="535353"/>
                        </a:solidFill>
                        <a:latin typeface="Gill Sans Light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84280"/>
                          <a:tab algn="l" pos="1168560"/>
                          <a:tab algn="l" pos="1752480"/>
                          <a:tab algn="l" pos="2336760"/>
                          <a:tab algn="l" pos="2921040"/>
                          <a:tab algn="l" pos="3505320"/>
                          <a:tab algn="l" pos="4089240"/>
                          <a:tab algn="l" pos="4673520"/>
                          <a:tab algn="l" pos="5257800"/>
                          <a:tab algn="l" pos="5842080"/>
                          <a:tab algn="l" pos="6426360"/>
                          <a:tab algn="l" pos="7010280"/>
                          <a:tab algn="l" pos="7594560"/>
                          <a:tab algn="l" pos="8178840"/>
                          <a:tab algn="l" pos="8763120"/>
                          <a:tab algn="l" pos="9347040"/>
                          <a:tab algn="l" pos="9931320"/>
                          <a:tab algn="l" pos="10515600"/>
                        </a:tabLst>
                      </a:pPr>
                      <a:r>
                        <a:rPr b="0" lang="ru-RU" sz="3200" spc="-1" strike="noStrike">
                          <a:solidFill>
                            <a:srgbClr val="535353"/>
                          </a:solidFill>
                          <a:latin typeface="Times New Roman"/>
                        </a:rPr>
                        <a:t>10.</a:t>
                      </a:r>
                      <a:endParaRPr b="0" lang="en-US" sz="3200" spc="-1" strike="noStrike">
                        <a:solidFill>
                          <a:srgbClr val="535353"/>
                        </a:solidFill>
                        <a:latin typeface="Gill Sans Light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84280"/>
                          <a:tab algn="l" pos="1168560"/>
                          <a:tab algn="l" pos="1752480"/>
                          <a:tab algn="l" pos="2336760"/>
                          <a:tab algn="l" pos="2921040"/>
                          <a:tab algn="l" pos="3505320"/>
                          <a:tab algn="l" pos="4089240"/>
                          <a:tab algn="l" pos="4673520"/>
                          <a:tab algn="l" pos="5257800"/>
                          <a:tab algn="l" pos="5842080"/>
                          <a:tab algn="l" pos="6426360"/>
                          <a:tab algn="l" pos="7010280"/>
                          <a:tab algn="l" pos="7594560"/>
                          <a:tab algn="l" pos="8178840"/>
                          <a:tab algn="l" pos="8763120"/>
                          <a:tab algn="l" pos="9347040"/>
                          <a:tab algn="l" pos="9931320"/>
                          <a:tab algn="l" pos="10515600"/>
                        </a:tabLst>
                      </a:pPr>
                      <a:r>
                        <a:rPr b="0" lang="ru-RU" sz="3200" spc="-1" strike="noStrike">
                          <a:solidFill>
                            <a:srgbClr val="535353"/>
                          </a:solidFill>
                          <a:latin typeface="Times New Roman"/>
                        </a:rPr>
                        <a:t>Компьютерные игры</a:t>
                      </a:r>
                      <a:endParaRPr b="0" lang="en-US" sz="3200" spc="-1" strike="noStrike">
                        <a:solidFill>
                          <a:srgbClr val="535353"/>
                        </a:solidFill>
                        <a:latin typeface="Gill Sans Light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84280"/>
                          <a:tab algn="l" pos="1168560"/>
                          <a:tab algn="l" pos="1752480"/>
                          <a:tab algn="l" pos="2336760"/>
                          <a:tab algn="l" pos="2921040"/>
                          <a:tab algn="l" pos="3505320"/>
                          <a:tab algn="l" pos="4089240"/>
                          <a:tab algn="l" pos="4673520"/>
                          <a:tab algn="l" pos="5257800"/>
                          <a:tab algn="l" pos="5842080"/>
                          <a:tab algn="l" pos="6426360"/>
                          <a:tab algn="l" pos="7010280"/>
                          <a:tab algn="l" pos="7594560"/>
                          <a:tab algn="l" pos="8178840"/>
                          <a:tab algn="l" pos="8763120"/>
                          <a:tab algn="l" pos="9347040"/>
                          <a:tab algn="l" pos="9931320"/>
                          <a:tab algn="l" pos="10515600"/>
                        </a:tabLst>
                      </a:pPr>
                      <a:r>
                        <a:rPr b="0" lang="ru-RU" sz="3200" spc="-1" strike="noStrike">
                          <a:solidFill>
                            <a:srgbClr val="535353"/>
                          </a:solidFill>
                          <a:latin typeface="Times New Roman"/>
                        </a:rPr>
                        <a:t>10</a:t>
                      </a:r>
                      <a:endParaRPr b="0" lang="en-US" sz="3200" spc="-1" strike="noStrike">
                        <a:solidFill>
                          <a:srgbClr val="535353"/>
                        </a:solidFill>
                        <a:latin typeface="Gill Sans Light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0" name="Rectangle 1"/>
          <p:cNvSpPr/>
          <p:nvPr/>
        </p:nvSpPr>
        <p:spPr>
          <a:xfrm>
            <a:off x="71280" y="11880"/>
            <a:ext cx="12717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535353"/>
                </a:solidFill>
                <a:latin typeface="Times New Roman"/>
                <a:ea typeface="Times New Roman"/>
              </a:rPr>
              <a:t>Источники информации о событиях, героях Великой Отечественной войны</a:t>
            </a:r>
            <a:endParaRPr b="0" lang="en-US" sz="4400" spc="-1" strike="noStrike">
              <a:solidFill>
                <a:srgbClr val="535353"/>
              </a:solidFill>
              <a:latin typeface="Gill Sans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35353"/>
              </a:solidFill>
              <a:latin typeface="Gill Sans Light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55320" y="376200"/>
            <a:ext cx="12293640" cy="865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520560" indent="0" algn="just">
              <a:lnSpc>
                <a:spcPct val="100000"/>
              </a:lnSpc>
              <a:spcBef>
                <a:spcPts val="46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ru-RU" sz="3200" spc="-1" strike="noStrike">
                <a:solidFill>
                  <a:srgbClr val="535353"/>
                </a:solidFill>
                <a:latin typeface="Gill Sans Light"/>
              </a:rPr>
              <a:t>     </a:t>
            </a:r>
            <a:r>
              <a:rPr b="0" lang="ru-RU" sz="3200" spc="-1" strike="noStrike">
                <a:solidFill>
                  <a:srgbClr val="535353"/>
                </a:solidFill>
                <a:latin typeface="Gill Sans Light"/>
              </a:rPr>
              <a:t>На вопрос о том, участвовал ли кто-нибудь из членов семьи в Великой Отечественной войне, 70,8% опрошенных ответили, что в их семье есть или были участники войны, 16,2% – не имеют родственников-участников войны, 13% затруднились ответить на данный вопрос.</a:t>
            </a:r>
            <a:endParaRPr b="0" lang="en-US" sz="3200" spc="-1" strike="noStrike">
              <a:solidFill>
                <a:srgbClr val="535353"/>
              </a:solidFill>
              <a:latin typeface="Gill Sans Light"/>
            </a:endParaRPr>
          </a:p>
          <a:p>
            <a:pPr marL="520560" indent="0" algn="just">
              <a:lnSpc>
                <a:spcPct val="100000"/>
              </a:lnSpc>
              <a:spcBef>
                <a:spcPts val="46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ru-RU" sz="3200" spc="-1" strike="noStrike">
                <a:solidFill>
                  <a:srgbClr val="535353"/>
                </a:solidFill>
                <a:latin typeface="Gill Sans Light"/>
              </a:rPr>
              <a:t>     </a:t>
            </a:r>
            <a:r>
              <a:rPr b="0" lang="ru-RU" sz="3200" spc="-1" strike="noStrike">
                <a:solidFill>
                  <a:srgbClr val="535353"/>
                </a:solidFill>
                <a:latin typeface="Gill Sans Light"/>
              </a:rPr>
              <a:t>В настоящее время очень популярны поисковые сайты, позволяющие найти информацию о погибших или награжденных родственниках – участниках Великой Отечественной войны. 31,7% опрошенных искали своих родственников на подобных сайтах, 60,7% – не искали, затруднились ответить – 7,6%. Среди представителей учащейся молодежи 37,9% гимназистов и лицеистов посещали подобные сайты, 32,3% студентов, получающих среднее профессиональное образование и 31,5% студентов ВУЗа и 27% школьников. </a:t>
            </a:r>
            <a:endParaRPr b="0" lang="en-US" sz="3200" spc="-1" strike="noStrike">
              <a:solidFill>
                <a:srgbClr val="535353"/>
              </a:solidFill>
              <a:latin typeface="Gill Sans Light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>
            <a:off x="382680" y="700200"/>
            <a:ext cx="12314160" cy="876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358920" y="1447920"/>
          <a:ext cx="12358440" cy="3338280"/>
        </p:xfrm>
        <a:graphic>
          <a:graphicData uri="http://schemas.openxmlformats.org/drawingml/2006/table">
            <a:tbl>
              <a:tblPr/>
              <a:tblGrid>
                <a:gridCol w="947520"/>
                <a:gridCol w="7628040"/>
                <a:gridCol w="3782880"/>
              </a:tblGrid>
              <a:tr h="4269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84280"/>
                          <a:tab algn="l" pos="1168560"/>
                          <a:tab algn="l" pos="1752480"/>
                          <a:tab algn="l" pos="2336760"/>
                          <a:tab algn="l" pos="2921040"/>
                          <a:tab algn="l" pos="3505320"/>
                          <a:tab algn="l" pos="4089240"/>
                          <a:tab algn="l" pos="4673520"/>
                          <a:tab algn="l" pos="5257800"/>
                          <a:tab algn="l" pos="5842080"/>
                          <a:tab algn="l" pos="6426360"/>
                          <a:tab algn="l" pos="7010280"/>
                          <a:tab algn="l" pos="7594560"/>
                          <a:tab algn="l" pos="8178840"/>
                          <a:tab algn="l" pos="8763120"/>
                          <a:tab algn="l" pos="9347040"/>
                          <a:tab algn="l" pos="9931320"/>
                          <a:tab algn="l" pos="10515600"/>
                        </a:tabLst>
                      </a:pPr>
                      <a:endParaRPr b="0" lang="en-US" sz="3600" spc="-1" strike="noStrike">
                        <a:solidFill>
                          <a:srgbClr val="535353"/>
                        </a:solidFill>
                        <a:latin typeface="Gill Sans Light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84280"/>
                          <a:tab algn="l" pos="1168560"/>
                          <a:tab algn="l" pos="1752480"/>
                          <a:tab algn="l" pos="2336760"/>
                          <a:tab algn="l" pos="2921040"/>
                          <a:tab algn="l" pos="3505320"/>
                          <a:tab algn="l" pos="4089240"/>
                          <a:tab algn="l" pos="4673520"/>
                          <a:tab algn="l" pos="5257800"/>
                          <a:tab algn="l" pos="5842080"/>
                          <a:tab algn="l" pos="6426360"/>
                          <a:tab algn="l" pos="7010280"/>
                          <a:tab algn="l" pos="7594560"/>
                          <a:tab algn="l" pos="8178840"/>
                          <a:tab algn="l" pos="8763120"/>
                          <a:tab algn="l" pos="9347040"/>
                          <a:tab algn="l" pos="9931320"/>
                          <a:tab algn="l" pos="10515600"/>
                        </a:tabLst>
                      </a:pPr>
                      <a:r>
                        <a:rPr b="0" i="1" lang="ru-RU" sz="2800" spc="-1" strike="noStrike">
                          <a:solidFill>
                            <a:srgbClr val="535353"/>
                          </a:solidFill>
                          <a:latin typeface="Times New Roman"/>
                        </a:rPr>
                        <a:t>Варианты ответа</a:t>
                      </a:r>
                      <a:endParaRPr b="0" lang="en-US" sz="2800" spc="-1" strike="noStrike">
                        <a:solidFill>
                          <a:srgbClr val="535353"/>
                        </a:solidFill>
                        <a:latin typeface="Gill Sans Light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84280"/>
                          <a:tab algn="l" pos="1168560"/>
                          <a:tab algn="l" pos="1752480"/>
                          <a:tab algn="l" pos="2336760"/>
                          <a:tab algn="l" pos="2921040"/>
                          <a:tab algn="l" pos="3505320"/>
                          <a:tab algn="l" pos="4089240"/>
                          <a:tab algn="l" pos="4673520"/>
                          <a:tab algn="l" pos="5257800"/>
                          <a:tab algn="l" pos="5842080"/>
                          <a:tab algn="l" pos="6426360"/>
                          <a:tab algn="l" pos="7010280"/>
                          <a:tab algn="l" pos="7594560"/>
                          <a:tab algn="l" pos="8178840"/>
                          <a:tab algn="l" pos="8763120"/>
                          <a:tab algn="l" pos="9347040"/>
                          <a:tab algn="l" pos="9931320"/>
                          <a:tab algn="l" pos="10515600"/>
                        </a:tabLst>
                      </a:pPr>
                      <a:r>
                        <a:rPr b="0" lang="ru-RU" sz="2800" spc="-1" strike="noStrike">
                          <a:solidFill>
                            <a:srgbClr val="535353"/>
                          </a:solidFill>
                          <a:latin typeface="Times New Roman"/>
                        </a:rPr>
                        <a:t>%</a:t>
                      </a:r>
                      <a:endParaRPr b="0" lang="en-US" sz="2800" spc="-1" strike="noStrike">
                        <a:solidFill>
                          <a:srgbClr val="535353"/>
                        </a:solidFill>
                        <a:latin typeface="Gill Sans Light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042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84280"/>
                          <a:tab algn="l" pos="1168560"/>
                          <a:tab algn="l" pos="1752480"/>
                          <a:tab algn="l" pos="2336760"/>
                          <a:tab algn="l" pos="2921040"/>
                          <a:tab algn="l" pos="3505320"/>
                          <a:tab algn="l" pos="4089240"/>
                          <a:tab algn="l" pos="4673520"/>
                          <a:tab algn="l" pos="5257800"/>
                          <a:tab algn="l" pos="5842080"/>
                          <a:tab algn="l" pos="6426360"/>
                          <a:tab algn="l" pos="7010280"/>
                          <a:tab algn="l" pos="7594560"/>
                          <a:tab algn="l" pos="8178840"/>
                          <a:tab algn="l" pos="8763120"/>
                          <a:tab algn="l" pos="9347040"/>
                          <a:tab algn="l" pos="9931320"/>
                          <a:tab algn="l" pos="10515600"/>
                        </a:tabLst>
                      </a:pPr>
                      <a:r>
                        <a:rPr b="0" lang="ru-RU" sz="2800" spc="-1" strike="noStrike">
                          <a:solidFill>
                            <a:srgbClr val="535353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535353"/>
                        </a:solidFill>
                        <a:latin typeface="Gill Sans Light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584280"/>
                          <a:tab algn="l" pos="1168560"/>
                          <a:tab algn="l" pos="1752480"/>
                          <a:tab algn="l" pos="2336760"/>
                          <a:tab algn="l" pos="2921040"/>
                          <a:tab algn="l" pos="3505320"/>
                          <a:tab algn="l" pos="4089240"/>
                          <a:tab algn="l" pos="4673520"/>
                          <a:tab algn="l" pos="5257800"/>
                          <a:tab algn="l" pos="5842080"/>
                          <a:tab algn="l" pos="6426360"/>
                          <a:tab algn="l" pos="7010280"/>
                          <a:tab algn="l" pos="7594560"/>
                          <a:tab algn="l" pos="8178840"/>
                          <a:tab algn="l" pos="8763120"/>
                          <a:tab algn="l" pos="9347040"/>
                          <a:tab algn="l" pos="9931320"/>
                          <a:tab algn="l" pos="10515600"/>
                        </a:tabLst>
                      </a:pPr>
                      <a:r>
                        <a:rPr b="0" lang="ru-RU" sz="2800" spc="-1" strike="noStrike">
                          <a:solidFill>
                            <a:srgbClr val="535353"/>
                          </a:solidFill>
                          <a:latin typeface="Times New Roman"/>
                        </a:rPr>
                        <a:t>Да, достойно, государство делает все возможное для ветеранов Великой Отечественной войны</a:t>
                      </a:r>
                      <a:endParaRPr b="0" lang="en-US" sz="2800" spc="-1" strike="noStrike">
                        <a:solidFill>
                          <a:srgbClr val="535353"/>
                        </a:solidFill>
                        <a:latin typeface="Gill Sans Light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84280"/>
                          <a:tab algn="l" pos="1168560"/>
                          <a:tab algn="l" pos="1752480"/>
                          <a:tab algn="l" pos="2336760"/>
                          <a:tab algn="l" pos="2921040"/>
                          <a:tab algn="l" pos="3505320"/>
                          <a:tab algn="l" pos="4089240"/>
                          <a:tab algn="l" pos="4673520"/>
                          <a:tab algn="l" pos="5257800"/>
                          <a:tab algn="l" pos="5842080"/>
                          <a:tab algn="l" pos="6426360"/>
                          <a:tab algn="l" pos="7010280"/>
                          <a:tab algn="l" pos="7594560"/>
                          <a:tab algn="l" pos="8178840"/>
                          <a:tab algn="l" pos="8763120"/>
                          <a:tab algn="l" pos="9347040"/>
                          <a:tab algn="l" pos="9931320"/>
                          <a:tab algn="l" pos="10515600"/>
                        </a:tabLst>
                      </a:pPr>
                      <a:r>
                        <a:rPr b="1" lang="ru-RU" sz="2800" spc="-1" strike="noStrike">
                          <a:solidFill>
                            <a:srgbClr val="535353"/>
                          </a:solidFill>
                          <a:latin typeface="Times New Roman"/>
                        </a:rPr>
                        <a:t>29,1</a:t>
                      </a:r>
                      <a:endParaRPr b="0" lang="en-US" sz="2800" spc="-1" strike="noStrike">
                        <a:solidFill>
                          <a:srgbClr val="535353"/>
                        </a:solidFill>
                        <a:latin typeface="Gill Sans Light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801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84280"/>
                          <a:tab algn="l" pos="1168560"/>
                          <a:tab algn="l" pos="1752480"/>
                          <a:tab algn="l" pos="2336760"/>
                          <a:tab algn="l" pos="2921040"/>
                          <a:tab algn="l" pos="3505320"/>
                          <a:tab algn="l" pos="4089240"/>
                          <a:tab algn="l" pos="4673520"/>
                          <a:tab algn="l" pos="5257800"/>
                          <a:tab algn="l" pos="5842080"/>
                          <a:tab algn="l" pos="6426360"/>
                          <a:tab algn="l" pos="7010280"/>
                          <a:tab algn="l" pos="7594560"/>
                          <a:tab algn="l" pos="8178840"/>
                          <a:tab algn="l" pos="8763120"/>
                          <a:tab algn="l" pos="9347040"/>
                          <a:tab algn="l" pos="9931320"/>
                          <a:tab algn="l" pos="10515600"/>
                        </a:tabLst>
                      </a:pPr>
                      <a:r>
                        <a:rPr b="0" lang="ru-RU" sz="2800" spc="-1" strike="noStrike">
                          <a:solidFill>
                            <a:srgbClr val="535353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535353"/>
                        </a:solidFill>
                        <a:latin typeface="Gill Sans Light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584280"/>
                          <a:tab algn="l" pos="1168560"/>
                          <a:tab algn="l" pos="1752480"/>
                          <a:tab algn="l" pos="2336760"/>
                          <a:tab algn="l" pos="2921040"/>
                          <a:tab algn="l" pos="3505320"/>
                          <a:tab algn="l" pos="4089240"/>
                          <a:tab algn="l" pos="4673520"/>
                          <a:tab algn="l" pos="5257800"/>
                          <a:tab algn="l" pos="5842080"/>
                          <a:tab algn="l" pos="6426360"/>
                          <a:tab algn="l" pos="7010280"/>
                          <a:tab algn="l" pos="7594560"/>
                          <a:tab algn="l" pos="8178840"/>
                          <a:tab algn="l" pos="8763120"/>
                          <a:tab algn="l" pos="9347040"/>
                          <a:tab algn="l" pos="9931320"/>
                          <a:tab algn="l" pos="10515600"/>
                        </a:tabLst>
                      </a:pPr>
                      <a:r>
                        <a:rPr b="0" lang="ru-RU" sz="2800" spc="-1" strike="noStrike">
                          <a:solidFill>
                            <a:srgbClr val="535353"/>
                          </a:solidFill>
                          <a:latin typeface="Times New Roman"/>
                        </a:rPr>
                        <a:t>Нет, государство предоставляет ветеранам Великой Отечественной войны определенные льготы, но этого недостаточно</a:t>
                      </a:r>
                      <a:endParaRPr b="0" lang="en-US" sz="2800" spc="-1" strike="noStrike">
                        <a:solidFill>
                          <a:srgbClr val="535353"/>
                        </a:solidFill>
                        <a:latin typeface="Gill Sans Light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84280"/>
                          <a:tab algn="l" pos="1168560"/>
                          <a:tab algn="l" pos="1752480"/>
                          <a:tab algn="l" pos="2336760"/>
                          <a:tab algn="l" pos="2921040"/>
                          <a:tab algn="l" pos="3505320"/>
                          <a:tab algn="l" pos="4089240"/>
                          <a:tab algn="l" pos="4673520"/>
                          <a:tab algn="l" pos="5257800"/>
                          <a:tab algn="l" pos="5842080"/>
                          <a:tab algn="l" pos="6426360"/>
                          <a:tab algn="l" pos="7010280"/>
                          <a:tab algn="l" pos="7594560"/>
                          <a:tab algn="l" pos="8178840"/>
                          <a:tab algn="l" pos="8763120"/>
                          <a:tab algn="l" pos="9347040"/>
                          <a:tab algn="l" pos="9931320"/>
                          <a:tab algn="l" pos="10515600"/>
                        </a:tabLst>
                      </a:pPr>
                      <a:r>
                        <a:rPr b="0" lang="ru-RU" sz="2800" spc="-1" strike="noStrike">
                          <a:solidFill>
                            <a:srgbClr val="535353"/>
                          </a:solidFill>
                          <a:latin typeface="Times New Roman"/>
                        </a:rPr>
                        <a:t>60,6</a:t>
                      </a:r>
                      <a:endParaRPr b="0" lang="en-US" sz="2800" spc="-1" strike="noStrike">
                        <a:solidFill>
                          <a:srgbClr val="535353"/>
                        </a:solidFill>
                        <a:latin typeface="Gill Sans Light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84280"/>
                          <a:tab algn="l" pos="1168560"/>
                          <a:tab algn="l" pos="1752480"/>
                          <a:tab algn="l" pos="2336760"/>
                          <a:tab algn="l" pos="2921040"/>
                          <a:tab algn="l" pos="3505320"/>
                          <a:tab algn="l" pos="4089240"/>
                          <a:tab algn="l" pos="4673520"/>
                          <a:tab algn="l" pos="5257800"/>
                          <a:tab algn="l" pos="5842080"/>
                          <a:tab algn="l" pos="6426360"/>
                          <a:tab algn="l" pos="7010280"/>
                          <a:tab algn="l" pos="7594560"/>
                          <a:tab algn="l" pos="8178840"/>
                          <a:tab algn="l" pos="8763120"/>
                          <a:tab algn="l" pos="9347040"/>
                          <a:tab algn="l" pos="9931320"/>
                          <a:tab algn="l" pos="10515600"/>
                        </a:tabLst>
                      </a:pPr>
                      <a:r>
                        <a:rPr b="0" lang="ru-RU" sz="2800" spc="-1" strike="noStrike">
                          <a:solidFill>
                            <a:srgbClr val="535353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535353"/>
                        </a:solidFill>
                        <a:latin typeface="Gill Sans Light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584280"/>
                          <a:tab algn="l" pos="1168560"/>
                          <a:tab algn="l" pos="1752480"/>
                          <a:tab algn="l" pos="2336760"/>
                          <a:tab algn="l" pos="2921040"/>
                          <a:tab algn="l" pos="3505320"/>
                          <a:tab algn="l" pos="4089240"/>
                          <a:tab algn="l" pos="4673520"/>
                          <a:tab algn="l" pos="5257800"/>
                          <a:tab algn="l" pos="5842080"/>
                          <a:tab algn="l" pos="6426360"/>
                          <a:tab algn="l" pos="7010280"/>
                          <a:tab algn="l" pos="7594560"/>
                          <a:tab algn="l" pos="8178840"/>
                          <a:tab algn="l" pos="8763120"/>
                          <a:tab algn="l" pos="9347040"/>
                          <a:tab algn="l" pos="9931320"/>
                          <a:tab algn="l" pos="10515600"/>
                        </a:tabLst>
                      </a:pPr>
                      <a:r>
                        <a:rPr b="0" lang="ru-RU" sz="2800" spc="-1" strike="noStrike">
                          <a:solidFill>
                            <a:srgbClr val="535353"/>
                          </a:solidFill>
                          <a:latin typeface="Times New Roman"/>
                        </a:rPr>
                        <a:t>Затруднились ответить</a:t>
                      </a:r>
                      <a:endParaRPr b="0" lang="en-US" sz="2800" spc="-1" strike="noStrike">
                        <a:solidFill>
                          <a:srgbClr val="535353"/>
                        </a:solidFill>
                        <a:latin typeface="Gill Sans Light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84280"/>
                          <a:tab algn="l" pos="1168560"/>
                          <a:tab algn="l" pos="1752480"/>
                          <a:tab algn="l" pos="2336760"/>
                          <a:tab algn="l" pos="2921040"/>
                          <a:tab algn="l" pos="3505320"/>
                          <a:tab algn="l" pos="4089240"/>
                          <a:tab algn="l" pos="4673520"/>
                          <a:tab algn="l" pos="5257800"/>
                          <a:tab algn="l" pos="5842080"/>
                          <a:tab algn="l" pos="6426360"/>
                          <a:tab algn="l" pos="7010280"/>
                          <a:tab algn="l" pos="7594560"/>
                          <a:tab algn="l" pos="8178840"/>
                          <a:tab algn="l" pos="8763120"/>
                          <a:tab algn="l" pos="9347040"/>
                          <a:tab algn="l" pos="9931320"/>
                          <a:tab algn="l" pos="10515600"/>
                        </a:tabLst>
                      </a:pPr>
                      <a:r>
                        <a:rPr b="0" lang="ru-RU" sz="2800" spc="-1" strike="noStrike">
                          <a:solidFill>
                            <a:srgbClr val="535353"/>
                          </a:solidFill>
                          <a:latin typeface="Times New Roman"/>
                        </a:rPr>
                        <a:t>10,2</a:t>
                      </a:r>
                      <a:endParaRPr b="0" lang="en-US" sz="2800" spc="-1" strike="noStrike">
                        <a:solidFill>
                          <a:srgbClr val="535353"/>
                        </a:solidFill>
                        <a:latin typeface="Gill Sans Light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58920" y="5877000"/>
          <a:ext cx="12358440" cy="3608280"/>
        </p:xfrm>
        <a:graphic>
          <a:graphicData uri="http://schemas.openxmlformats.org/drawingml/2006/table">
            <a:tbl>
              <a:tblPr/>
              <a:tblGrid>
                <a:gridCol w="947520"/>
                <a:gridCol w="7628040"/>
                <a:gridCol w="3782880"/>
              </a:tblGrid>
              <a:tr h="5238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84280"/>
                          <a:tab algn="l" pos="1168560"/>
                          <a:tab algn="l" pos="1752480"/>
                          <a:tab algn="l" pos="2336760"/>
                          <a:tab algn="l" pos="2921040"/>
                          <a:tab algn="l" pos="3505320"/>
                          <a:tab algn="l" pos="4089240"/>
                          <a:tab algn="l" pos="4673520"/>
                          <a:tab algn="l" pos="5257800"/>
                          <a:tab algn="l" pos="5842080"/>
                          <a:tab algn="l" pos="6426360"/>
                          <a:tab algn="l" pos="7010280"/>
                          <a:tab algn="l" pos="7594560"/>
                          <a:tab algn="l" pos="8178840"/>
                          <a:tab algn="l" pos="8763120"/>
                          <a:tab algn="l" pos="9347040"/>
                          <a:tab algn="l" pos="9931320"/>
                          <a:tab algn="l" pos="10515600"/>
                        </a:tabLst>
                      </a:pPr>
                      <a:endParaRPr b="0" lang="en-US" sz="3600" spc="-1" strike="noStrike">
                        <a:solidFill>
                          <a:srgbClr val="535353"/>
                        </a:solidFill>
                        <a:latin typeface="Gill Sans Light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84280"/>
                          <a:tab algn="l" pos="1168560"/>
                          <a:tab algn="l" pos="1752480"/>
                          <a:tab algn="l" pos="2336760"/>
                          <a:tab algn="l" pos="2921040"/>
                          <a:tab algn="l" pos="3505320"/>
                          <a:tab algn="l" pos="4089240"/>
                          <a:tab algn="l" pos="4673520"/>
                          <a:tab algn="l" pos="5257800"/>
                          <a:tab algn="l" pos="5842080"/>
                          <a:tab algn="l" pos="6426360"/>
                          <a:tab algn="l" pos="7010280"/>
                          <a:tab algn="l" pos="7594560"/>
                          <a:tab algn="l" pos="8178840"/>
                          <a:tab algn="l" pos="8763120"/>
                          <a:tab algn="l" pos="9347040"/>
                          <a:tab algn="l" pos="9931320"/>
                          <a:tab algn="l" pos="10515600"/>
                        </a:tabLst>
                      </a:pPr>
                      <a:r>
                        <a:rPr b="0" i="1" lang="ru-RU" sz="2800" spc="-1" strike="noStrike">
                          <a:solidFill>
                            <a:srgbClr val="535353"/>
                          </a:solidFill>
                          <a:latin typeface="Times New Roman"/>
                        </a:rPr>
                        <a:t>Варианты ответа</a:t>
                      </a:r>
                      <a:endParaRPr b="0" lang="en-US" sz="2800" spc="-1" strike="noStrike">
                        <a:solidFill>
                          <a:srgbClr val="535353"/>
                        </a:solidFill>
                        <a:latin typeface="Gill Sans Light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84280"/>
                          <a:tab algn="l" pos="1168560"/>
                          <a:tab algn="l" pos="1752480"/>
                          <a:tab algn="l" pos="2336760"/>
                          <a:tab algn="l" pos="2921040"/>
                          <a:tab algn="l" pos="3505320"/>
                          <a:tab algn="l" pos="4089240"/>
                          <a:tab algn="l" pos="4673520"/>
                          <a:tab algn="l" pos="5257800"/>
                          <a:tab algn="l" pos="5842080"/>
                          <a:tab algn="l" pos="6426360"/>
                          <a:tab algn="l" pos="7010280"/>
                          <a:tab algn="l" pos="7594560"/>
                          <a:tab algn="l" pos="8178840"/>
                          <a:tab algn="l" pos="8763120"/>
                          <a:tab algn="l" pos="9347040"/>
                          <a:tab algn="l" pos="9931320"/>
                          <a:tab algn="l" pos="10515600"/>
                        </a:tabLst>
                      </a:pPr>
                      <a:r>
                        <a:rPr b="0" lang="ru-RU" sz="2800" spc="-1" strike="noStrike">
                          <a:solidFill>
                            <a:srgbClr val="535353"/>
                          </a:solidFill>
                          <a:latin typeface="Times New Roman"/>
                        </a:rPr>
                        <a:t>%</a:t>
                      </a:r>
                      <a:endParaRPr b="0" lang="en-US" sz="2800" spc="-1" strike="noStrike">
                        <a:solidFill>
                          <a:srgbClr val="535353"/>
                        </a:solidFill>
                        <a:latin typeface="Gill Sans Light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808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84280"/>
                          <a:tab algn="l" pos="1168560"/>
                          <a:tab algn="l" pos="1752480"/>
                          <a:tab algn="l" pos="2336760"/>
                          <a:tab algn="l" pos="2921040"/>
                          <a:tab algn="l" pos="3505320"/>
                          <a:tab algn="l" pos="4089240"/>
                          <a:tab algn="l" pos="4673520"/>
                          <a:tab algn="l" pos="5257800"/>
                          <a:tab algn="l" pos="5842080"/>
                          <a:tab algn="l" pos="6426360"/>
                          <a:tab algn="l" pos="7010280"/>
                          <a:tab algn="l" pos="7594560"/>
                          <a:tab algn="l" pos="8178840"/>
                          <a:tab algn="l" pos="8763120"/>
                          <a:tab algn="l" pos="9347040"/>
                          <a:tab algn="l" pos="9931320"/>
                          <a:tab algn="l" pos="10515600"/>
                        </a:tabLst>
                      </a:pPr>
                      <a:r>
                        <a:rPr b="0" lang="ru-RU" sz="2800" spc="-1" strike="noStrike">
                          <a:solidFill>
                            <a:srgbClr val="535353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535353"/>
                        </a:solidFill>
                        <a:latin typeface="Gill Sans Light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584280"/>
                          <a:tab algn="l" pos="1168560"/>
                          <a:tab algn="l" pos="1752480"/>
                          <a:tab algn="l" pos="2336760"/>
                          <a:tab algn="l" pos="2921040"/>
                          <a:tab algn="l" pos="3505320"/>
                          <a:tab algn="l" pos="4089240"/>
                          <a:tab algn="l" pos="4673520"/>
                          <a:tab algn="l" pos="5257800"/>
                          <a:tab algn="l" pos="5842080"/>
                          <a:tab algn="l" pos="6426360"/>
                          <a:tab algn="l" pos="7010280"/>
                          <a:tab algn="l" pos="7594560"/>
                          <a:tab algn="l" pos="8178840"/>
                          <a:tab algn="l" pos="8763120"/>
                          <a:tab algn="l" pos="9347040"/>
                          <a:tab algn="l" pos="9931320"/>
                          <a:tab algn="l" pos="10515600"/>
                        </a:tabLst>
                      </a:pPr>
                      <a:r>
                        <a:rPr b="0" lang="ru-RU" sz="2800" spc="-1" strike="noStrike">
                          <a:solidFill>
                            <a:srgbClr val="535353"/>
                          </a:solidFill>
                          <a:latin typeface="Times New Roman"/>
                        </a:rPr>
                        <a:t>Да, ветераны Великой Отечественной войны пользуются большим уважением, общественность заботится о ветеранах</a:t>
                      </a:r>
                      <a:endParaRPr b="0" lang="en-US" sz="2800" spc="-1" strike="noStrike">
                        <a:solidFill>
                          <a:srgbClr val="535353"/>
                        </a:solidFill>
                        <a:latin typeface="Gill Sans Light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84280"/>
                          <a:tab algn="l" pos="1168560"/>
                          <a:tab algn="l" pos="1752480"/>
                          <a:tab algn="l" pos="2336760"/>
                          <a:tab algn="l" pos="2921040"/>
                          <a:tab algn="l" pos="3505320"/>
                          <a:tab algn="l" pos="4089240"/>
                          <a:tab algn="l" pos="4673520"/>
                          <a:tab algn="l" pos="5257800"/>
                          <a:tab algn="l" pos="5842080"/>
                          <a:tab algn="l" pos="6426360"/>
                          <a:tab algn="l" pos="7010280"/>
                          <a:tab algn="l" pos="7594560"/>
                          <a:tab algn="l" pos="8178840"/>
                          <a:tab algn="l" pos="8763120"/>
                          <a:tab algn="l" pos="9347040"/>
                          <a:tab algn="l" pos="9931320"/>
                          <a:tab algn="l" pos="10515600"/>
                        </a:tabLst>
                      </a:pPr>
                      <a:r>
                        <a:rPr b="1" lang="ru-RU" sz="2800" spc="-1" strike="noStrike">
                          <a:solidFill>
                            <a:srgbClr val="535353"/>
                          </a:solidFill>
                          <a:latin typeface="Times New Roman"/>
                        </a:rPr>
                        <a:t>55,3</a:t>
                      </a:r>
                      <a:endParaRPr b="0" lang="en-US" sz="2800" spc="-1" strike="noStrike">
                        <a:solidFill>
                          <a:srgbClr val="535353"/>
                        </a:solidFill>
                        <a:latin typeface="Gill Sans Light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801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84280"/>
                          <a:tab algn="l" pos="1168560"/>
                          <a:tab algn="l" pos="1752480"/>
                          <a:tab algn="l" pos="2336760"/>
                          <a:tab algn="l" pos="2921040"/>
                          <a:tab algn="l" pos="3505320"/>
                          <a:tab algn="l" pos="4089240"/>
                          <a:tab algn="l" pos="4673520"/>
                          <a:tab algn="l" pos="5257800"/>
                          <a:tab algn="l" pos="5842080"/>
                          <a:tab algn="l" pos="6426360"/>
                          <a:tab algn="l" pos="7010280"/>
                          <a:tab algn="l" pos="7594560"/>
                          <a:tab algn="l" pos="8178840"/>
                          <a:tab algn="l" pos="8763120"/>
                          <a:tab algn="l" pos="9347040"/>
                          <a:tab algn="l" pos="9931320"/>
                          <a:tab algn="l" pos="10515600"/>
                        </a:tabLst>
                      </a:pPr>
                      <a:r>
                        <a:rPr b="0" lang="ru-RU" sz="2800" spc="-1" strike="noStrike">
                          <a:solidFill>
                            <a:srgbClr val="535353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535353"/>
                        </a:solidFill>
                        <a:latin typeface="Gill Sans Light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584280"/>
                          <a:tab algn="l" pos="1168560"/>
                          <a:tab algn="l" pos="1752480"/>
                          <a:tab algn="l" pos="2336760"/>
                          <a:tab algn="l" pos="2921040"/>
                          <a:tab algn="l" pos="3505320"/>
                          <a:tab algn="l" pos="4089240"/>
                          <a:tab algn="l" pos="4673520"/>
                          <a:tab algn="l" pos="5257800"/>
                          <a:tab algn="l" pos="5842080"/>
                          <a:tab algn="l" pos="6426360"/>
                          <a:tab algn="l" pos="7010280"/>
                          <a:tab algn="l" pos="7594560"/>
                          <a:tab algn="l" pos="8178840"/>
                          <a:tab algn="l" pos="8763120"/>
                          <a:tab algn="l" pos="9347040"/>
                          <a:tab algn="l" pos="9931320"/>
                          <a:tab algn="l" pos="10515600"/>
                        </a:tabLst>
                      </a:pPr>
                      <a:r>
                        <a:rPr b="0" lang="ru-RU" sz="2800" spc="-1" strike="noStrike">
                          <a:solidFill>
                            <a:srgbClr val="535353"/>
                          </a:solidFill>
                          <a:latin typeface="Times New Roman"/>
                        </a:rPr>
                        <a:t>Нет, ветераны Великой Отечественной войны забыты обществом и не нужны никому кроме родственников</a:t>
                      </a:r>
                      <a:endParaRPr b="0" lang="en-US" sz="2800" spc="-1" strike="noStrike">
                        <a:solidFill>
                          <a:srgbClr val="535353"/>
                        </a:solidFill>
                        <a:latin typeface="Gill Sans Light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84280"/>
                          <a:tab algn="l" pos="1168560"/>
                          <a:tab algn="l" pos="1752480"/>
                          <a:tab algn="l" pos="2336760"/>
                          <a:tab algn="l" pos="2921040"/>
                          <a:tab algn="l" pos="3505320"/>
                          <a:tab algn="l" pos="4089240"/>
                          <a:tab algn="l" pos="4673520"/>
                          <a:tab algn="l" pos="5257800"/>
                          <a:tab algn="l" pos="5842080"/>
                          <a:tab algn="l" pos="6426360"/>
                          <a:tab algn="l" pos="7010280"/>
                          <a:tab algn="l" pos="7594560"/>
                          <a:tab algn="l" pos="8178840"/>
                          <a:tab algn="l" pos="8763120"/>
                          <a:tab algn="l" pos="9347040"/>
                          <a:tab algn="l" pos="9931320"/>
                          <a:tab algn="l" pos="10515600"/>
                        </a:tabLst>
                      </a:pPr>
                      <a:r>
                        <a:rPr b="0" lang="ru-RU" sz="2800" spc="-1" strike="noStrike">
                          <a:solidFill>
                            <a:srgbClr val="535353"/>
                          </a:solidFill>
                          <a:latin typeface="Times New Roman"/>
                        </a:rPr>
                        <a:t>30,3</a:t>
                      </a:r>
                      <a:endParaRPr b="0" lang="en-US" sz="2800" spc="-1" strike="noStrike">
                        <a:solidFill>
                          <a:srgbClr val="535353"/>
                        </a:solidFill>
                        <a:latin typeface="Gill Sans Light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4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84280"/>
                          <a:tab algn="l" pos="1168560"/>
                          <a:tab algn="l" pos="1752480"/>
                          <a:tab algn="l" pos="2336760"/>
                          <a:tab algn="l" pos="2921040"/>
                          <a:tab algn="l" pos="3505320"/>
                          <a:tab algn="l" pos="4089240"/>
                          <a:tab algn="l" pos="4673520"/>
                          <a:tab algn="l" pos="5257800"/>
                          <a:tab algn="l" pos="5842080"/>
                          <a:tab algn="l" pos="6426360"/>
                          <a:tab algn="l" pos="7010280"/>
                          <a:tab algn="l" pos="7594560"/>
                          <a:tab algn="l" pos="8178840"/>
                          <a:tab algn="l" pos="8763120"/>
                          <a:tab algn="l" pos="9347040"/>
                          <a:tab algn="l" pos="9931320"/>
                          <a:tab algn="l" pos="10515600"/>
                        </a:tabLst>
                      </a:pPr>
                      <a:r>
                        <a:rPr b="0" lang="ru-RU" sz="2800" spc="-1" strike="noStrike">
                          <a:solidFill>
                            <a:srgbClr val="535353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535353"/>
                        </a:solidFill>
                        <a:latin typeface="Gill Sans Light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584280"/>
                          <a:tab algn="l" pos="1168560"/>
                          <a:tab algn="l" pos="1752480"/>
                          <a:tab algn="l" pos="2336760"/>
                          <a:tab algn="l" pos="2921040"/>
                          <a:tab algn="l" pos="3505320"/>
                          <a:tab algn="l" pos="4089240"/>
                          <a:tab algn="l" pos="4673520"/>
                          <a:tab algn="l" pos="5257800"/>
                          <a:tab algn="l" pos="5842080"/>
                          <a:tab algn="l" pos="6426360"/>
                          <a:tab algn="l" pos="7010280"/>
                          <a:tab algn="l" pos="7594560"/>
                          <a:tab algn="l" pos="8178840"/>
                          <a:tab algn="l" pos="8763120"/>
                          <a:tab algn="l" pos="9347040"/>
                          <a:tab algn="l" pos="9931320"/>
                          <a:tab algn="l" pos="10515600"/>
                        </a:tabLst>
                      </a:pPr>
                      <a:r>
                        <a:rPr b="0" lang="ru-RU" sz="2800" spc="-1" strike="noStrike">
                          <a:solidFill>
                            <a:srgbClr val="535353"/>
                          </a:solidFill>
                          <a:latin typeface="Times New Roman"/>
                        </a:rPr>
                        <a:t>Затруднились ответить</a:t>
                      </a:r>
                      <a:endParaRPr b="0" lang="en-US" sz="2800" spc="-1" strike="noStrike">
                        <a:solidFill>
                          <a:srgbClr val="535353"/>
                        </a:solidFill>
                        <a:latin typeface="Gill Sans Light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84280"/>
                          <a:tab algn="l" pos="1168560"/>
                          <a:tab algn="l" pos="1752480"/>
                          <a:tab algn="l" pos="2336760"/>
                          <a:tab algn="l" pos="2921040"/>
                          <a:tab algn="l" pos="3505320"/>
                          <a:tab algn="l" pos="4089240"/>
                          <a:tab algn="l" pos="4673520"/>
                          <a:tab algn="l" pos="5257800"/>
                          <a:tab algn="l" pos="5842080"/>
                          <a:tab algn="l" pos="6426360"/>
                          <a:tab algn="l" pos="7010280"/>
                          <a:tab algn="l" pos="7594560"/>
                          <a:tab algn="l" pos="8178840"/>
                          <a:tab algn="l" pos="8763120"/>
                          <a:tab algn="l" pos="9347040"/>
                          <a:tab algn="l" pos="9931320"/>
                          <a:tab algn="l" pos="10515600"/>
                        </a:tabLst>
                      </a:pPr>
                      <a:r>
                        <a:rPr b="0" lang="ru-RU" sz="2800" spc="-1" strike="noStrike">
                          <a:solidFill>
                            <a:srgbClr val="535353"/>
                          </a:solidFill>
                          <a:latin typeface="Times New Roman"/>
                        </a:rPr>
                        <a:t>14,4</a:t>
                      </a:r>
                      <a:endParaRPr b="0" lang="en-US" sz="2800" spc="-1" strike="noStrike">
                        <a:solidFill>
                          <a:srgbClr val="535353"/>
                        </a:solidFill>
                        <a:latin typeface="Gill Sans Light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5" name="Rectangle 1"/>
          <p:cNvSpPr/>
          <p:nvPr/>
        </p:nvSpPr>
        <p:spPr>
          <a:xfrm>
            <a:off x="142920" y="68040"/>
            <a:ext cx="12717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35353"/>
                </a:solidFill>
                <a:latin typeface="Times New Roman"/>
                <a:ea typeface="Times New Roman"/>
              </a:rPr>
              <a:t>Распределение ответов на вопрос «Как Вы считаете, органы государственной власти достойно относятся к победителям, участникам Великой Отечественной войны?»</a:t>
            </a:r>
            <a:endParaRPr b="0" lang="en-US" sz="2800" spc="-1" strike="noStrike">
              <a:solidFill>
                <a:srgbClr val="535353"/>
              </a:solidFill>
              <a:latin typeface="Gill Sans Light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35353"/>
              </a:solidFill>
              <a:latin typeface="Gill Sans Light"/>
            </a:endParaRPr>
          </a:p>
        </p:txBody>
      </p:sp>
      <p:sp>
        <p:nvSpPr>
          <p:cNvPr id="76" name="Rectangle 1"/>
          <p:cNvSpPr/>
          <p:nvPr/>
        </p:nvSpPr>
        <p:spPr>
          <a:xfrm>
            <a:off x="152280" y="4926240"/>
            <a:ext cx="12565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35353"/>
                </a:solidFill>
                <a:latin typeface="Times New Roman"/>
                <a:ea typeface="Times New Roman"/>
              </a:rPr>
              <a:t>Распределение ответов на вопрос «Как Вы считаете, как общество и люди относятся к героям и участникам Великой Отечественной войны?»</a:t>
            </a:r>
            <a:endParaRPr b="0" lang="en-US" sz="2800" spc="-1" strike="noStrike">
              <a:solidFill>
                <a:srgbClr val="535353"/>
              </a:solidFill>
              <a:latin typeface="Gill Sans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35353"/>
              </a:solidFill>
              <a:latin typeface="Gill Sans Light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"/>
          <p:cNvSpPr/>
          <p:nvPr/>
        </p:nvSpPr>
        <p:spPr>
          <a:xfrm>
            <a:off x="0" y="0"/>
            <a:ext cx="13004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535353"/>
              </a:solidFill>
              <a:latin typeface="Gill Sans Light"/>
            </a:endParaRPr>
          </a:p>
        </p:txBody>
      </p:sp>
      <p:pic>
        <p:nvPicPr>
          <p:cNvPr id="78" name="Object 1" descr=""/>
          <p:cNvPicPr/>
          <p:nvPr/>
        </p:nvPicPr>
        <p:blipFill>
          <a:blip r:embed="rId1"/>
          <a:stretch/>
        </p:blipFill>
        <p:spPr>
          <a:xfrm>
            <a:off x="287280" y="519120"/>
            <a:ext cx="12209400" cy="880596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3"/>
          <p:cNvSpPr/>
          <p:nvPr/>
        </p:nvSpPr>
        <p:spPr>
          <a:xfrm>
            <a:off x="0" y="2467080"/>
            <a:ext cx="13004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535353"/>
              </a:solidFill>
              <a:latin typeface="Gill Sans Light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"/>
          <p:cNvGraphicFramePr/>
          <p:nvPr/>
        </p:nvGraphicFramePr>
        <p:xfrm>
          <a:off x="430200" y="2376360"/>
          <a:ext cx="12144240" cy="4429080"/>
        </p:xfrm>
        <a:graphic>
          <a:graphicData uri="http://schemas.openxmlformats.org/drawingml/2006/table">
            <a:tbl>
              <a:tblPr/>
              <a:tblGrid>
                <a:gridCol w="930240"/>
                <a:gridCol w="7497720"/>
                <a:gridCol w="3716280"/>
              </a:tblGrid>
              <a:tr h="1108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84280"/>
                          <a:tab algn="l" pos="1168560"/>
                          <a:tab algn="l" pos="1752480"/>
                          <a:tab algn="l" pos="2336760"/>
                          <a:tab algn="l" pos="2921040"/>
                          <a:tab algn="l" pos="3505320"/>
                          <a:tab algn="l" pos="4089240"/>
                          <a:tab algn="l" pos="4673520"/>
                          <a:tab algn="l" pos="5257800"/>
                          <a:tab algn="l" pos="5842080"/>
                          <a:tab algn="l" pos="6426360"/>
                          <a:tab algn="l" pos="7010280"/>
                          <a:tab algn="l" pos="7594560"/>
                          <a:tab algn="l" pos="8178840"/>
                          <a:tab algn="l" pos="8763120"/>
                          <a:tab algn="l" pos="9347040"/>
                          <a:tab algn="l" pos="9931320"/>
                          <a:tab algn="l" pos="10515600"/>
                        </a:tabLst>
                      </a:pPr>
                      <a:endParaRPr b="0" lang="en-US" sz="3600" spc="-1" strike="noStrike">
                        <a:solidFill>
                          <a:srgbClr val="535353"/>
                        </a:solidFill>
                        <a:latin typeface="Gill Sans Light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84280"/>
                          <a:tab algn="l" pos="1168560"/>
                          <a:tab algn="l" pos="1752480"/>
                          <a:tab algn="l" pos="2336760"/>
                          <a:tab algn="l" pos="2921040"/>
                          <a:tab algn="l" pos="3505320"/>
                          <a:tab algn="l" pos="4089240"/>
                          <a:tab algn="l" pos="4673520"/>
                          <a:tab algn="l" pos="5257800"/>
                          <a:tab algn="l" pos="5842080"/>
                          <a:tab algn="l" pos="6426360"/>
                          <a:tab algn="l" pos="7010280"/>
                          <a:tab algn="l" pos="7594560"/>
                          <a:tab algn="l" pos="8178840"/>
                          <a:tab algn="l" pos="8763120"/>
                          <a:tab algn="l" pos="9347040"/>
                          <a:tab algn="l" pos="9931320"/>
                          <a:tab algn="l" pos="10515600"/>
                        </a:tabLst>
                      </a:pPr>
                      <a:r>
                        <a:rPr b="0" i="1" lang="ru-RU" sz="3600" spc="-1" strike="noStrike">
                          <a:solidFill>
                            <a:srgbClr val="535353"/>
                          </a:solidFill>
                          <a:latin typeface="Times New Roman"/>
                        </a:rPr>
                        <a:t>Варианты ответа</a:t>
                      </a:r>
                      <a:endParaRPr b="0" lang="en-US" sz="3600" spc="-1" strike="noStrike">
                        <a:solidFill>
                          <a:srgbClr val="535353"/>
                        </a:solidFill>
                        <a:latin typeface="Gill Sans Light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84280"/>
                          <a:tab algn="l" pos="1168560"/>
                          <a:tab algn="l" pos="1752480"/>
                          <a:tab algn="l" pos="2336760"/>
                          <a:tab algn="l" pos="2921040"/>
                          <a:tab algn="l" pos="3505320"/>
                          <a:tab algn="l" pos="4089240"/>
                          <a:tab algn="l" pos="4673520"/>
                          <a:tab algn="l" pos="5257800"/>
                          <a:tab algn="l" pos="5842080"/>
                          <a:tab algn="l" pos="6426360"/>
                          <a:tab algn="l" pos="7010280"/>
                          <a:tab algn="l" pos="7594560"/>
                          <a:tab algn="l" pos="8178840"/>
                          <a:tab algn="l" pos="8763120"/>
                          <a:tab algn="l" pos="9347040"/>
                          <a:tab algn="l" pos="9931320"/>
                          <a:tab algn="l" pos="10515600"/>
                        </a:tabLst>
                      </a:pPr>
                      <a:r>
                        <a:rPr b="0" lang="ru-RU" sz="3600" spc="-1" strike="noStrike">
                          <a:solidFill>
                            <a:srgbClr val="535353"/>
                          </a:solidFill>
                          <a:latin typeface="Times New Roman"/>
                        </a:rPr>
                        <a:t>%</a:t>
                      </a:r>
                      <a:endParaRPr b="0" lang="en-US" sz="3600" spc="-1" strike="noStrike">
                        <a:solidFill>
                          <a:srgbClr val="535353"/>
                        </a:solidFill>
                        <a:latin typeface="Gill Sans Light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066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84280"/>
                          <a:tab algn="l" pos="1168560"/>
                          <a:tab algn="l" pos="1752480"/>
                          <a:tab algn="l" pos="2336760"/>
                          <a:tab algn="l" pos="2921040"/>
                          <a:tab algn="l" pos="3505320"/>
                          <a:tab algn="l" pos="4089240"/>
                          <a:tab algn="l" pos="4673520"/>
                          <a:tab algn="l" pos="5257800"/>
                          <a:tab algn="l" pos="5842080"/>
                          <a:tab algn="l" pos="6426360"/>
                          <a:tab algn="l" pos="7010280"/>
                          <a:tab algn="l" pos="7594560"/>
                          <a:tab algn="l" pos="8178840"/>
                          <a:tab algn="l" pos="8763120"/>
                          <a:tab algn="l" pos="9347040"/>
                          <a:tab algn="l" pos="9931320"/>
                          <a:tab algn="l" pos="10515600"/>
                        </a:tabLst>
                      </a:pPr>
                      <a:r>
                        <a:rPr b="0" lang="ru-RU" sz="3600" spc="-1" strike="noStrike">
                          <a:solidFill>
                            <a:srgbClr val="535353"/>
                          </a:solidFill>
                          <a:latin typeface="Times New Roman"/>
                        </a:rPr>
                        <a:t>1</a:t>
                      </a:r>
                      <a:endParaRPr b="0" lang="en-US" sz="3600" spc="-1" strike="noStrike">
                        <a:solidFill>
                          <a:srgbClr val="535353"/>
                        </a:solidFill>
                        <a:latin typeface="Gill Sans Light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584280"/>
                          <a:tab algn="l" pos="1168560"/>
                          <a:tab algn="l" pos="1752480"/>
                          <a:tab algn="l" pos="2336760"/>
                          <a:tab algn="l" pos="2921040"/>
                          <a:tab algn="l" pos="3505320"/>
                          <a:tab algn="l" pos="4089240"/>
                          <a:tab algn="l" pos="4673520"/>
                          <a:tab algn="l" pos="5257800"/>
                          <a:tab algn="l" pos="5842080"/>
                          <a:tab algn="l" pos="6426360"/>
                          <a:tab algn="l" pos="7010280"/>
                          <a:tab algn="l" pos="7594560"/>
                          <a:tab algn="l" pos="8178840"/>
                          <a:tab algn="l" pos="8763120"/>
                          <a:tab algn="l" pos="9347040"/>
                          <a:tab algn="l" pos="9931320"/>
                          <a:tab algn="l" pos="10515600"/>
                        </a:tabLst>
                      </a:pPr>
                      <a:r>
                        <a:rPr b="0" lang="ru-RU" sz="3600" spc="-1" strike="noStrike">
                          <a:solidFill>
                            <a:srgbClr val="535353"/>
                          </a:solidFill>
                          <a:latin typeface="Times New Roman"/>
                        </a:rPr>
                        <a:t>Да </a:t>
                      </a:r>
                      <a:endParaRPr b="0" lang="en-US" sz="3600" spc="-1" strike="noStrike">
                        <a:solidFill>
                          <a:srgbClr val="535353"/>
                        </a:solidFill>
                        <a:latin typeface="Gill Sans Light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84280"/>
                          <a:tab algn="l" pos="1168560"/>
                          <a:tab algn="l" pos="1752480"/>
                          <a:tab algn="l" pos="2336760"/>
                          <a:tab algn="l" pos="2921040"/>
                          <a:tab algn="l" pos="3505320"/>
                          <a:tab algn="l" pos="4089240"/>
                          <a:tab algn="l" pos="4673520"/>
                          <a:tab algn="l" pos="5257800"/>
                          <a:tab algn="l" pos="5842080"/>
                          <a:tab algn="l" pos="6426360"/>
                          <a:tab algn="l" pos="7010280"/>
                          <a:tab algn="l" pos="7594560"/>
                          <a:tab algn="l" pos="8178840"/>
                          <a:tab algn="l" pos="8763120"/>
                          <a:tab algn="l" pos="9347040"/>
                          <a:tab algn="l" pos="9931320"/>
                          <a:tab algn="l" pos="10515600"/>
                        </a:tabLst>
                      </a:pPr>
                      <a:r>
                        <a:rPr b="1" lang="ru-RU" sz="3600" spc="-1" strike="noStrike">
                          <a:solidFill>
                            <a:srgbClr val="535353"/>
                          </a:solidFill>
                          <a:latin typeface="Times New Roman"/>
                        </a:rPr>
                        <a:t>49,6</a:t>
                      </a:r>
                      <a:endParaRPr b="0" lang="en-US" sz="3600" spc="-1" strike="noStrike">
                        <a:solidFill>
                          <a:srgbClr val="535353"/>
                        </a:solidFill>
                        <a:latin typeface="Gill Sans Light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062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84280"/>
                          <a:tab algn="l" pos="1168560"/>
                          <a:tab algn="l" pos="1752480"/>
                          <a:tab algn="l" pos="2336760"/>
                          <a:tab algn="l" pos="2921040"/>
                          <a:tab algn="l" pos="3505320"/>
                          <a:tab algn="l" pos="4089240"/>
                          <a:tab algn="l" pos="4673520"/>
                          <a:tab algn="l" pos="5257800"/>
                          <a:tab algn="l" pos="5842080"/>
                          <a:tab algn="l" pos="6426360"/>
                          <a:tab algn="l" pos="7010280"/>
                          <a:tab algn="l" pos="7594560"/>
                          <a:tab algn="l" pos="8178840"/>
                          <a:tab algn="l" pos="8763120"/>
                          <a:tab algn="l" pos="9347040"/>
                          <a:tab algn="l" pos="9931320"/>
                          <a:tab algn="l" pos="10515600"/>
                        </a:tabLst>
                      </a:pPr>
                      <a:r>
                        <a:rPr b="0" lang="ru-RU" sz="3600" spc="-1" strike="noStrike">
                          <a:solidFill>
                            <a:srgbClr val="535353"/>
                          </a:solidFill>
                          <a:latin typeface="Times New Roman"/>
                        </a:rPr>
                        <a:t>2</a:t>
                      </a:r>
                      <a:endParaRPr b="0" lang="en-US" sz="3600" spc="-1" strike="noStrike">
                        <a:solidFill>
                          <a:srgbClr val="535353"/>
                        </a:solidFill>
                        <a:latin typeface="Gill Sans Light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584280"/>
                          <a:tab algn="l" pos="1168560"/>
                          <a:tab algn="l" pos="1752480"/>
                          <a:tab algn="l" pos="2336760"/>
                          <a:tab algn="l" pos="2921040"/>
                          <a:tab algn="l" pos="3505320"/>
                          <a:tab algn="l" pos="4089240"/>
                          <a:tab algn="l" pos="4673520"/>
                          <a:tab algn="l" pos="5257800"/>
                          <a:tab algn="l" pos="5842080"/>
                          <a:tab algn="l" pos="6426360"/>
                          <a:tab algn="l" pos="7010280"/>
                          <a:tab algn="l" pos="7594560"/>
                          <a:tab algn="l" pos="8178840"/>
                          <a:tab algn="l" pos="8763120"/>
                          <a:tab algn="l" pos="9347040"/>
                          <a:tab algn="l" pos="9931320"/>
                          <a:tab algn="l" pos="10515600"/>
                        </a:tabLst>
                      </a:pPr>
                      <a:r>
                        <a:rPr b="0" lang="ru-RU" sz="3600" spc="-1" strike="noStrike">
                          <a:solidFill>
                            <a:srgbClr val="535353"/>
                          </a:solidFill>
                          <a:latin typeface="Times New Roman"/>
                        </a:rPr>
                        <a:t>Нет </a:t>
                      </a:r>
                      <a:endParaRPr b="0" lang="en-US" sz="3600" spc="-1" strike="noStrike">
                        <a:solidFill>
                          <a:srgbClr val="535353"/>
                        </a:solidFill>
                        <a:latin typeface="Gill Sans Light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84280"/>
                          <a:tab algn="l" pos="1168560"/>
                          <a:tab algn="l" pos="1752480"/>
                          <a:tab algn="l" pos="2336760"/>
                          <a:tab algn="l" pos="2921040"/>
                          <a:tab algn="l" pos="3505320"/>
                          <a:tab algn="l" pos="4089240"/>
                          <a:tab algn="l" pos="4673520"/>
                          <a:tab algn="l" pos="5257800"/>
                          <a:tab algn="l" pos="5842080"/>
                          <a:tab algn="l" pos="6426360"/>
                          <a:tab algn="l" pos="7010280"/>
                          <a:tab algn="l" pos="7594560"/>
                          <a:tab algn="l" pos="8178840"/>
                          <a:tab algn="l" pos="8763120"/>
                          <a:tab algn="l" pos="9347040"/>
                          <a:tab algn="l" pos="9931320"/>
                          <a:tab algn="l" pos="10515600"/>
                        </a:tabLst>
                      </a:pPr>
                      <a:r>
                        <a:rPr b="0" lang="ru-RU" sz="3600" spc="-1" strike="noStrike">
                          <a:solidFill>
                            <a:srgbClr val="535353"/>
                          </a:solidFill>
                          <a:latin typeface="Times New Roman"/>
                        </a:rPr>
                        <a:t>21,9</a:t>
                      </a:r>
                      <a:endParaRPr b="0" lang="en-US" sz="3600" spc="-1" strike="noStrike">
                        <a:solidFill>
                          <a:srgbClr val="535353"/>
                        </a:solidFill>
                        <a:latin typeface="Gill Sans Light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08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84280"/>
                          <a:tab algn="l" pos="1168560"/>
                          <a:tab algn="l" pos="1752480"/>
                          <a:tab algn="l" pos="2336760"/>
                          <a:tab algn="l" pos="2921040"/>
                          <a:tab algn="l" pos="3505320"/>
                          <a:tab algn="l" pos="4089240"/>
                          <a:tab algn="l" pos="4673520"/>
                          <a:tab algn="l" pos="5257800"/>
                          <a:tab algn="l" pos="5842080"/>
                          <a:tab algn="l" pos="6426360"/>
                          <a:tab algn="l" pos="7010280"/>
                          <a:tab algn="l" pos="7594560"/>
                          <a:tab algn="l" pos="8178840"/>
                          <a:tab algn="l" pos="8763120"/>
                          <a:tab algn="l" pos="9347040"/>
                          <a:tab algn="l" pos="9931320"/>
                          <a:tab algn="l" pos="10515600"/>
                        </a:tabLst>
                      </a:pPr>
                      <a:r>
                        <a:rPr b="0" lang="ru-RU" sz="3600" spc="-1" strike="noStrike">
                          <a:solidFill>
                            <a:srgbClr val="535353"/>
                          </a:solidFill>
                          <a:latin typeface="Times New Roman"/>
                        </a:rPr>
                        <a:t>3</a:t>
                      </a:r>
                      <a:endParaRPr b="0" lang="en-US" sz="3600" spc="-1" strike="noStrike">
                        <a:solidFill>
                          <a:srgbClr val="535353"/>
                        </a:solidFill>
                        <a:latin typeface="Gill Sans Light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584280"/>
                          <a:tab algn="l" pos="1168560"/>
                          <a:tab algn="l" pos="1752480"/>
                          <a:tab algn="l" pos="2336760"/>
                          <a:tab algn="l" pos="2921040"/>
                          <a:tab algn="l" pos="3505320"/>
                          <a:tab algn="l" pos="4089240"/>
                          <a:tab algn="l" pos="4673520"/>
                          <a:tab algn="l" pos="5257800"/>
                          <a:tab algn="l" pos="5842080"/>
                          <a:tab algn="l" pos="6426360"/>
                          <a:tab algn="l" pos="7010280"/>
                          <a:tab algn="l" pos="7594560"/>
                          <a:tab algn="l" pos="8178840"/>
                          <a:tab algn="l" pos="8763120"/>
                          <a:tab algn="l" pos="9347040"/>
                          <a:tab algn="l" pos="9931320"/>
                          <a:tab algn="l" pos="10515600"/>
                        </a:tabLst>
                      </a:pPr>
                      <a:r>
                        <a:rPr b="0" lang="ru-RU" sz="3600" spc="-1" strike="noStrike">
                          <a:solidFill>
                            <a:srgbClr val="535353"/>
                          </a:solidFill>
                          <a:latin typeface="Times New Roman"/>
                        </a:rPr>
                        <a:t>Затруднились ответить</a:t>
                      </a:r>
                      <a:endParaRPr b="0" lang="en-US" sz="3600" spc="-1" strike="noStrike">
                        <a:solidFill>
                          <a:srgbClr val="535353"/>
                        </a:solidFill>
                        <a:latin typeface="Gill Sans Light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84280"/>
                          <a:tab algn="l" pos="1168560"/>
                          <a:tab algn="l" pos="1752480"/>
                          <a:tab algn="l" pos="2336760"/>
                          <a:tab algn="l" pos="2921040"/>
                          <a:tab algn="l" pos="3505320"/>
                          <a:tab algn="l" pos="4089240"/>
                          <a:tab algn="l" pos="4673520"/>
                          <a:tab algn="l" pos="5257800"/>
                          <a:tab algn="l" pos="5842080"/>
                          <a:tab algn="l" pos="6426360"/>
                          <a:tab algn="l" pos="7010280"/>
                          <a:tab algn="l" pos="7594560"/>
                          <a:tab algn="l" pos="8178840"/>
                          <a:tab algn="l" pos="8763120"/>
                          <a:tab algn="l" pos="9347040"/>
                          <a:tab algn="l" pos="9931320"/>
                          <a:tab algn="l" pos="10515600"/>
                        </a:tabLst>
                      </a:pPr>
                      <a:r>
                        <a:rPr b="0" lang="ru-RU" sz="3600" spc="-1" strike="noStrike">
                          <a:solidFill>
                            <a:srgbClr val="535353"/>
                          </a:solidFill>
                          <a:latin typeface="Times New Roman"/>
                        </a:rPr>
                        <a:t>28,5</a:t>
                      </a:r>
                      <a:endParaRPr b="0" lang="en-US" sz="3600" spc="-1" strike="noStrike">
                        <a:solidFill>
                          <a:srgbClr val="535353"/>
                        </a:solidFill>
                        <a:latin typeface="Gill Sans Light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1" name="Rectangle 1"/>
          <p:cNvSpPr/>
          <p:nvPr/>
        </p:nvSpPr>
        <p:spPr>
          <a:xfrm>
            <a:off x="142920" y="170280"/>
            <a:ext cx="12574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35353"/>
                </a:solidFill>
                <a:latin typeface="Times New Roman"/>
                <a:ea typeface="Times New Roman"/>
              </a:rPr>
              <a:t>Распределение ответов на вопрос «Как Вы думаете, победила бы сейчас наша страна в такой войне?»</a:t>
            </a:r>
            <a:endParaRPr b="0" lang="en-US" sz="3200" spc="-1" strike="noStrike">
              <a:solidFill>
                <a:srgbClr val="535353"/>
              </a:solidFill>
              <a:latin typeface="Gill Sans Light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35353"/>
              </a:solidFill>
              <a:latin typeface="Gill Sans Light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1"/>
          <p:cNvSpPr/>
          <p:nvPr/>
        </p:nvSpPr>
        <p:spPr>
          <a:xfrm>
            <a:off x="358920" y="331560"/>
            <a:ext cx="12358440" cy="88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35353"/>
                </a:solidFill>
                <a:latin typeface="Times New Roman"/>
                <a:ea typeface="Times New Roman"/>
              </a:rPr>
              <a:t>Учащимся и студентам был задан открытый вопрос «продолжите, пожалуйста, Патриот – это…». Ответы на данный вопрос показали, что респонденты не связывают патриотизм с привязанностью к конкретному месту, патриотизм – это больше не преданность своей малой родине. Сейчас для молодого человека вполне можно быть патриотом и хотеть жить в Америке. Они не считают, что должны жить там, где они родились. </a:t>
            </a:r>
            <a:endParaRPr b="0" lang="en-US" sz="3200" spc="-1" strike="noStrike">
              <a:solidFill>
                <a:srgbClr val="535353"/>
              </a:solidFill>
              <a:latin typeface="Gill Sans Light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35353"/>
                </a:solidFill>
                <a:latin typeface="Times New Roman"/>
                <a:ea typeface="Times New Roman"/>
              </a:rPr>
              <a:t>Патриотизм связан с эмоциями, чувствами – это любовь, гордость за свою страну, но не за нацию. Среди чувств, связанных с патриотизмом, были названы: любовь, гордость, вера, уважение, мужество, преданность, надежда, самоотверженность. Патриот воспринимается как гражданин, защитник Отечества, почитатель Родины. Практически во всех ответах понятие патриотизма связано именно с Родиной, верностью стране, но не нации или малой родине. </a:t>
            </a:r>
            <a:endParaRPr b="0" lang="en-US" sz="3200" spc="-1" strike="noStrike">
              <a:solidFill>
                <a:srgbClr val="535353"/>
              </a:solidFill>
              <a:latin typeface="Gill Sans Light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35353"/>
                </a:solidFill>
                <a:latin typeface="Times New Roman"/>
                <a:ea typeface="Times New Roman"/>
              </a:rPr>
              <a:t>Патриотизм для молодых людей все больше переносится во внутреннее, личностное пространство эмоций, чувств, привязанностей и все меньше связан с внешними институтами – государством, политикой. </a:t>
            </a:r>
            <a:endParaRPr b="0" lang="en-US" sz="3200" spc="-1" strike="noStrike">
              <a:solidFill>
                <a:srgbClr val="535353"/>
              </a:solidFill>
              <a:latin typeface="Gill Sans Light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3" name=""/>
          <p:cNvGraphicFramePr/>
          <p:nvPr/>
        </p:nvGraphicFramePr>
        <p:xfrm>
          <a:off x="644400" y="1447920"/>
          <a:ext cx="12001680" cy="3500280"/>
        </p:xfrm>
        <a:graphic>
          <a:graphicData uri="http://schemas.openxmlformats.org/drawingml/2006/table">
            <a:tbl>
              <a:tblPr/>
              <a:tblGrid>
                <a:gridCol w="919440"/>
                <a:gridCol w="5543280"/>
                <a:gridCol w="5538960"/>
              </a:tblGrid>
              <a:tr h="9698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584280"/>
                          <a:tab algn="l" pos="1168560"/>
                          <a:tab algn="l" pos="1752480"/>
                          <a:tab algn="l" pos="2336760"/>
                          <a:tab algn="l" pos="2921040"/>
                          <a:tab algn="l" pos="3505320"/>
                          <a:tab algn="l" pos="4089240"/>
                          <a:tab algn="l" pos="4673520"/>
                          <a:tab algn="l" pos="5257800"/>
                          <a:tab algn="l" pos="5842080"/>
                          <a:tab algn="l" pos="6426360"/>
                          <a:tab algn="l" pos="7010280"/>
                          <a:tab algn="l" pos="7594560"/>
                          <a:tab algn="l" pos="8178840"/>
                          <a:tab algn="l" pos="8763120"/>
                          <a:tab algn="l" pos="9347040"/>
                          <a:tab algn="l" pos="9931320"/>
                          <a:tab algn="l" pos="10515600"/>
                        </a:tabLst>
                      </a:pPr>
                      <a:endParaRPr b="0" lang="en-US" sz="3600" spc="-1" strike="noStrike">
                        <a:solidFill>
                          <a:srgbClr val="535353"/>
                        </a:solidFill>
                        <a:latin typeface="Gill Sans Light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84280"/>
                          <a:tab algn="l" pos="1168560"/>
                          <a:tab algn="l" pos="1752480"/>
                          <a:tab algn="l" pos="2336760"/>
                          <a:tab algn="l" pos="2921040"/>
                          <a:tab algn="l" pos="3505320"/>
                          <a:tab algn="l" pos="4089240"/>
                          <a:tab algn="l" pos="4673520"/>
                          <a:tab algn="l" pos="5257800"/>
                          <a:tab algn="l" pos="5842080"/>
                          <a:tab algn="l" pos="6426360"/>
                          <a:tab algn="l" pos="7010280"/>
                          <a:tab algn="l" pos="7594560"/>
                          <a:tab algn="l" pos="8178840"/>
                          <a:tab algn="l" pos="8763120"/>
                          <a:tab algn="l" pos="9347040"/>
                          <a:tab algn="l" pos="9931320"/>
                          <a:tab algn="l" pos="10515600"/>
                        </a:tabLst>
                      </a:pPr>
                      <a:r>
                        <a:rPr b="0" i="1" lang="ru-RU" sz="3200" spc="-1" strike="noStrike">
                          <a:solidFill>
                            <a:srgbClr val="535353"/>
                          </a:solidFill>
                          <a:latin typeface="Times New Roman"/>
                        </a:rPr>
                        <a:t>Варианты ответа</a:t>
                      </a:r>
                      <a:endParaRPr b="0" lang="en-US" sz="3200" spc="-1" strike="noStrike">
                        <a:solidFill>
                          <a:srgbClr val="535353"/>
                        </a:solidFill>
                        <a:latin typeface="Gill Sans Light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84280"/>
                          <a:tab algn="l" pos="1168560"/>
                          <a:tab algn="l" pos="1752480"/>
                          <a:tab algn="l" pos="2336760"/>
                          <a:tab algn="l" pos="2921040"/>
                          <a:tab algn="l" pos="3505320"/>
                          <a:tab algn="l" pos="4089240"/>
                          <a:tab algn="l" pos="4673520"/>
                          <a:tab algn="l" pos="5257800"/>
                          <a:tab algn="l" pos="5842080"/>
                          <a:tab algn="l" pos="6426360"/>
                          <a:tab algn="l" pos="7010280"/>
                          <a:tab algn="l" pos="7594560"/>
                          <a:tab algn="l" pos="8178840"/>
                          <a:tab algn="l" pos="8763120"/>
                          <a:tab algn="l" pos="9347040"/>
                          <a:tab algn="l" pos="9931320"/>
                          <a:tab algn="l" pos="10515600"/>
                        </a:tabLst>
                      </a:pPr>
                      <a:r>
                        <a:rPr b="0" lang="ru-RU" sz="3200" spc="-1" strike="noStrike">
                          <a:solidFill>
                            <a:srgbClr val="535353"/>
                          </a:solidFill>
                          <a:latin typeface="Times New Roman"/>
                        </a:rPr>
                        <a:t>%</a:t>
                      </a:r>
                      <a:endParaRPr b="0" lang="en-US" sz="3200" spc="-1" strike="noStrike">
                        <a:solidFill>
                          <a:srgbClr val="535353"/>
                        </a:solidFill>
                        <a:latin typeface="Gill Sans Light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31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84280"/>
                          <a:tab algn="l" pos="1168560"/>
                          <a:tab algn="l" pos="1752480"/>
                          <a:tab algn="l" pos="2336760"/>
                          <a:tab algn="l" pos="2921040"/>
                          <a:tab algn="l" pos="3505320"/>
                          <a:tab algn="l" pos="4089240"/>
                          <a:tab algn="l" pos="4673520"/>
                          <a:tab algn="l" pos="5257800"/>
                          <a:tab algn="l" pos="5842080"/>
                          <a:tab algn="l" pos="6426360"/>
                          <a:tab algn="l" pos="7010280"/>
                          <a:tab algn="l" pos="7594560"/>
                          <a:tab algn="l" pos="8178840"/>
                          <a:tab algn="l" pos="8763120"/>
                          <a:tab algn="l" pos="9347040"/>
                          <a:tab algn="l" pos="9931320"/>
                          <a:tab algn="l" pos="10515600"/>
                        </a:tabLst>
                      </a:pPr>
                      <a:r>
                        <a:rPr b="0" lang="ru-RU" sz="3200" spc="-1" strike="noStrike">
                          <a:solidFill>
                            <a:srgbClr val="535353"/>
                          </a:solidFill>
                          <a:latin typeface="Times New Roman"/>
                        </a:rPr>
                        <a:t>1</a:t>
                      </a:r>
                      <a:endParaRPr b="0" lang="en-US" sz="3200" spc="-1" strike="noStrike">
                        <a:solidFill>
                          <a:srgbClr val="535353"/>
                        </a:solidFill>
                        <a:latin typeface="Gill Sans Light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584280"/>
                          <a:tab algn="l" pos="1168560"/>
                          <a:tab algn="l" pos="1752480"/>
                          <a:tab algn="l" pos="2336760"/>
                          <a:tab algn="l" pos="2921040"/>
                          <a:tab algn="l" pos="3505320"/>
                          <a:tab algn="l" pos="4089240"/>
                          <a:tab algn="l" pos="4673520"/>
                          <a:tab algn="l" pos="5257800"/>
                          <a:tab algn="l" pos="5842080"/>
                          <a:tab algn="l" pos="6426360"/>
                          <a:tab algn="l" pos="7010280"/>
                          <a:tab algn="l" pos="7594560"/>
                          <a:tab algn="l" pos="8178840"/>
                          <a:tab algn="l" pos="8763120"/>
                          <a:tab algn="l" pos="9347040"/>
                          <a:tab algn="l" pos="9931320"/>
                          <a:tab algn="l" pos="10515600"/>
                        </a:tabLst>
                      </a:pPr>
                      <a:r>
                        <a:rPr b="0" lang="ru-RU" sz="3200" spc="-1" strike="noStrike">
                          <a:solidFill>
                            <a:srgbClr val="535353"/>
                          </a:solidFill>
                          <a:latin typeface="Times New Roman"/>
                        </a:rPr>
                        <a:t>Да </a:t>
                      </a:r>
                      <a:endParaRPr b="0" lang="en-US" sz="3200" spc="-1" strike="noStrike">
                        <a:solidFill>
                          <a:srgbClr val="535353"/>
                        </a:solidFill>
                        <a:latin typeface="Gill Sans Light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84280"/>
                          <a:tab algn="l" pos="1168560"/>
                          <a:tab algn="l" pos="1752480"/>
                          <a:tab algn="l" pos="2336760"/>
                          <a:tab algn="l" pos="2921040"/>
                          <a:tab algn="l" pos="3505320"/>
                          <a:tab algn="l" pos="4089240"/>
                          <a:tab algn="l" pos="4673520"/>
                          <a:tab algn="l" pos="5257800"/>
                          <a:tab algn="l" pos="5842080"/>
                          <a:tab algn="l" pos="6426360"/>
                          <a:tab algn="l" pos="7010280"/>
                          <a:tab algn="l" pos="7594560"/>
                          <a:tab algn="l" pos="8178840"/>
                          <a:tab algn="l" pos="8763120"/>
                          <a:tab algn="l" pos="9347040"/>
                          <a:tab algn="l" pos="9931320"/>
                          <a:tab algn="l" pos="10515600"/>
                        </a:tabLst>
                      </a:pPr>
                      <a:r>
                        <a:rPr b="1" lang="ru-RU" sz="3200" spc="-1" strike="noStrike">
                          <a:solidFill>
                            <a:srgbClr val="535353"/>
                          </a:solidFill>
                          <a:latin typeface="Times New Roman"/>
                        </a:rPr>
                        <a:t>63</a:t>
                      </a:r>
                      <a:endParaRPr b="0" lang="en-US" sz="3200" spc="-1" strike="noStrike">
                        <a:solidFill>
                          <a:srgbClr val="535353"/>
                        </a:solidFill>
                        <a:latin typeface="Gill Sans Light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45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84280"/>
                          <a:tab algn="l" pos="1168560"/>
                          <a:tab algn="l" pos="1752480"/>
                          <a:tab algn="l" pos="2336760"/>
                          <a:tab algn="l" pos="2921040"/>
                          <a:tab algn="l" pos="3505320"/>
                          <a:tab algn="l" pos="4089240"/>
                          <a:tab algn="l" pos="4673520"/>
                          <a:tab algn="l" pos="5257800"/>
                          <a:tab algn="l" pos="5842080"/>
                          <a:tab algn="l" pos="6426360"/>
                          <a:tab algn="l" pos="7010280"/>
                          <a:tab algn="l" pos="7594560"/>
                          <a:tab algn="l" pos="8178840"/>
                          <a:tab algn="l" pos="8763120"/>
                          <a:tab algn="l" pos="9347040"/>
                          <a:tab algn="l" pos="9931320"/>
                          <a:tab algn="l" pos="10515600"/>
                        </a:tabLst>
                      </a:pPr>
                      <a:r>
                        <a:rPr b="0" lang="ru-RU" sz="3200" spc="-1" strike="noStrike">
                          <a:solidFill>
                            <a:srgbClr val="535353"/>
                          </a:solidFill>
                          <a:latin typeface="Times New Roman"/>
                        </a:rPr>
                        <a:t>2</a:t>
                      </a:r>
                      <a:endParaRPr b="0" lang="en-US" sz="3200" spc="-1" strike="noStrike">
                        <a:solidFill>
                          <a:srgbClr val="535353"/>
                        </a:solidFill>
                        <a:latin typeface="Gill Sans Light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584280"/>
                          <a:tab algn="l" pos="1168560"/>
                          <a:tab algn="l" pos="1752480"/>
                          <a:tab algn="l" pos="2336760"/>
                          <a:tab algn="l" pos="2921040"/>
                          <a:tab algn="l" pos="3505320"/>
                          <a:tab algn="l" pos="4089240"/>
                          <a:tab algn="l" pos="4673520"/>
                          <a:tab algn="l" pos="5257800"/>
                          <a:tab algn="l" pos="5842080"/>
                          <a:tab algn="l" pos="6426360"/>
                          <a:tab algn="l" pos="7010280"/>
                          <a:tab algn="l" pos="7594560"/>
                          <a:tab algn="l" pos="8178840"/>
                          <a:tab algn="l" pos="8763120"/>
                          <a:tab algn="l" pos="9347040"/>
                          <a:tab algn="l" pos="9931320"/>
                          <a:tab algn="l" pos="10515600"/>
                        </a:tabLst>
                      </a:pPr>
                      <a:r>
                        <a:rPr b="0" lang="ru-RU" sz="3200" spc="-1" strike="noStrike">
                          <a:solidFill>
                            <a:srgbClr val="535353"/>
                          </a:solidFill>
                          <a:latin typeface="Times New Roman"/>
                        </a:rPr>
                        <a:t>Нет </a:t>
                      </a:r>
                      <a:endParaRPr b="0" lang="en-US" sz="3200" spc="-1" strike="noStrike">
                        <a:solidFill>
                          <a:srgbClr val="535353"/>
                        </a:solidFill>
                        <a:latin typeface="Gill Sans Light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84280"/>
                          <a:tab algn="l" pos="1168560"/>
                          <a:tab algn="l" pos="1752480"/>
                          <a:tab algn="l" pos="2336760"/>
                          <a:tab algn="l" pos="2921040"/>
                          <a:tab algn="l" pos="3505320"/>
                          <a:tab algn="l" pos="4089240"/>
                          <a:tab algn="l" pos="4673520"/>
                          <a:tab algn="l" pos="5257800"/>
                          <a:tab algn="l" pos="5842080"/>
                          <a:tab algn="l" pos="6426360"/>
                          <a:tab algn="l" pos="7010280"/>
                          <a:tab algn="l" pos="7594560"/>
                          <a:tab algn="l" pos="8178840"/>
                          <a:tab algn="l" pos="8763120"/>
                          <a:tab algn="l" pos="9347040"/>
                          <a:tab algn="l" pos="9931320"/>
                          <a:tab algn="l" pos="10515600"/>
                        </a:tabLst>
                      </a:pPr>
                      <a:r>
                        <a:rPr b="0" lang="ru-RU" sz="3200" spc="-1" strike="noStrike">
                          <a:solidFill>
                            <a:srgbClr val="535353"/>
                          </a:solidFill>
                          <a:latin typeface="Times New Roman"/>
                        </a:rPr>
                        <a:t>12,9</a:t>
                      </a:r>
                      <a:endParaRPr b="0" lang="en-US" sz="3200" spc="-1" strike="noStrike">
                        <a:solidFill>
                          <a:srgbClr val="535353"/>
                        </a:solidFill>
                        <a:latin typeface="Gill Sans Light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27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84280"/>
                          <a:tab algn="l" pos="1168560"/>
                          <a:tab algn="l" pos="1752480"/>
                          <a:tab algn="l" pos="2336760"/>
                          <a:tab algn="l" pos="2921040"/>
                          <a:tab algn="l" pos="3505320"/>
                          <a:tab algn="l" pos="4089240"/>
                          <a:tab algn="l" pos="4673520"/>
                          <a:tab algn="l" pos="5257800"/>
                          <a:tab algn="l" pos="5842080"/>
                          <a:tab algn="l" pos="6426360"/>
                          <a:tab algn="l" pos="7010280"/>
                          <a:tab algn="l" pos="7594560"/>
                          <a:tab algn="l" pos="8178840"/>
                          <a:tab algn="l" pos="8763120"/>
                          <a:tab algn="l" pos="9347040"/>
                          <a:tab algn="l" pos="9931320"/>
                          <a:tab algn="l" pos="10515600"/>
                        </a:tabLst>
                      </a:pPr>
                      <a:r>
                        <a:rPr b="0" lang="ru-RU" sz="3200" spc="-1" strike="noStrike">
                          <a:solidFill>
                            <a:srgbClr val="535353"/>
                          </a:solidFill>
                          <a:latin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535353"/>
                        </a:solidFill>
                        <a:latin typeface="Gill Sans Light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584280"/>
                          <a:tab algn="l" pos="1168560"/>
                          <a:tab algn="l" pos="1752480"/>
                          <a:tab algn="l" pos="2336760"/>
                          <a:tab algn="l" pos="2921040"/>
                          <a:tab algn="l" pos="3505320"/>
                          <a:tab algn="l" pos="4089240"/>
                          <a:tab algn="l" pos="4673520"/>
                          <a:tab algn="l" pos="5257800"/>
                          <a:tab algn="l" pos="5842080"/>
                          <a:tab algn="l" pos="6426360"/>
                          <a:tab algn="l" pos="7010280"/>
                          <a:tab algn="l" pos="7594560"/>
                          <a:tab algn="l" pos="8178840"/>
                          <a:tab algn="l" pos="8763120"/>
                          <a:tab algn="l" pos="9347040"/>
                          <a:tab algn="l" pos="9931320"/>
                          <a:tab algn="l" pos="10515600"/>
                        </a:tabLst>
                      </a:pPr>
                      <a:r>
                        <a:rPr b="0" lang="ru-RU" sz="3200" spc="-1" strike="noStrike">
                          <a:solidFill>
                            <a:srgbClr val="535353"/>
                          </a:solidFill>
                          <a:latin typeface="Times New Roman"/>
                        </a:rPr>
                        <a:t>Затруднились ответить</a:t>
                      </a:r>
                      <a:endParaRPr b="0" lang="en-US" sz="3200" spc="-1" strike="noStrike">
                        <a:solidFill>
                          <a:srgbClr val="535353"/>
                        </a:solidFill>
                        <a:latin typeface="Gill Sans Light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84280"/>
                          <a:tab algn="l" pos="1168560"/>
                          <a:tab algn="l" pos="1752480"/>
                          <a:tab algn="l" pos="2336760"/>
                          <a:tab algn="l" pos="2921040"/>
                          <a:tab algn="l" pos="3505320"/>
                          <a:tab algn="l" pos="4089240"/>
                          <a:tab algn="l" pos="4673520"/>
                          <a:tab algn="l" pos="5257800"/>
                          <a:tab algn="l" pos="5842080"/>
                          <a:tab algn="l" pos="6426360"/>
                          <a:tab algn="l" pos="7010280"/>
                          <a:tab algn="l" pos="7594560"/>
                          <a:tab algn="l" pos="8178840"/>
                          <a:tab algn="l" pos="8763120"/>
                          <a:tab algn="l" pos="9347040"/>
                          <a:tab algn="l" pos="9931320"/>
                          <a:tab algn="l" pos="10515600"/>
                        </a:tabLst>
                      </a:pPr>
                      <a:r>
                        <a:rPr b="0" lang="ru-RU" sz="3200" spc="-1" strike="noStrike">
                          <a:solidFill>
                            <a:srgbClr val="535353"/>
                          </a:solidFill>
                          <a:latin typeface="Times New Roman"/>
                        </a:rPr>
                        <a:t>24,1</a:t>
                      </a:r>
                      <a:endParaRPr b="0" lang="en-US" sz="3200" spc="-1" strike="noStrike">
                        <a:solidFill>
                          <a:srgbClr val="535353"/>
                        </a:solidFill>
                        <a:latin typeface="Gill Sans Light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4" name="Rectangle 1"/>
          <p:cNvSpPr/>
          <p:nvPr/>
        </p:nvSpPr>
        <p:spPr>
          <a:xfrm>
            <a:off x="216000" y="94680"/>
            <a:ext cx="12501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535353"/>
                </a:solidFill>
                <a:latin typeface="Times New Roman"/>
                <a:ea typeface="Times New Roman"/>
              </a:rPr>
              <a:t>Распределение ответов на вопрос «Считаете ли Вы себя патриотом?»</a:t>
            </a:r>
            <a:endParaRPr b="0" lang="en-US" sz="3600" spc="-1" strike="noStrike">
              <a:solidFill>
                <a:srgbClr val="535353"/>
              </a:solidFill>
              <a:latin typeface="Gill Sans Light"/>
            </a:endParaRPr>
          </a:p>
        </p:txBody>
      </p:sp>
      <p:sp>
        <p:nvSpPr>
          <p:cNvPr id="85" name="Прямоугольник 5"/>
          <p:cNvSpPr/>
          <p:nvPr/>
        </p:nvSpPr>
        <p:spPr>
          <a:xfrm>
            <a:off x="287280" y="5337000"/>
            <a:ext cx="124300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35353"/>
                </a:solidFill>
                <a:latin typeface="Times New Roman"/>
                <a:ea typeface="Times New Roman"/>
              </a:rPr>
              <a:t>Примерно равное количество учащихся  - молодых людей и девушек считают себя патриотами (62,5% и 63,2% соответственно).</a:t>
            </a:r>
            <a:endParaRPr b="0" lang="en-US" sz="3200" spc="-1" strike="noStrike">
              <a:solidFill>
                <a:srgbClr val="535353"/>
              </a:solidFill>
              <a:latin typeface="Gill Sans Light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35353"/>
                </a:solidFill>
                <a:latin typeface="Times New Roman"/>
                <a:ea typeface="Times New Roman"/>
              </a:rPr>
              <a:t>Патриотами себя считают студенты ВУЗов (71,7%), средних специальных учебных заведений (55,6%), учащиеся школ (61,2%), учащиеся гимназий и лицеев (58,4%). Наибольшее количество не определившихся в отношении патриотизма у студентов, получающих среднее профессиональное образование (30%). </a:t>
            </a:r>
            <a:endParaRPr b="0" lang="en-US" sz="3200" spc="-1" strike="noStrike">
              <a:solidFill>
                <a:srgbClr val="535353"/>
              </a:solidFill>
              <a:latin typeface="Gill Sans Light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740880" y="380520"/>
            <a:ext cx="11665080" cy="899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401760"/>
                <a:tab algn="l" pos="803160"/>
                <a:tab algn="l" pos="1204920"/>
                <a:tab algn="l" pos="1606680"/>
                <a:tab algn="l" pos="2008080"/>
                <a:tab algn="l" pos="2409840"/>
                <a:tab algn="l" pos="2811600"/>
                <a:tab algn="l" pos="3213000"/>
                <a:tab algn="l" pos="3614760"/>
                <a:tab algn="l" pos="4016520"/>
                <a:tab algn="l" pos="4417920"/>
                <a:tab algn="l" pos="4819680"/>
                <a:tab algn="l" pos="5221440"/>
                <a:tab algn="l" pos="5622840"/>
                <a:tab algn="l" pos="6024600"/>
                <a:tab algn="l" pos="6426360"/>
                <a:tab algn="l" pos="6827760"/>
                <a:tab algn="l" pos="7229520"/>
                <a:tab algn="l" pos="7631280"/>
                <a:tab algn="l" pos="803268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Задачи исследования: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2600"/>
            </a:b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1.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Выявить заинтересованность в изучении истории своей страны.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2.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Изучить восприятие образа войны  учащейся молодежью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3.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Выявить ассоциативный ряд, связанный с феноменом войны.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4.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Определить уровень информированности учащейся молодежи об основных событиях Великой Отечественной войны, героях ВОВ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5.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Исследовать, какое содержание учащиеся вкладывают в понятие патриотизма, считают ли они себя патриотами.</a:t>
            </a:r>
            <a:br>
              <a:rPr sz="2600"/>
            </a:br>
            <a:br>
              <a:rPr sz="2600"/>
            </a:b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Метод проведения исследования: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 анкетный опрос по месту обучения респондентов, выборка квотирована по полу и уровню получаемого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образования (старшеклассники, учащиеся средних профессиональных учебных заведений, студенты высших учебных заведений).</a:t>
            </a:r>
            <a:br>
              <a:rPr sz="2600"/>
            </a:b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Место проведения исследования: г.Ульяновск. 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Полевой этап: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марта – 10 апреля 2015 года.</a:t>
            </a:r>
            <a:endParaRPr b="0" lang="en-US" sz="2600" spc="-1" strike="noStrike">
              <a:solidFill>
                <a:srgbClr val="535353"/>
              </a:solidFill>
              <a:latin typeface="Gill Sans Light"/>
            </a:endParaRPr>
          </a:p>
        </p:txBody>
      </p:sp>
    </p:spTree>
  </p:cSld>
  <p:transition spd="slow"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55320" y="254160"/>
            <a:ext cx="12293640" cy="12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ru-RU" sz="5400" spc="-1" strike="noStrike">
                <a:solidFill>
                  <a:srgbClr val="535353"/>
                </a:solidFill>
                <a:latin typeface="Gill Sans Light"/>
              </a:rPr>
              <a:t> </a:t>
            </a:r>
            <a:r>
              <a:rPr b="0" lang="ru-RU" sz="5400" spc="-1" strike="noStrike">
                <a:solidFill>
                  <a:srgbClr val="535353"/>
                </a:solidFill>
                <a:latin typeface="Gill Sans Light"/>
              </a:rPr>
              <a:t>РЕКОМЕНДАЦИИ</a:t>
            </a:r>
            <a:endParaRPr b="0" lang="en-US" sz="5400" spc="-1" strike="noStrike">
              <a:solidFill>
                <a:srgbClr val="535353"/>
              </a:solidFill>
              <a:latin typeface="Gill Sans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55320" y="1447560"/>
            <a:ext cx="12293640" cy="758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 fontScale="77000"/>
          </a:bodyPr>
          <a:p>
            <a:pPr marL="702720" indent="0" algn="just">
              <a:lnSpc>
                <a:spcPct val="100000"/>
              </a:lnSpc>
              <a:buNone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535353"/>
              </a:solidFill>
              <a:latin typeface="Gill Sans Light"/>
            </a:endParaRPr>
          </a:p>
          <a:p>
            <a:pPr marL="702720" indent="0" algn="just">
              <a:lnSpc>
                <a:spcPct val="100000"/>
              </a:lnSpc>
              <a:buNone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535353"/>
              </a:solidFill>
              <a:latin typeface="Gill Sans Light"/>
            </a:endParaRPr>
          </a:p>
          <a:p>
            <a:pPr marL="702720" indent="0" algn="just">
              <a:lnSpc>
                <a:spcPct val="100000"/>
              </a:lnSpc>
              <a:buNone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535353"/>
              </a:solidFill>
              <a:latin typeface="Gill Sans Light"/>
            </a:endParaRPr>
          </a:p>
          <a:p>
            <a:pPr marL="702720" indent="0" algn="just">
              <a:lnSpc>
                <a:spcPct val="100000"/>
              </a:lnSpc>
              <a:buNone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535353"/>
              </a:solidFill>
              <a:latin typeface="Gill Sans Light"/>
            </a:endParaRPr>
          </a:p>
          <a:p>
            <a:pPr marL="702720" indent="0" algn="just">
              <a:lnSpc>
                <a:spcPct val="100000"/>
              </a:lnSpc>
              <a:buNone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535353"/>
              </a:solidFill>
              <a:latin typeface="Gill Sans Light"/>
            </a:endParaRPr>
          </a:p>
          <a:p>
            <a:pPr marL="702720" indent="0" algn="just">
              <a:lnSpc>
                <a:spcPct val="100000"/>
              </a:lnSpc>
              <a:buNone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535353"/>
              </a:solidFill>
              <a:latin typeface="Gill Sans Light"/>
            </a:endParaRPr>
          </a:p>
          <a:p>
            <a:pPr marL="702720" indent="0" algn="just">
              <a:lnSpc>
                <a:spcPct val="100000"/>
              </a:lnSpc>
              <a:buNone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535353"/>
              </a:solidFill>
              <a:latin typeface="Gill Sans Light"/>
            </a:endParaRPr>
          </a:p>
          <a:p>
            <a:pPr marL="702720" indent="-702720" algn="just">
              <a:lnSpc>
                <a:spcPct val="100000"/>
              </a:lnSpc>
              <a:buClr>
                <a:srgbClr val="535353"/>
              </a:buClr>
              <a:buSzPct val="82000"/>
              <a:buFont typeface="Gill Sans Light"/>
              <a:buAutoNum type="arabicPeriod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ru-RU" sz="3200" spc="-1" strike="noStrike">
                <a:solidFill>
                  <a:srgbClr val="535353"/>
                </a:solidFill>
                <a:latin typeface="Gill Sans Light"/>
              </a:rPr>
              <a:t>Поддерживать возрастающий интерес к истории с помощью самых различных методов: поисковой, исследовательской работы, конкурсов и т.д.</a:t>
            </a:r>
            <a:endParaRPr b="0" lang="en-US" sz="3200" spc="-1" strike="noStrike">
              <a:solidFill>
                <a:srgbClr val="535353"/>
              </a:solidFill>
              <a:latin typeface="Gill Sans Light"/>
            </a:endParaRPr>
          </a:p>
          <a:p>
            <a:pPr marL="702720" indent="-702720" algn="just">
              <a:lnSpc>
                <a:spcPct val="100000"/>
              </a:lnSpc>
              <a:buClr>
                <a:srgbClr val="535353"/>
              </a:buClr>
              <a:buSzPct val="82000"/>
              <a:buFont typeface="Gill Sans Light"/>
              <a:buAutoNum type="arabicPeriod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ru-RU" sz="3200" spc="-1" strike="noStrike">
                <a:solidFill>
                  <a:srgbClr val="535353"/>
                </a:solidFill>
                <a:latin typeface="Gill Sans Light"/>
              </a:rPr>
              <a:t>Предложить ребятам собирать сведения о своей семье, писать свою историю, историю своей семьи.</a:t>
            </a:r>
            <a:endParaRPr b="0" lang="en-US" sz="3200" spc="-1" strike="noStrike">
              <a:solidFill>
                <a:srgbClr val="535353"/>
              </a:solidFill>
              <a:latin typeface="Gill Sans Light"/>
            </a:endParaRPr>
          </a:p>
          <a:p>
            <a:pPr marL="702720" indent="-702720" algn="just">
              <a:lnSpc>
                <a:spcPct val="100000"/>
              </a:lnSpc>
              <a:buClr>
                <a:srgbClr val="535353"/>
              </a:buClr>
              <a:buSzPct val="82000"/>
              <a:buFont typeface="Gill Sans Light"/>
              <a:buAutoNum type="arabicPeriod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ru-RU" sz="3200" spc="-1" strike="noStrike">
                <a:solidFill>
                  <a:srgbClr val="535353"/>
                </a:solidFill>
                <a:latin typeface="Gill Sans Light"/>
              </a:rPr>
              <a:t>Собирать архив семейных документов: личные документы участников Великой Отечественной войны, письма на фронт и с фронта, фронтовые фотографии.</a:t>
            </a:r>
            <a:endParaRPr b="0" lang="en-US" sz="3200" spc="-1" strike="noStrike">
              <a:solidFill>
                <a:srgbClr val="535353"/>
              </a:solidFill>
              <a:latin typeface="Gill Sans Light"/>
            </a:endParaRPr>
          </a:p>
          <a:p>
            <a:pPr marL="702720" indent="-702720" algn="just">
              <a:lnSpc>
                <a:spcPct val="100000"/>
              </a:lnSpc>
              <a:buClr>
                <a:srgbClr val="535353"/>
              </a:buClr>
              <a:buSzPct val="82000"/>
              <a:buFont typeface="Gill Sans Light"/>
              <a:buAutoNum type="arabicPeriod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ru-RU" sz="3200" spc="-1" strike="noStrike">
                <a:solidFill>
                  <a:srgbClr val="535353"/>
                </a:solidFill>
                <a:latin typeface="Gill Sans Light"/>
              </a:rPr>
              <a:t>Уделять большее внимание краеведческому компоненту  - несколько минут урока уделять тому, что во время изучаемых  событий происходило в нашем родном крае.</a:t>
            </a:r>
            <a:endParaRPr b="0" lang="en-US" sz="3200" spc="-1" strike="noStrike">
              <a:solidFill>
                <a:srgbClr val="535353"/>
              </a:solidFill>
              <a:latin typeface="Gill Sans Light"/>
            </a:endParaRPr>
          </a:p>
          <a:p>
            <a:pPr marL="702720" indent="-702720" algn="just">
              <a:lnSpc>
                <a:spcPct val="100000"/>
              </a:lnSpc>
              <a:buClr>
                <a:srgbClr val="535353"/>
              </a:buClr>
              <a:buSzPct val="82000"/>
              <a:buFont typeface="Gill Sans Light"/>
              <a:buAutoNum type="arabicPeriod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ru-RU" sz="3200" spc="-1" strike="noStrike">
                <a:solidFill>
                  <a:srgbClr val="535353"/>
                </a:solidFill>
                <a:latin typeface="Gill Sans Light"/>
              </a:rPr>
              <a:t>Развивать активный подход к патриотизму, патриотизм – не просто любовь и гордость, но и деятельность на благо своей Родины, каждодневный труд.</a:t>
            </a:r>
            <a:endParaRPr b="0" lang="en-US" sz="3200" spc="-1" strike="noStrike">
              <a:solidFill>
                <a:srgbClr val="535353"/>
              </a:solidFill>
              <a:latin typeface="Gill Sans Light"/>
            </a:endParaRPr>
          </a:p>
          <a:p>
            <a:pPr marL="702720" indent="0" algn="just">
              <a:lnSpc>
                <a:spcPct val="100000"/>
              </a:lnSpc>
              <a:spcBef>
                <a:spcPts val="4601"/>
              </a:spcBef>
              <a:buNone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000" spc="-1" strike="noStrike">
              <a:solidFill>
                <a:srgbClr val="535353"/>
              </a:solidFill>
              <a:latin typeface="Gill Sans Light"/>
            </a:endParaRPr>
          </a:p>
          <a:p>
            <a:pPr marL="702720" indent="0" algn="just">
              <a:lnSpc>
                <a:spcPct val="100000"/>
              </a:lnSpc>
              <a:spcBef>
                <a:spcPts val="4601"/>
              </a:spcBef>
              <a:buNone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000" spc="-1" strike="noStrike">
              <a:solidFill>
                <a:srgbClr val="535353"/>
              </a:solidFill>
              <a:latin typeface="Gill Sans Light"/>
            </a:endParaRPr>
          </a:p>
          <a:p>
            <a:pPr marL="702720" indent="0" algn="just">
              <a:lnSpc>
                <a:spcPct val="100000"/>
              </a:lnSpc>
              <a:spcBef>
                <a:spcPts val="4601"/>
              </a:spcBef>
              <a:buNone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000" spc="-1" strike="noStrike">
              <a:solidFill>
                <a:srgbClr val="535353"/>
              </a:solidFill>
              <a:latin typeface="Gill Sans Light"/>
            </a:endParaRPr>
          </a:p>
          <a:p>
            <a:pPr marL="702720" indent="0" algn="just">
              <a:lnSpc>
                <a:spcPct val="100000"/>
              </a:lnSpc>
              <a:spcBef>
                <a:spcPts val="4601"/>
              </a:spcBef>
              <a:buNone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000" spc="-1" strike="noStrike">
              <a:solidFill>
                <a:srgbClr val="535353"/>
              </a:solidFill>
              <a:latin typeface="Gill Sans Light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355320" y="590040"/>
            <a:ext cx="12293640" cy="84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 fontScale="80000"/>
          </a:bodyPr>
          <a:p>
            <a:pPr marL="730080" indent="0" algn="just">
              <a:lnSpc>
                <a:spcPct val="100000"/>
              </a:lnSpc>
              <a:buNone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535353"/>
              </a:solidFill>
              <a:latin typeface="Gill Sans Light"/>
            </a:endParaRPr>
          </a:p>
          <a:p>
            <a:pPr marL="730080" indent="0" algn="just">
              <a:lnSpc>
                <a:spcPct val="100000"/>
              </a:lnSpc>
              <a:buNone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535353"/>
              </a:solidFill>
              <a:latin typeface="Gill Sans Light"/>
            </a:endParaRPr>
          </a:p>
          <a:p>
            <a:pPr marL="730080" indent="0" algn="just">
              <a:lnSpc>
                <a:spcPct val="100000"/>
              </a:lnSpc>
              <a:buNone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535353"/>
              </a:solidFill>
              <a:latin typeface="Gill Sans Light"/>
            </a:endParaRPr>
          </a:p>
          <a:p>
            <a:pPr marL="730080" indent="-730080" algn="just">
              <a:lnSpc>
                <a:spcPct val="100000"/>
              </a:lnSpc>
              <a:buClr>
                <a:srgbClr val="535353"/>
              </a:buClr>
              <a:buSzPct val="82000"/>
              <a:buFont typeface="Gill Sans Light"/>
              <a:buAutoNum type="arabicPeriod" startAt="6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ru-RU" sz="3200" spc="-1" strike="noStrike">
                <a:solidFill>
                  <a:srgbClr val="535353"/>
                </a:solidFill>
                <a:latin typeface="Gill Sans Light"/>
              </a:rPr>
              <a:t>Уделять больше внимания различным историческим деятелям, учиться делать свои собственные, объективные, основанные на исторических фактах выводы.</a:t>
            </a:r>
            <a:endParaRPr b="0" lang="en-US" sz="3200" spc="-1" strike="noStrike">
              <a:solidFill>
                <a:srgbClr val="535353"/>
              </a:solidFill>
              <a:latin typeface="Gill Sans Light"/>
            </a:endParaRPr>
          </a:p>
          <a:p>
            <a:pPr marL="730080" indent="-730080" algn="just">
              <a:lnSpc>
                <a:spcPct val="100000"/>
              </a:lnSpc>
              <a:buClr>
                <a:srgbClr val="535353"/>
              </a:buClr>
              <a:buSzPct val="82000"/>
              <a:buFont typeface="Gill Sans Light"/>
              <a:buAutoNum type="arabicPeriod" startAt="6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ru-RU" sz="3200" spc="-1" strike="noStrike">
                <a:solidFill>
                  <a:srgbClr val="535353"/>
                </a:solidFill>
                <a:latin typeface="Gill Sans Light"/>
              </a:rPr>
              <a:t>Помогать учащимся искать информацию о своих предках на специализированных сайтах, рассказывать о возможностях работы в архиве.</a:t>
            </a:r>
            <a:endParaRPr b="0" lang="en-US" sz="3200" spc="-1" strike="noStrike">
              <a:solidFill>
                <a:srgbClr val="535353"/>
              </a:solidFill>
              <a:latin typeface="Gill Sans Light"/>
            </a:endParaRPr>
          </a:p>
          <a:p>
            <a:pPr marL="730080" indent="-730080" algn="just">
              <a:lnSpc>
                <a:spcPct val="100000"/>
              </a:lnSpc>
              <a:buClr>
                <a:srgbClr val="535353"/>
              </a:buClr>
              <a:buSzPct val="82000"/>
              <a:buFont typeface="Gill Sans Light"/>
              <a:buAutoNum type="arabicPeriod" startAt="6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ru-RU" sz="3200" spc="-1" strike="noStrike">
                <a:solidFill>
                  <a:srgbClr val="535353"/>
                </a:solidFill>
                <a:latin typeface="Gill Sans Light"/>
              </a:rPr>
              <a:t>Учитывать мнение учащихся при планировании внеклассной занятости – участвуют они в одних мероприятиях, а хотят участвовать в других.</a:t>
            </a:r>
            <a:endParaRPr b="0" lang="en-US" sz="3200" spc="-1" strike="noStrike">
              <a:solidFill>
                <a:srgbClr val="535353"/>
              </a:solidFill>
              <a:latin typeface="Gill Sans Light"/>
            </a:endParaRPr>
          </a:p>
          <a:p>
            <a:pPr marL="730080" indent="-730080" algn="just">
              <a:lnSpc>
                <a:spcPct val="100000"/>
              </a:lnSpc>
              <a:buClr>
                <a:srgbClr val="535353"/>
              </a:buClr>
              <a:buSzPct val="82000"/>
              <a:buFont typeface="Gill Sans Light"/>
              <a:buAutoNum type="arabicPeriod" startAt="6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ru-RU" sz="3200" spc="-1" strike="noStrike">
                <a:solidFill>
                  <a:srgbClr val="535353"/>
                </a:solidFill>
                <a:latin typeface="Gill Sans Light"/>
              </a:rPr>
              <a:t>Синхронизировать программы по истории и литературы, проводить совместные уроки – учителя истории рассказывают об исторических событиях, а учителя литературы – об отражении данных событий в прозе и поэзии.</a:t>
            </a:r>
            <a:endParaRPr b="0" lang="en-US" sz="3200" spc="-1" strike="noStrike">
              <a:solidFill>
                <a:srgbClr val="535353"/>
              </a:solidFill>
              <a:latin typeface="Gill Sans Light"/>
            </a:endParaRPr>
          </a:p>
          <a:p>
            <a:pPr marL="730080" indent="-730080" algn="just">
              <a:lnSpc>
                <a:spcPct val="100000"/>
              </a:lnSpc>
              <a:buClr>
                <a:srgbClr val="535353"/>
              </a:buClr>
              <a:buSzPct val="82000"/>
              <a:buFont typeface="Gill Sans Light"/>
              <a:buAutoNum type="arabicPeriod" startAt="6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ru-RU" sz="3200" spc="-1" strike="noStrike">
                <a:solidFill>
                  <a:srgbClr val="535353"/>
                </a:solidFill>
                <a:latin typeface="Gill Sans Light"/>
              </a:rPr>
              <a:t>Рассматривать Героев Великой Отечественной войны и других значимых исторических событий не как «героев с портрета из учебника», а как обычного человека, живущего рядом с нами обычной, повседневной жизнью, чтобы каждый видел в себе этот потенциал, стремился быть похожим на Героя, идентифицировал себя с ним.</a:t>
            </a:r>
            <a:endParaRPr b="0" lang="en-US" sz="3200" spc="-1" strike="noStrike">
              <a:solidFill>
                <a:srgbClr val="535353"/>
              </a:solidFill>
              <a:latin typeface="Gill Sans Light"/>
            </a:endParaRPr>
          </a:p>
          <a:p>
            <a:pPr marL="730080" indent="0">
              <a:lnSpc>
                <a:spcPct val="120000"/>
              </a:lnSpc>
              <a:spcBef>
                <a:spcPts val="4601"/>
              </a:spcBef>
              <a:buNone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535353"/>
              </a:solidFill>
              <a:latin typeface="Gill Sans Light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0"/>
            <a:ext cx="13004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535353"/>
              </a:solidFill>
              <a:latin typeface="Gill Sans Light"/>
            </a:endParaRPr>
          </a:p>
        </p:txBody>
      </p:sp>
      <p:pic>
        <p:nvPicPr>
          <p:cNvPr id="42" name="Object 5" descr=""/>
          <p:cNvPicPr/>
          <p:nvPr/>
        </p:nvPicPr>
        <p:blipFill>
          <a:blip r:embed="rId1"/>
          <a:stretch/>
        </p:blipFill>
        <p:spPr>
          <a:xfrm>
            <a:off x="216000" y="447840"/>
            <a:ext cx="12430080" cy="8929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7"/>
          <p:cNvSpPr/>
          <p:nvPr/>
        </p:nvSpPr>
        <p:spPr>
          <a:xfrm>
            <a:off x="0" y="2781360"/>
            <a:ext cx="13004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535353"/>
              </a:solidFill>
              <a:latin typeface="Gill Sans Light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55320" y="1015560"/>
            <a:ext cx="58928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ru-RU" sz="7200" spc="-1" strike="noStrike">
              <a:solidFill>
                <a:srgbClr val="535353"/>
              </a:solidFill>
              <a:latin typeface="Gill Sans Ligh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55320" y="4889160"/>
            <a:ext cx="58928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6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ru-RU" sz="3800" spc="-1" strike="noStrike">
              <a:solidFill>
                <a:srgbClr val="535353"/>
              </a:solidFill>
              <a:latin typeface="Gill Sans Light"/>
            </a:endParaRPr>
          </a:p>
        </p:txBody>
      </p:sp>
      <p:sp>
        <p:nvSpPr>
          <p:cNvPr id="46" name="Shape 39"/>
          <p:cNvSpPr/>
          <p:nvPr/>
        </p:nvSpPr>
        <p:spPr>
          <a:xfrm>
            <a:off x="9121680" y="4737240"/>
            <a:ext cx="52704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535353"/>
              </a:solidFill>
              <a:latin typeface="Gill Sans Light"/>
            </a:endParaRPr>
          </a:p>
        </p:txBody>
      </p:sp>
      <p:sp>
        <p:nvSpPr>
          <p:cNvPr id="47" name="Shape 40"/>
          <p:cNvSpPr/>
          <p:nvPr/>
        </p:nvSpPr>
        <p:spPr>
          <a:xfrm>
            <a:off x="9248760" y="4863960"/>
            <a:ext cx="52704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535353"/>
              </a:solidFill>
              <a:latin typeface="Gill Sans Light"/>
            </a:endParaRPr>
          </a:p>
        </p:txBody>
      </p:sp>
      <p:sp>
        <p:nvSpPr>
          <p:cNvPr id="48" name="Rectangle 2"/>
          <p:cNvSpPr/>
          <p:nvPr/>
        </p:nvSpPr>
        <p:spPr>
          <a:xfrm>
            <a:off x="0" y="0"/>
            <a:ext cx="13004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535353"/>
              </a:solidFill>
              <a:latin typeface="Gill Sans Light"/>
            </a:endParaRPr>
          </a:p>
        </p:txBody>
      </p:sp>
      <p:pic>
        <p:nvPicPr>
          <p:cNvPr id="49" name="Object 1" descr=""/>
          <p:cNvPicPr/>
          <p:nvPr/>
        </p:nvPicPr>
        <p:blipFill>
          <a:blip r:embed="rId1"/>
          <a:stretch/>
        </p:blipFill>
        <p:spPr>
          <a:xfrm>
            <a:off x="214200" y="233280"/>
            <a:ext cx="12574800" cy="878688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3"/>
          <p:cNvSpPr/>
          <p:nvPr/>
        </p:nvSpPr>
        <p:spPr>
          <a:xfrm>
            <a:off x="0" y="3171960"/>
            <a:ext cx="13004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535353"/>
              </a:solidFill>
              <a:latin typeface="Gill Sans Light"/>
            </a:endParaRPr>
          </a:p>
        </p:txBody>
      </p:sp>
    </p:spTree>
  </p:cSld>
  <p:transition spd="slow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380520" y="-7920"/>
            <a:ext cx="12123720" cy="17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 algn="ctr">
              <a:lnSpc>
                <a:spcPct val="115000"/>
              </a:lnSpc>
              <a:spcBef>
                <a:spcPts val="1001"/>
              </a:spcBef>
              <a:buNone/>
              <a:tabLst>
                <a:tab algn="l" pos="0"/>
                <a:tab algn="l" pos="406404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иболее значимые события в истории России </a:t>
            </a:r>
            <a:endParaRPr b="0" lang="en-US" sz="4000" spc="-1" strike="noStrike">
              <a:solidFill>
                <a:srgbClr val="535353"/>
              </a:solidFill>
              <a:latin typeface="Gill Sans Light"/>
            </a:endParaRPr>
          </a:p>
          <a:p>
            <a:pPr indent="0" algn="ctr">
              <a:lnSpc>
                <a:spcPct val="115000"/>
              </a:lnSpc>
              <a:spcBef>
                <a:spcPts val="1001"/>
              </a:spcBef>
              <a:buNone/>
              <a:tabLst>
                <a:tab algn="l" pos="0"/>
                <a:tab algn="l" pos="406404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о мнению опрошенных учащихся)</a:t>
            </a:r>
            <a:endParaRPr b="0" lang="en-US" sz="4000" spc="-1" strike="noStrike">
              <a:solidFill>
                <a:srgbClr val="535353"/>
              </a:solidFill>
              <a:latin typeface="Gill Sans Light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741240" y="1781280"/>
          <a:ext cx="11355480" cy="7512120"/>
        </p:xfrm>
        <a:graphic>
          <a:graphicData uri="http://schemas.openxmlformats.org/drawingml/2006/table">
            <a:tbl>
              <a:tblPr/>
              <a:tblGrid>
                <a:gridCol w="1278000"/>
                <a:gridCol w="6228000"/>
                <a:gridCol w="3849480"/>
              </a:tblGrid>
              <a:tr h="716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584280"/>
                          <a:tab algn="l" pos="1168560"/>
                          <a:tab algn="l" pos="1752480"/>
                          <a:tab algn="l" pos="2336760"/>
                          <a:tab algn="l" pos="2921040"/>
                          <a:tab algn="l" pos="3505320"/>
                          <a:tab algn="l" pos="4089240"/>
                          <a:tab algn="l" pos="4673520"/>
                          <a:tab algn="l" pos="5257800"/>
                          <a:tab algn="l" pos="5842080"/>
                          <a:tab algn="l" pos="6426360"/>
                          <a:tab algn="l" pos="7010280"/>
                          <a:tab algn="l" pos="7594560"/>
                          <a:tab algn="l" pos="8178840"/>
                          <a:tab algn="l" pos="8763120"/>
                          <a:tab algn="l" pos="9347040"/>
                          <a:tab algn="l" pos="9931320"/>
                          <a:tab algn="l" pos="10515600"/>
                        </a:tabLst>
                      </a:pPr>
                      <a:endParaRPr b="0" lang="en-US" sz="3600" spc="-1" strike="noStrike">
                        <a:solidFill>
                          <a:srgbClr val="535353"/>
                        </a:solidFill>
                        <a:latin typeface="Gill Sans Light"/>
                      </a:endParaRPr>
                    </a:p>
                  </a:txBody>
                  <a:tcPr anchor="ctr" marL="50760" marR="50760">
                    <a:lnL w="2880">
                      <a:solidFill>
                        <a:srgbClr val="cbcbcb"/>
                      </a:solidFill>
                    </a:lnL>
                    <a:lnR w="2880">
                      <a:solidFill>
                        <a:srgbClr val="cbcbcb"/>
                      </a:solidFill>
                    </a:lnR>
                    <a:lnT w="2880">
                      <a:solidFill>
                        <a:srgbClr val="cbcbcb"/>
                      </a:solidFill>
                    </a:lnT>
                    <a:lnB w="2880">
                      <a:solidFill>
                        <a:srgbClr val="cbcbcb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584280"/>
                          <a:tab algn="l" pos="1168560"/>
                          <a:tab algn="l" pos="1752480"/>
                          <a:tab algn="l" pos="2336760"/>
                          <a:tab algn="l" pos="2921040"/>
                          <a:tab algn="l" pos="3505320"/>
                          <a:tab algn="l" pos="4089240"/>
                          <a:tab algn="l" pos="4673520"/>
                          <a:tab algn="l" pos="5257800"/>
                          <a:tab algn="l" pos="5842080"/>
                          <a:tab algn="l" pos="6426360"/>
                          <a:tab algn="l" pos="7010280"/>
                          <a:tab algn="l" pos="7594560"/>
                          <a:tab algn="l" pos="8178840"/>
                          <a:tab algn="l" pos="8763120"/>
                          <a:tab algn="l" pos="9347040"/>
                          <a:tab algn="l" pos="9931320"/>
                          <a:tab algn="l" pos="10515600"/>
                        </a:tabLst>
                      </a:pPr>
                      <a:r>
                        <a:rPr b="0" i="1" lang="ru-RU" sz="3000" spc="-1" strike="noStrike">
                          <a:solidFill>
                            <a:srgbClr val="000000"/>
                          </a:solidFill>
                          <a:latin typeface="Gill Sans Light"/>
                        </a:rPr>
                        <a:t>Варианты ответа</a:t>
                      </a:r>
                      <a:endParaRPr b="0" lang="en-US" sz="3000" spc="-1" strike="noStrike">
                        <a:solidFill>
                          <a:srgbClr val="535353"/>
                        </a:solidFill>
                        <a:latin typeface="Gill Sans Light"/>
                      </a:endParaRPr>
                    </a:p>
                  </a:txBody>
                  <a:tcPr anchor="ctr" marL="50760" marR="50760">
                    <a:lnL w="2880">
                      <a:solidFill>
                        <a:srgbClr val="cbcbcb"/>
                      </a:solidFill>
                    </a:lnL>
                    <a:lnR w="2880">
                      <a:solidFill>
                        <a:srgbClr val="cbcbcb"/>
                      </a:solidFill>
                    </a:lnR>
                    <a:lnT w="2880">
                      <a:solidFill>
                        <a:srgbClr val="cbcbcb"/>
                      </a:solidFill>
                    </a:lnT>
                    <a:lnB w="2880">
                      <a:solidFill>
                        <a:srgbClr val="cbcbcb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584280"/>
                          <a:tab algn="l" pos="1168560"/>
                          <a:tab algn="l" pos="1752480"/>
                          <a:tab algn="l" pos="2336760"/>
                          <a:tab algn="l" pos="2921040"/>
                          <a:tab algn="l" pos="3505320"/>
                          <a:tab algn="l" pos="4089240"/>
                          <a:tab algn="l" pos="4673520"/>
                          <a:tab algn="l" pos="5257800"/>
                          <a:tab algn="l" pos="5842080"/>
                          <a:tab algn="l" pos="6426360"/>
                          <a:tab algn="l" pos="7010280"/>
                          <a:tab algn="l" pos="7594560"/>
                          <a:tab algn="l" pos="8178840"/>
                          <a:tab algn="l" pos="8763120"/>
                          <a:tab algn="l" pos="9347040"/>
                          <a:tab algn="l" pos="9931320"/>
                          <a:tab algn="l" pos="10515600"/>
                        </a:tabLst>
                      </a:pPr>
                      <a:r>
                        <a:rPr b="0" lang="ru-RU" sz="3000" spc="-1" strike="noStrike">
                          <a:solidFill>
                            <a:srgbClr val="000000"/>
                          </a:solidFill>
                          <a:latin typeface="Gill Sans Light"/>
                        </a:rPr>
                        <a:t>%</a:t>
                      </a:r>
                      <a:endParaRPr b="0" lang="en-US" sz="3000" spc="-1" strike="noStrike">
                        <a:solidFill>
                          <a:srgbClr val="535353"/>
                        </a:solidFill>
                        <a:latin typeface="Gill Sans Light"/>
                      </a:endParaRPr>
                    </a:p>
                  </a:txBody>
                  <a:tcPr anchor="ctr" marL="50760" marR="50760">
                    <a:lnL w="2880">
                      <a:solidFill>
                        <a:srgbClr val="cbcbcb"/>
                      </a:solidFill>
                    </a:lnL>
                    <a:lnR w="2880">
                      <a:solidFill>
                        <a:srgbClr val="cbcbcb"/>
                      </a:solidFill>
                    </a:lnR>
                    <a:lnT w="2880">
                      <a:solidFill>
                        <a:srgbClr val="cbcbcb"/>
                      </a:solidFill>
                    </a:lnT>
                    <a:lnB w="2880">
                      <a:solidFill>
                        <a:srgbClr val="cbcbcb"/>
                      </a:solidFill>
                    </a:lnB>
                    <a:noFill/>
                  </a:tcPr>
                </a:tc>
              </a:tr>
              <a:tr h="7722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584280"/>
                          <a:tab algn="l" pos="1168560"/>
                          <a:tab algn="l" pos="1752480"/>
                          <a:tab algn="l" pos="2336760"/>
                          <a:tab algn="l" pos="2921040"/>
                          <a:tab algn="l" pos="3505320"/>
                          <a:tab algn="l" pos="4089240"/>
                          <a:tab algn="l" pos="4673520"/>
                          <a:tab algn="l" pos="5257800"/>
                          <a:tab algn="l" pos="5842080"/>
                          <a:tab algn="l" pos="6426360"/>
                          <a:tab algn="l" pos="7010280"/>
                          <a:tab algn="l" pos="7594560"/>
                          <a:tab algn="l" pos="8178840"/>
                          <a:tab algn="l" pos="8763120"/>
                          <a:tab algn="l" pos="9347040"/>
                          <a:tab algn="l" pos="9931320"/>
                          <a:tab algn="l" pos="10515600"/>
                        </a:tabLst>
                      </a:pPr>
                      <a:r>
                        <a:rPr b="0" lang="ru-RU" sz="3000" spc="-1" strike="noStrike">
                          <a:solidFill>
                            <a:srgbClr val="000000"/>
                          </a:solidFill>
                          <a:latin typeface="Gill Sans Light"/>
                        </a:rPr>
                        <a:t>1</a:t>
                      </a:r>
                      <a:endParaRPr b="0" lang="en-US" sz="3000" spc="-1" strike="noStrike">
                        <a:solidFill>
                          <a:srgbClr val="535353"/>
                        </a:solidFill>
                        <a:latin typeface="Gill Sans Light"/>
                      </a:endParaRPr>
                    </a:p>
                  </a:txBody>
                  <a:tcPr anchor="ctr" marL="50760" marR="50760">
                    <a:lnL w="2880">
                      <a:solidFill>
                        <a:srgbClr val="cbcbcb"/>
                      </a:solidFill>
                    </a:lnL>
                    <a:lnR w="2880">
                      <a:solidFill>
                        <a:srgbClr val="cbcbcb"/>
                      </a:solidFill>
                    </a:lnR>
                    <a:lnT w="2880">
                      <a:solidFill>
                        <a:srgbClr val="cbcbcb"/>
                      </a:solidFill>
                    </a:lnT>
                    <a:lnB w="2880">
                      <a:solidFill>
                        <a:srgbClr val="cbcbcb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584280"/>
                          <a:tab algn="l" pos="1168560"/>
                          <a:tab algn="l" pos="1752480"/>
                          <a:tab algn="l" pos="2336760"/>
                          <a:tab algn="l" pos="2921040"/>
                          <a:tab algn="l" pos="3505320"/>
                          <a:tab algn="l" pos="4089240"/>
                          <a:tab algn="l" pos="4673520"/>
                          <a:tab algn="l" pos="5257800"/>
                          <a:tab algn="l" pos="5842080"/>
                          <a:tab algn="l" pos="6426360"/>
                          <a:tab algn="l" pos="7010280"/>
                          <a:tab algn="l" pos="7594560"/>
                          <a:tab algn="l" pos="8178840"/>
                          <a:tab algn="l" pos="8763120"/>
                          <a:tab algn="l" pos="9347040"/>
                          <a:tab algn="l" pos="9931320"/>
                          <a:tab algn="l" pos="10515600"/>
                        </a:tabLst>
                      </a:pPr>
                      <a:r>
                        <a:rPr b="0" lang="ru-RU" sz="3000" spc="-1" strike="noStrike">
                          <a:solidFill>
                            <a:srgbClr val="000000"/>
                          </a:solidFill>
                          <a:latin typeface="Gill Sans Light"/>
                        </a:rPr>
                        <a:t>Великая Отечественная война</a:t>
                      </a:r>
                      <a:endParaRPr b="0" lang="en-US" sz="3000" spc="-1" strike="noStrike">
                        <a:solidFill>
                          <a:srgbClr val="535353"/>
                        </a:solidFill>
                        <a:latin typeface="Gill Sans Light"/>
                      </a:endParaRPr>
                    </a:p>
                  </a:txBody>
                  <a:tcPr anchor="ctr" marL="50760" marR="50760">
                    <a:lnL w="2880">
                      <a:solidFill>
                        <a:srgbClr val="cbcbcb"/>
                      </a:solidFill>
                    </a:lnL>
                    <a:lnR w="2880">
                      <a:solidFill>
                        <a:srgbClr val="cbcbcb"/>
                      </a:solidFill>
                    </a:lnR>
                    <a:lnT w="2880">
                      <a:solidFill>
                        <a:srgbClr val="cbcbcb"/>
                      </a:solidFill>
                    </a:lnT>
                    <a:lnB w="2880">
                      <a:solidFill>
                        <a:srgbClr val="cbcbcb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584280"/>
                          <a:tab algn="l" pos="1168560"/>
                          <a:tab algn="l" pos="1752480"/>
                          <a:tab algn="l" pos="2336760"/>
                          <a:tab algn="l" pos="2921040"/>
                          <a:tab algn="l" pos="3505320"/>
                          <a:tab algn="l" pos="4089240"/>
                          <a:tab algn="l" pos="4673520"/>
                          <a:tab algn="l" pos="5257800"/>
                          <a:tab algn="l" pos="5842080"/>
                          <a:tab algn="l" pos="6426360"/>
                          <a:tab algn="l" pos="7010280"/>
                          <a:tab algn="l" pos="7594560"/>
                          <a:tab algn="l" pos="8178840"/>
                          <a:tab algn="l" pos="8763120"/>
                          <a:tab algn="l" pos="9347040"/>
                          <a:tab algn="l" pos="9931320"/>
                          <a:tab algn="l" pos="105156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Gill Sans Light"/>
                        </a:rPr>
                        <a:t>61,9</a:t>
                      </a:r>
                      <a:endParaRPr b="0" lang="en-US" sz="4400" spc="-1" strike="noStrike">
                        <a:solidFill>
                          <a:srgbClr val="535353"/>
                        </a:solidFill>
                        <a:latin typeface="Gill Sans Light"/>
                      </a:endParaRPr>
                    </a:p>
                  </a:txBody>
                  <a:tcPr anchor="ctr" marL="50760" marR="50760">
                    <a:lnL w="2880">
                      <a:solidFill>
                        <a:srgbClr val="cbcbcb"/>
                      </a:solidFill>
                    </a:lnL>
                    <a:lnR w="2880">
                      <a:solidFill>
                        <a:srgbClr val="cbcbcb"/>
                      </a:solidFill>
                    </a:lnR>
                    <a:lnT w="2880">
                      <a:solidFill>
                        <a:srgbClr val="cbcbcb"/>
                      </a:solidFill>
                    </a:lnT>
                    <a:lnB w="2880">
                      <a:solidFill>
                        <a:srgbClr val="cbcbcb"/>
                      </a:solidFill>
                    </a:lnB>
                    <a:noFill/>
                  </a:tcPr>
                </a:tc>
              </a:tr>
              <a:tr h="716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584280"/>
                          <a:tab algn="l" pos="1168560"/>
                          <a:tab algn="l" pos="1752480"/>
                          <a:tab algn="l" pos="2336760"/>
                          <a:tab algn="l" pos="2921040"/>
                          <a:tab algn="l" pos="3505320"/>
                          <a:tab algn="l" pos="4089240"/>
                          <a:tab algn="l" pos="4673520"/>
                          <a:tab algn="l" pos="5257800"/>
                          <a:tab algn="l" pos="5842080"/>
                          <a:tab algn="l" pos="6426360"/>
                          <a:tab algn="l" pos="7010280"/>
                          <a:tab algn="l" pos="7594560"/>
                          <a:tab algn="l" pos="8178840"/>
                          <a:tab algn="l" pos="8763120"/>
                          <a:tab algn="l" pos="9347040"/>
                          <a:tab algn="l" pos="9931320"/>
                          <a:tab algn="l" pos="10515600"/>
                        </a:tabLst>
                      </a:pPr>
                      <a:r>
                        <a:rPr b="0" lang="ru-RU" sz="3000" spc="-1" strike="noStrike">
                          <a:solidFill>
                            <a:srgbClr val="000000"/>
                          </a:solidFill>
                          <a:latin typeface="Gill Sans Light"/>
                        </a:rPr>
                        <a:t>2</a:t>
                      </a:r>
                      <a:endParaRPr b="0" lang="en-US" sz="3000" spc="-1" strike="noStrike">
                        <a:solidFill>
                          <a:srgbClr val="535353"/>
                        </a:solidFill>
                        <a:latin typeface="Gill Sans Light"/>
                      </a:endParaRPr>
                    </a:p>
                  </a:txBody>
                  <a:tcPr anchor="ctr" marL="50760" marR="50760">
                    <a:lnL w="2880">
                      <a:solidFill>
                        <a:srgbClr val="cbcbcb"/>
                      </a:solidFill>
                    </a:lnL>
                    <a:lnR w="2880">
                      <a:solidFill>
                        <a:srgbClr val="cbcbcb"/>
                      </a:solidFill>
                    </a:lnR>
                    <a:lnT w="2880">
                      <a:solidFill>
                        <a:srgbClr val="cbcbcb"/>
                      </a:solidFill>
                    </a:lnT>
                    <a:lnB w="2880">
                      <a:solidFill>
                        <a:srgbClr val="cbcbcb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584280"/>
                          <a:tab algn="l" pos="1168560"/>
                          <a:tab algn="l" pos="1752480"/>
                          <a:tab algn="l" pos="2336760"/>
                          <a:tab algn="l" pos="2921040"/>
                          <a:tab algn="l" pos="3505320"/>
                          <a:tab algn="l" pos="4089240"/>
                          <a:tab algn="l" pos="4673520"/>
                          <a:tab algn="l" pos="5257800"/>
                          <a:tab algn="l" pos="5842080"/>
                          <a:tab algn="l" pos="6426360"/>
                          <a:tab algn="l" pos="7010280"/>
                          <a:tab algn="l" pos="7594560"/>
                          <a:tab algn="l" pos="8178840"/>
                          <a:tab algn="l" pos="8763120"/>
                          <a:tab algn="l" pos="9347040"/>
                          <a:tab algn="l" pos="9931320"/>
                          <a:tab algn="l" pos="10515600"/>
                        </a:tabLst>
                      </a:pPr>
                      <a:r>
                        <a:rPr b="0" lang="ru-RU" sz="3000" spc="-1" strike="noStrike">
                          <a:solidFill>
                            <a:srgbClr val="000000"/>
                          </a:solidFill>
                          <a:latin typeface="Gill Sans Light"/>
                        </a:rPr>
                        <a:t>Распад СССР</a:t>
                      </a:r>
                      <a:endParaRPr b="0" lang="en-US" sz="3000" spc="-1" strike="noStrike">
                        <a:solidFill>
                          <a:srgbClr val="535353"/>
                        </a:solidFill>
                        <a:latin typeface="Gill Sans Light"/>
                      </a:endParaRPr>
                    </a:p>
                  </a:txBody>
                  <a:tcPr anchor="ctr" marL="50760" marR="50760">
                    <a:lnL w="2880">
                      <a:solidFill>
                        <a:srgbClr val="cbcbcb"/>
                      </a:solidFill>
                    </a:lnL>
                    <a:lnR w="2880">
                      <a:solidFill>
                        <a:srgbClr val="cbcbcb"/>
                      </a:solidFill>
                    </a:lnR>
                    <a:lnT w="2880">
                      <a:solidFill>
                        <a:srgbClr val="cbcbcb"/>
                      </a:solidFill>
                    </a:lnT>
                    <a:lnB w="2880">
                      <a:solidFill>
                        <a:srgbClr val="cbcbcb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584280"/>
                          <a:tab algn="l" pos="1168560"/>
                          <a:tab algn="l" pos="1752480"/>
                          <a:tab algn="l" pos="2336760"/>
                          <a:tab algn="l" pos="2921040"/>
                          <a:tab algn="l" pos="3505320"/>
                          <a:tab algn="l" pos="4089240"/>
                          <a:tab algn="l" pos="4673520"/>
                          <a:tab algn="l" pos="5257800"/>
                          <a:tab algn="l" pos="5842080"/>
                          <a:tab algn="l" pos="6426360"/>
                          <a:tab algn="l" pos="7010280"/>
                          <a:tab algn="l" pos="7594560"/>
                          <a:tab algn="l" pos="8178840"/>
                          <a:tab algn="l" pos="8763120"/>
                          <a:tab algn="l" pos="9347040"/>
                          <a:tab algn="l" pos="9931320"/>
                          <a:tab algn="l" pos="10515600"/>
                        </a:tabLst>
                      </a:pPr>
                      <a:r>
                        <a:rPr b="0" lang="ru-RU" sz="3000" spc="-1" strike="noStrike">
                          <a:solidFill>
                            <a:srgbClr val="000000"/>
                          </a:solidFill>
                          <a:latin typeface="Gill Sans Light"/>
                        </a:rPr>
                        <a:t>14,7</a:t>
                      </a:r>
                      <a:endParaRPr b="0" lang="en-US" sz="3000" spc="-1" strike="noStrike">
                        <a:solidFill>
                          <a:srgbClr val="535353"/>
                        </a:solidFill>
                        <a:latin typeface="Gill Sans Light"/>
                      </a:endParaRPr>
                    </a:p>
                  </a:txBody>
                  <a:tcPr anchor="ctr" marL="50760" marR="50760">
                    <a:lnL w="2880">
                      <a:solidFill>
                        <a:srgbClr val="cbcbcb"/>
                      </a:solidFill>
                    </a:lnL>
                    <a:lnR w="2880">
                      <a:solidFill>
                        <a:srgbClr val="cbcbcb"/>
                      </a:solidFill>
                    </a:lnR>
                    <a:lnT w="2880">
                      <a:solidFill>
                        <a:srgbClr val="cbcbcb"/>
                      </a:solidFill>
                    </a:lnT>
                    <a:lnB w="2880">
                      <a:solidFill>
                        <a:srgbClr val="cbcbcb"/>
                      </a:solidFill>
                    </a:lnB>
                    <a:noFill/>
                  </a:tcPr>
                </a:tc>
              </a:tr>
              <a:tr h="10155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584280"/>
                          <a:tab algn="l" pos="1168560"/>
                          <a:tab algn="l" pos="1752480"/>
                          <a:tab algn="l" pos="2336760"/>
                          <a:tab algn="l" pos="2921040"/>
                          <a:tab algn="l" pos="3505320"/>
                          <a:tab algn="l" pos="4089240"/>
                          <a:tab algn="l" pos="4673520"/>
                          <a:tab algn="l" pos="5257800"/>
                          <a:tab algn="l" pos="5842080"/>
                          <a:tab algn="l" pos="6426360"/>
                          <a:tab algn="l" pos="7010280"/>
                          <a:tab algn="l" pos="7594560"/>
                          <a:tab algn="l" pos="8178840"/>
                          <a:tab algn="l" pos="8763120"/>
                          <a:tab algn="l" pos="9347040"/>
                          <a:tab algn="l" pos="9931320"/>
                          <a:tab algn="l" pos="10515600"/>
                        </a:tabLst>
                      </a:pPr>
                      <a:r>
                        <a:rPr b="0" lang="ru-RU" sz="3000" spc="-1" strike="noStrike">
                          <a:solidFill>
                            <a:srgbClr val="000000"/>
                          </a:solidFill>
                          <a:latin typeface="Gill Sans Light"/>
                        </a:rPr>
                        <a:t>3</a:t>
                      </a:r>
                      <a:endParaRPr b="0" lang="en-US" sz="3000" spc="-1" strike="noStrike">
                        <a:solidFill>
                          <a:srgbClr val="535353"/>
                        </a:solidFill>
                        <a:latin typeface="Gill Sans Light"/>
                      </a:endParaRPr>
                    </a:p>
                  </a:txBody>
                  <a:tcPr anchor="ctr" marL="50760" marR="50760">
                    <a:lnL w="2880">
                      <a:solidFill>
                        <a:srgbClr val="cbcbcb"/>
                      </a:solidFill>
                    </a:lnL>
                    <a:lnR w="2880">
                      <a:solidFill>
                        <a:srgbClr val="cbcbcb"/>
                      </a:solidFill>
                    </a:lnR>
                    <a:lnT w="2880">
                      <a:solidFill>
                        <a:srgbClr val="cbcbcb"/>
                      </a:solidFill>
                    </a:lnT>
                    <a:lnB w="2880">
                      <a:solidFill>
                        <a:srgbClr val="cbcbcb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584280"/>
                          <a:tab algn="l" pos="1168560"/>
                          <a:tab algn="l" pos="1752480"/>
                          <a:tab algn="l" pos="2336760"/>
                          <a:tab algn="l" pos="2921040"/>
                          <a:tab algn="l" pos="3505320"/>
                          <a:tab algn="l" pos="4089240"/>
                          <a:tab algn="l" pos="4673520"/>
                          <a:tab algn="l" pos="5257800"/>
                          <a:tab algn="l" pos="5842080"/>
                          <a:tab algn="l" pos="6426360"/>
                          <a:tab algn="l" pos="7010280"/>
                          <a:tab algn="l" pos="7594560"/>
                          <a:tab algn="l" pos="8178840"/>
                          <a:tab algn="l" pos="8763120"/>
                          <a:tab algn="l" pos="9347040"/>
                          <a:tab algn="l" pos="9931320"/>
                          <a:tab algn="l" pos="10515600"/>
                        </a:tabLst>
                      </a:pPr>
                      <a:r>
                        <a:rPr b="0" lang="ru-RU" sz="3000" spc="-1" strike="noStrike">
                          <a:solidFill>
                            <a:srgbClr val="000000"/>
                          </a:solidFill>
                          <a:latin typeface="Gill Sans Light"/>
                        </a:rPr>
                        <a:t>Великая Октябрьская революция</a:t>
                      </a:r>
                      <a:endParaRPr b="0" lang="en-US" sz="3000" spc="-1" strike="noStrike">
                        <a:solidFill>
                          <a:srgbClr val="535353"/>
                        </a:solidFill>
                        <a:latin typeface="Gill Sans Light"/>
                      </a:endParaRPr>
                    </a:p>
                  </a:txBody>
                  <a:tcPr anchor="ctr" marL="50760" marR="50760">
                    <a:lnL w="2880">
                      <a:solidFill>
                        <a:srgbClr val="cbcbcb"/>
                      </a:solidFill>
                    </a:lnL>
                    <a:lnR w="2880">
                      <a:solidFill>
                        <a:srgbClr val="cbcbcb"/>
                      </a:solidFill>
                    </a:lnR>
                    <a:lnT w="2880">
                      <a:solidFill>
                        <a:srgbClr val="cbcbcb"/>
                      </a:solidFill>
                    </a:lnT>
                    <a:lnB w="2880">
                      <a:solidFill>
                        <a:srgbClr val="cbcbcb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584280"/>
                          <a:tab algn="l" pos="1168560"/>
                          <a:tab algn="l" pos="1752480"/>
                          <a:tab algn="l" pos="2336760"/>
                          <a:tab algn="l" pos="2921040"/>
                          <a:tab algn="l" pos="3505320"/>
                          <a:tab algn="l" pos="4089240"/>
                          <a:tab algn="l" pos="4673520"/>
                          <a:tab algn="l" pos="5257800"/>
                          <a:tab algn="l" pos="5842080"/>
                          <a:tab algn="l" pos="6426360"/>
                          <a:tab algn="l" pos="7010280"/>
                          <a:tab algn="l" pos="7594560"/>
                          <a:tab algn="l" pos="8178840"/>
                          <a:tab algn="l" pos="8763120"/>
                          <a:tab algn="l" pos="9347040"/>
                          <a:tab algn="l" pos="9931320"/>
                          <a:tab algn="l" pos="10515600"/>
                        </a:tabLst>
                      </a:pPr>
                      <a:r>
                        <a:rPr b="0" lang="ru-RU" sz="3000" spc="-1" strike="noStrike">
                          <a:solidFill>
                            <a:srgbClr val="000000"/>
                          </a:solidFill>
                          <a:latin typeface="Gill Sans Light"/>
                        </a:rPr>
                        <a:t>6,2</a:t>
                      </a:r>
                      <a:endParaRPr b="0" lang="en-US" sz="3000" spc="-1" strike="noStrike">
                        <a:solidFill>
                          <a:srgbClr val="535353"/>
                        </a:solidFill>
                        <a:latin typeface="Gill Sans Light"/>
                      </a:endParaRPr>
                    </a:p>
                  </a:txBody>
                  <a:tcPr anchor="ctr" marL="50760" marR="50760">
                    <a:lnL w="2880">
                      <a:solidFill>
                        <a:srgbClr val="cbcbcb"/>
                      </a:solidFill>
                    </a:lnL>
                    <a:lnR w="2880">
                      <a:solidFill>
                        <a:srgbClr val="cbcbcb"/>
                      </a:solidFill>
                    </a:lnR>
                    <a:lnT w="2880">
                      <a:solidFill>
                        <a:srgbClr val="cbcbcb"/>
                      </a:solidFill>
                    </a:lnT>
                    <a:lnB w="2880">
                      <a:solidFill>
                        <a:srgbClr val="cbcbcb"/>
                      </a:solidFill>
                    </a:lnB>
                    <a:noFill/>
                  </a:tcPr>
                </a:tc>
              </a:tr>
              <a:tr h="7146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584280"/>
                          <a:tab algn="l" pos="1168560"/>
                          <a:tab algn="l" pos="1752480"/>
                          <a:tab algn="l" pos="2336760"/>
                          <a:tab algn="l" pos="2921040"/>
                          <a:tab algn="l" pos="3505320"/>
                          <a:tab algn="l" pos="4089240"/>
                          <a:tab algn="l" pos="4673520"/>
                          <a:tab algn="l" pos="5257800"/>
                          <a:tab algn="l" pos="5842080"/>
                          <a:tab algn="l" pos="6426360"/>
                          <a:tab algn="l" pos="7010280"/>
                          <a:tab algn="l" pos="7594560"/>
                          <a:tab algn="l" pos="8178840"/>
                          <a:tab algn="l" pos="8763120"/>
                          <a:tab algn="l" pos="9347040"/>
                          <a:tab algn="l" pos="9931320"/>
                          <a:tab algn="l" pos="10515600"/>
                        </a:tabLst>
                      </a:pPr>
                      <a:r>
                        <a:rPr b="0" lang="ru-RU" sz="3000" spc="-1" strike="noStrike">
                          <a:solidFill>
                            <a:srgbClr val="000000"/>
                          </a:solidFill>
                          <a:latin typeface="Gill Sans Light"/>
                        </a:rPr>
                        <a:t>4</a:t>
                      </a:r>
                      <a:endParaRPr b="0" lang="en-US" sz="3000" spc="-1" strike="noStrike">
                        <a:solidFill>
                          <a:srgbClr val="535353"/>
                        </a:solidFill>
                        <a:latin typeface="Gill Sans Light"/>
                      </a:endParaRPr>
                    </a:p>
                  </a:txBody>
                  <a:tcPr anchor="ctr" marL="50760" marR="50760">
                    <a:lnL w="2880">
                      <a:solidFill>
                        <a:srgbClr val="cbcbcb"/>
                      </a:solidFill>
                    </a:lnL>
                    <a:lnR w="2880">
                      <a:solidFill>
                        <a:srgbClr val="cbcbcb"/>
                      </a:solidFill>
                    </a:lnR>
                    <a:lnT w="2880">
                      <a:solidFill>
                        <a:srgbClr val="cbcbcb"/>
                      </a:solidFill>
                    </a:lnT>
                    <a:lnB w="2880">
                      <a:solidFill>
                        <a:srgbClr val="cbcbcb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584280"/>
                          <a:tab algn="l" pos="1168560"/>
                          <a:tab algn="l" pos="1752480"/>
                          <a:tab algn="l" pos="2336760"/>
                          <a:tab algn="l" pos="2921040"/>
                          <a:tab algn="l" pos="3505320"/>
                          <a:tab algn="l" pos="4089240"/>
                          <a:tab algn="l" pos="4673520"/>
                          <a:tab algn="l" pos="5257800"/>
                          <a:tab algn="l" pos="5842080"/>
                          <a:tab algn="l" pos="6426360"/>
                          <a:tab algn="l" pos="7010280"/>
                          <a:tab algn="l" pos="7594560"/>
                          <a:tab algn="l" pos="8178840"/>
                          <a:tab algn="l" pos="8763120"/>
                          <a:tab algn="l" pos="9347040"/>
                          <a:tab algn="l" pos="9931320"/>
                          <a:tab algn="l" pos="10515600"/>
                        </a:tabLst>
                      </a:pPr>
                      <a:r>
                        <a:rPr b="0" lang="ru-RU" sz="3000" spc="-1" strike="noStrike">
                          <a:solidFill>
                            <a:srgbClr val="000000"/>
                          </a:solidFill>
                          <a:latin typeface="Gill Sans Light"/>
                        </a:rPr>
                        <a:t>Первая Мировая война</a:t>
                      </a:r>
                      <a:endParaRPr b="0" lang="en-US" sz="3000" spc="-1" strike="noStrike">
                        <a:solidFill>
                          <a:srgbClr val="535353"/>
                        </a:solidFill>
                        <a:latin typeface="Gill Sans Light"/>
                      </a:endParaRPr>
                    </a:p>
                  </a:txBody>
                  <a:tcPr anchor="ctr" marL="50760" marR="50760">
                    <a:lnL w="2880">
                      <a:solidFill>
                        <a:srgbClr val="cbcbcb"/>
                      </a:solidFill>
                    </a:lnL>
                    <a:lnR w="2880">
                      <a:solidFill>
                        <a:srgbClr val="cbcbcb"/>
                      </a:solidFill>
                    </a:lnR>
                    <a:lnT w="2880">
                      <a:solidFill>
                        <a:srgbClr val="cbcbcb"/>
                      </a:solidFill>
                    </a:lnT>
                    <a:lnB w="2880">
                      <a:solidFill>
                        <a:srgbClr val="cbcbcb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584280"/>
                          <a:tab algn="l" pos="1168560"/>
                          <a:tab algn="l" pos="1752480"/>
                          <a:tab algn="l" pos="2336760"/>
                          <a:tab algn="l" pos="2921040"/>
                          <a:tab algn="l" pos="3505320"/>
                          <a:tab algn="l" pos="4089240"/>
                          <a:tab algn="l" pos="4673520"/>
                          <a:tab algn="l" pos="5257800"/>
                          <a:tab algn="l" pos="5842080"/>
                          <a:tab algn="l" pos="6426360"/>
                          <a:tab algn="l" pos="7010280"/>
                          <a:tab algn="l" pos="7594560"/>
                          <a:tab algn="l" pos="8178840"/>
                          <a:tab algn="l" pos="8763120"/>
                          <a:tab algn="l" pos="9347040"/>
                          <a:tab algn="l" pos="9931320"/>
                          <a:tab algn="l" pos="10515600"/>
                        </a:tabLst>
                      </a:pPr>
                      <a:r>
                        <a:rPr b="0" lang="ru-RU" sz="3000" spc="-1" strike="noStrike">
                          <a:solidFill>
                            <a:srgbClr val="000000"/>
                          </a:solidFill>
                          <a:latin typeface="Gill Sans Light"/>
                        </a:rPr>
                        <a:t>4,1</a:t>
                      </a:r>
                      <a:endParaRPr b="0" lang="en-US" sz="3000" spc="-1" strike="noStrike">
                        <a:solidFill>
                          <a:srgbClr val="535353"/>
                        </a:solidFill>
                        <a:latin typeface="Gill Sans Light"/>
                      </a:endParaRPr>
                    </a:p>
                  </a:txBody>
                  <a:tcPr anchor="ctr" marL="50760" marR="50760">
                    <a:lnL w="2880">
                      <a:solidFill>
                        <a:srgbClr val="cbcbcb"/>
                      </a:solidFill>
                    </a:lnL>
                    <a:lnR w="2880">
                      <a:solidFill>
                        <a:srgbClr val="cbcbcb"/>
                      </a:solidFill>
                    </a:lnR>
                    <a:lnT w="2880">
                      <a:solidFill>
                        <a:srgbClr val="cbcbcb"/>
                      </a:solidFill>
                    </a:lnT>
                    <a:lnB w="2880">
                      <a:solidFill>
                        <a:srgbClr val="cbcbcb"/>
                      </a:solidFill>
                    </a:lnB>
                    <a:noFill/>
                  </a:tcPr>
                </a:tc>
              </a:tr>
              <a:tr h="716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584280"/>
                          <a:tab algn="l" pos="1168560"/>
                          <a:tab algn="l" pos="1752480"/>
                          <a:tab algn="l" pos="2336760"/>
                          <a:tab algn="l" pos="2921040"/>
                          <a:tab algn="l" pos="3505320"/>
                          <a:tab algn="l" pos="4089240"/>
                          <a:tab algn="l" pos="4673520"/>
                          <a:tab algn="l" pos="5257800"/>
                          <a:tab algn="l" pos="5842080"/>
                          <a:tab algn="l" pos="6426360"/>
                          <a:tab algn="l" pos="7010280"/>
                          <a:tab algn="l" pos="7594560"/>
                          <a:tab algn="l" pos="8178840"/>
                          <a:tab algn="l" pos="8763120"/>
                          <a:tab algn="l" pos="9347040"/>
                          <a:tab algn="l" pos="9931320"/>
                          <a:tab algn="l" pos="10515600"/>
                        </a:tabLst>
                      </a:pPr>
                      <a:r>
                        <a:rPr b="0" lang="ru-RU" sz="3000" spc="-1" strike="noStrike">
                          <a:solidFill>
                            <a:srgbClr val="000000"/>
                          </a:solidFill>
                          <a:latin typeface="Gill Sans Light"/>
                        </a:rPr>
                        <a:t>5</a:t>
                      </a:r>
                      <a:endParaRPr b="0" lang="en-US" sz="3000" spc="-1" strike="noStrike">
                        <a:solidFill>
                          <a:srgbClr val="535353"/>
                        </a:solidFill>
                        <a:latin typeface="Gill Sans Light"/>
                      </a:endParaRPr>
                    </a:p>
                  </a:txBody>
                  <a:tcPr anchor="ctr" marL="50760" marR="50760">
                    <a:lnL w="2880">
                      <a:solidFill>
                        <a:srgbClr val="cbcbcb"/>
                      </a:solidFill>
                    </a:lnL>
                    <a:lnR w="2880">
                      <a:solidFill>
                        <a:srgbClr val="cbcbcb"/>
                      </a:solidFill>
                    </a:lnR>
                    <a:lnT w="2880">
                      <a:solidFill>
                        <a:srgbClr val="cbcbcb"/>
                      </a:solidFill>
                    </a:lnT>
                    <a:lnB w="2880">
                      <a:solidFill>
                        <a:srgbClr val="cbcbcb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584280"/>
                          <a:tab algn="l" pos="1168560"/>
                          <a:tab algn="l" pos="1752480"/>
                          <a:tab algn="l" pos="2336760"/>
                          <a:tab algn="l" pos="2921040"/>
                          <a:tab algn="l" pos="3505320"/>
                          <a:tab algn="l" pos="4089240"/>
                          <a:tab algn="l" pos="4673520"/>
                          <a:tab algn="l" pos="5257800"/>
                          <a:tab algn="l" pos="5842080"/>
                          <a:tab algn="l" pos="6426360"/>
                          <a:tab algn="l" pos="7010280"/>
                          <a:tab algn="l" pos="7594560"/>
                          <a:tab algn="l" pos="8178840"/>
                          <a:tab algn="l" pos="8763120"/>
                          <a:tab algn="l" pos="9347040"/>
                          <a:tab algn="l" pos="9931320"/>
                          <a:tab algn="l" pos="10515600"/>
                        </a:tabLst>
                      </a:pPr>
                      <a:r>
                        <a:rPr b="0" lang="ru-RU" sz="3000" spc="-1" strike="noStrike">
                          <a:solidFill>
                            <a:srgbClr val="000000"/>
                          </a:solidFill>
                          <a:latin typeface="Gill Sans Light"/>
                        </a:rPr>
                        <a:t>Перестройка, гласность</a:t>
                      </a:r>
                      <a:endParaRPr b="0" lang="en-US" sz="3000" spc="-1" strike="noStrike">
                        <a:solidFill>
                          <a:srgbClr val="535353"/>
                        </a:solidFill>
                        <a:latin typeface="Gill Sans Light"/>
                      </a:endParaRPr>
                    </a:p>
                  </a:txBody>
                  <a:tcPr anchor="ctr" marL="50760" marR="50760">
                    <a:lnL w="2880">
                      <a:solidFill>
                        <a:srgbClr val="cbcbcb"/>
                      </a:solidFill>
                    </a:lnL>
                    <a:lnR w="2880">
                      <a:solidFill>
                        <a:srgbClr val="cbcbcb"/>
                      </a:solidFill>
                    </a:lnR>
                    <a:lnT w="2880">
                      <a:solidFill>
                        <a:srgbClr val="cbcbcb"/>
                      </a:solidFill>
                    </a:lnT>
                    <a:lnB w="2880">
                      <a:solidFill>
                        <a:srgbClr val="cbcbcb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584280"/>
                          <a:tab algn="l" pos="1168560"/>
                          <a:tab algn="l" pos="1752480"/>
                          <a:tab algn="l" pos="2336760"/>
                          <a:tab algn="l" pos="2921040"/>
                          <a:tab algn="l" pos="3505320"/>
                          <a:tab algn="l" pos="4089240"/>
                          <a:tab algn="l" pos="4673520"/>
                          <a:tab algn="l" pos="5257800"/>
                          <a:tab algn="l" pos="5842080"/>
                          <a:tab algn="l" pos="6426360"/>
                          <a:tab algn="l" pos="7010280"/>
                          <a:tab algn="l" pos="7594560"/>
                          <a:tab algn="l" pos="8178840"/>
                          <a:tab algn="l" pos="8763120"/>
                          <a:tab algn="l" pos="9347040"/>
                          <a:tab algn="l" pos="9931320"/>
                          <a:tab algn="l" pos="10515600"/>
                        </a:tabLst>
                      </a:pPr>
                      <a:r>
                        <a:rPr b="0" lang="ru-RU" sz="3000" spc="-1" strike="noStrike">
                          <a:solidFill>
                            <a:srgbClr val="000000"/>
                          </a:solidFill>
                          <a:latin typeface="Gill Sans Light"/>
                        </a:rPr>
                        <a:t>3,1</a:t>
                      </a:r>
                      <a:endParaRPr b="0" lang="en-US" sz="3000" spc="-1" strike="noStrike">
                        <a:solidFill>
                          <a:srgbClr val="535353"/>
                        </a:solidFill>
                        <a:latin typeface="Gill Sans Light"/>
                      </a:endParaRPr>
                    </a:p>
                  </a:txBody>
                  <a:tcPr anchor="ctr" marL="50760" marR="50760">
                    <a:lnL w="2880">
                      <a:solidFill>
                        <a:srgbClr val="cbcbcb"/>
                      </a:solidFill>
                    </a:lnL>
                    <a:lnR w="2880">
                      <a:solidFill>
                        <a:srgbClr val="cbcbcb"/>
                      </a:solidFill>
                    </a:lnR>
                    <a:lnT w="2880">
                      <a:solidFill>
                        <a:srgbClr val="cbcbcb"/>
                      </a:solidFill>
                    </a:lnT>
                    <a:lnB w="2880">
                      <a:solidFill>
                        <a:srgbClr val="cbcbcb"/>
                      </a:solidFill>
                    </a:lnB>
                    <a:noFill/>
                  </a:tcPr>
                </a:tc>
              </a:tr>
              <a:tr h="716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584280"/>
                          <a:tab algn="l" pos="1168560"/>
                          <a:tab algn="l" pos="1752480"/>
                          <a:tab algn="l" pos="2336760"/>
                          <a:tab algn="l" pos="2921040"/>
                          <a:tab algn="l" pos="3505320"/>
                          <a:tab algn="l" pos="4089240"/>
                          <a:tab algn="l" pos="4673520"/>
                          <a:tab algn="l" pos="5257800"/>
                          <a:tab algn="l" pos="5842080"/>
                          <a:tab algn="l" pos="6426360"/>
                          <a:tab algn="l" pos="7010280"/>
                          <a:tab algn="l" pos="7594560"/>
                          <a:tab algn="l" pos="8178840"/>
                          <a:tab algn="l" pos="8763120"/>
                          <a:tab algn="l" pos="9347040"/>
                          <a:tab algn="l" pos="9931320"/>
                          <a:tab algn="l" pos="10515600"/>
                        </a:tabLst>
                      </a:pPr>
                      <a:r>
                        <a:rPr b="0" lang="ru-RU" sz="3000" spc="-1" strike="noStrike">
                          <a:solidFill>
                            <a:srgbClr val="000000"/>
                          </a:solidFill>
                          <a:latin typeface="Gill Sans Light"/>
                        </a:rPr>
                        <a:t>6</a:t>
                      </a:r>
                      <a:endParaRPr b="0" lang="en-US" sz="3000" spc="-1" strike="noStrike">
                        <a:solidFill>
                          <a:srgbClr val="535353"/>
                        </a:solidFill>
                        <a:latin typeface="Gill Sans Light"/>
                      </a:endParaRPr>
                    </a:p>
                  </a:txBody>
                  <a:tcPr anchor="ctr" marL="50760" marR="50760">
                    <a:lnL w="2880">
                      <a:solidFill>
                        <a:srgbClr val="cbcbcb"/>
                      </a:solidFill>
                    </a:lnL>
                    <a:lnR w="2880">
                      <a:solidFill>
                        <a:srgbClr val="cbcbcb"/>
                      </a:solidFill>
                    </a:lnR>
                    <a:lnT w="2880">
                      <a:solidFill>
                        <a:srgbClr val="cbcbcb"/>
                      </a:solidFill>
                    </a:lnT>
                    <a:lnB w="2880">
                      <a:solidFill>
                        <a:srgbClr val="cbcbcb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584280"/>
                          <a:tab algn="l" pos="1168560"/>
                          <a:tab algn="l" pos="1752480"/>
                          <a:tab algn="l" pos="2336760"/>
                          <a:tab algn="l" pos="2921040"/>
                          <a:tab algn="l" pos="3505320"/>
                          <a:tab algn="l" pos="4089240"/>
                          <a:tab algn="l" pos="4673520"/>
                          <a:tab algn="l" pos="5257800"/>
                          <a:tab algn="l" pos="5842080"/>
                          <a:tab algn="l" pos="6426360"/>
                          <a:tab algn="l" pos="7010280"/>
                          <a:tab algn="l" pos="7594560"/>
                          <a:tab algn="l" pos="8178840"/>
                          <a:tab algn="l" pos="8763120"/>
                          <a:tab algn="l" pos="9347040"/>
                          <a:tab algn="l" pos="9931320"/>
                          <a:tab algn="l" pos="10515600"/>
                        </a:tabLst>
                      </a:pPr>
                      <a:r>
                        <a:rPr b="0" lang="ru-RU" sz="3000" spc="-1" strike="noStrike">
                          <a:solidFill>
                            <a:srgbClr val="000000"/>
                          </a:solidFill>
                          <a:latin typeface="Gill Sans Light"/>
                        </a:rPr>
                        <a:t>«Холодная» война</a:t>
                      </a:r>
                      <a:endParaRPr b="0" lang="en-US" sz="3000" spc="-1" strike="noStrike">
                        <a:solidFill>
                          <a:srgbClr val="535353"/>
                        </a:solidFill>
                        <a:latin typeface="Gill Sans Light"/>
                      </a:endParaRPr>
                    </a:p>
                  </a:txBody>
                  <a:tcPr anchor="ctr" marL="50760" marR="50760">
                    <a:lnL w="2880">
                      <a:solidFill>
                        <a:srgbClr val="cbcbcb"/>
                      </a:solidFill>
                    </a:lnL>
                    <a:lnR w="2880">
                      <a:solidFill>
                        <a:srgbClr val="cbcbcb"/>
                      </a:solidFill>
                    </a:lnR>
                    <a:lnT w="2880">
                      <a:solidFill>
                        <a:srgbClr val="cbcbcb"/>
                      </a:solidFill>
                    </a:lnT>
                    <a:lnB w="2880">
                      <a:solidFill>
                        <a:srgbClr val="cbcbcb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584280"/>
                          <a:tab algn="l" pos="1168560"/>
                          <a:tab algn="l" pos="1752480"/>
                          <a:tab algn="l" pos="2336760"/>
                          <a:tab algn="l" pos="2921040"/>
                          <a:tab algn="l" pos="3505320"/>
                          <a:tab algn="l" pos="4089240"/>
                          <a:tab algn="l" pos="4673520"/>
                          <a:tab algn="l" pos="5257800"/>
                          <a:tab algn="l" pos="5842080"/>
                          <a:tab algn="l" pos="6426360"/>
                          <a:tab algn="l" pos="7010280"/>
                          <a:tab algn="l" pos="7594560"/>
                          <a:tab algn="l" pos="8178840"/>
                          <a:tab algn="l" pos="8763120"/>
                          <a:tab algn="l" pos="9347040"/>
                          <a:tab algn="l" pos="9931320"/>
                          <a:tab algn="l" pos="10515600"/>
                        </a:tabLst>
                      </a:pPr>
                      <a:r>
                        <a:rPr b="0" lang="ru-RU" sz="3000" spc="-1" strike="noStrike">
                          <a:solidFill>
                            <a:srgbClr val="000000"/>
                          </a:solidFill>
                          <a:latin typeface="Gill Sans Light"/>
                        </a:rPr>
                        <a:t>2,9</a:t>
                      </a:r>
                      <a:endParaRPr b="0" lang="en-US" sz="3000" spc="-1" strike="noStrike">
                        <a:solidFill>
                          <a:srgbClr val="535353"/>
                        </a:solidFill>
                        <a:latin typeface="Gill Sans Light"/>
                      </a:endParaRPr>
                    </a:p>
                  </a:txBody>
                  <a:tcPr anchor="ctr" marL="50760" marR="50760">
                    <a:lnL w="2880">
                      <a:solidFill>
                        <a:srgbClr val="cbcbcb"/>
                      </a:solidFill>
                    </a:lnL>
                    <a:lnR w="2880">
                      <a:solidFill>
                        <a:srgbClr val="cbcbcb"/>
                      </a:solidFill>
                    </a:lnR>
                    <a:lnT w="2880">
                      <a:solidFill>
                        <a:srgbClr val="cbcbcb"/>
                      </a:solidFill>
                    </a:lnT>
                    <a:lnB w="2880">
                      <a:solidFill>
                        <a:srgbClr val="cbcbcb"/>
                      </a:solidFill>
                    </a:lnB>
                    <a:noFill/>
                  </a:tcPr>
                </a:tc>
              </a:tr>
              <a:tr h="716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584280"/>
                          <a:tab algn="l" pos="1168560"/>
                          <a:tab algn="l" pos="1752480"/>
                          <a:tab algn="l" pos="2336760"/>
                          <a:tab algn="l" pos="2921040"/>
                          <a:tab algn="l" pos="3505320"/>
                          <a:tab algn="l" pos="4089240"/>
                          <a:tab algn="l" pos="4673520"/>
                          <a:tab algn="l" pos="5257800"/>
                          <a:tab algn="l" pos="5842080"/>
                          <a:tab algn="l" pos="6426360"/>
                          <a:tab algn="l" pos="7010280"/>
                          <a:tab algn="l" pos="7594560"/>
                          <a:tab algn="l" pos="8178840"/>
                          <a:tab algn="l" pos="8763120"/>
                          <a:tab algn="l" pos="9347040"/>
                          <a:tab algn="l" pos="9931320"/>
                          <a:tab algn="l" pos="10515600"/>
                        </a:tabLst>
                      </a:pPr>
                      <a:r>
                        <a:rPr b="0" lang="ru-RU" sz="3000" spc="-1" strike="noStrike">
                          <a:solidFill>
                            <a:srgbClr val="000000"/>
                          </a:solidFill>
                          <a:latin typeface="Gill Sans Light"/>
                        </a:rPr>
                        <a:t>7</a:t>
                      </a:r>
                      <a:endParaRPr b="0" lang="en-US" sz="3000" spc="-1" strike="noStrike">
                        <a:solidFill>
                          <a:srgbClr val="535353"/>
                        </a:solidFill>
                        <a:latin typeface="Gill Sans Light"/>
                      </a:endParaRPr>
                    </a:p>
                  </a:txBody>
                  <a:tcPr anchor="ctr" marL="50760" marR="50760">
                    <a:lnL w="2880">
                      <a:solidFill>
                        <a:srgbClr val="cbcbcb"/>
                      </a:solidFill>
                    </a:lnL>
                    <a:lnR w="2880">
                      <a:solidFill>
                        <a:srgbClr val="cbcbcb"/>
                      </a:solidFill>
                    </a:lnR>
                    <a:lnT w="2880">
                      <a:solidFill>
                        <a:srgbClr val="cbcbcb"/>
                      </a:solidFill>
                    </a:lnT>
                    <a:lnB w="2880">
                      <a:solidFill>
                        <a:srgbClr val="cbcbcb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584280"/>
                          <a:tab algn="l" pos="1168560"/>
                          <a:tab algn="l" pos="1752480"/>
                          <a:tab algn="l" pos="2336760"/>
                          <a:tab algn="l" pos="2921040"/>
                          <a:tab algn="l" pos="3505320"/>
                          <a:tab algn="l" pos="4089240"/>
                          <a:tab algn="l" pos="4673520"/>
                          <a:tab algn="l" pos="5257800"/>
                          <a:tab algn="l" pos="5842080"/>
                          <a:tab algn="l" pos="6426360"/>
                          <a:tab algn="l" pos="7010280"/>
                          <a:tab algn="l" pos="7594560"/>
                          <a:tab algn="l" pos="8178840"/>
                          <a:tab algn="l" pos="8763120"/>
                          <a:tab algn="l" pos="9347040"/>
                          <a:tab algn="l" pos="9931320"/>
                          <a:tab algn="l" pos="10515600"/>
                        </a:tabLst>
                      </a:pPr>
                      <a:r>
                        <a:rPr b="0" lang="ru-RU" sz="3000" spc="-1" strike="noStrike">
                          <a:solidFill>
                            <a:srgbClr val="000000"/>
                          </a:solidFill>
                          <a:latin typeface="Gill Sans Light"/>
                        </a:rPr>
                        <a:t>НЭП, индустриализация</a:t>
                      </a:r>
                      <a:endParaRPr b="0" lang="en-US" sz="3000" spc="-1" strike="noStrike">
                        <a:solidFill>
                          <a:srgbClr val="535353"/>
                        </a:solidFill>
                        <a:latin typeface="Gill Sans Light"/>
                      </a:endParaRPr>
                    </a:p>
                  </a:txBody>
                  <a:tcPr anchor="ctr" marL="50760" marR="50760">
                    <a:lnL w="2880">
                      <a:solidFill>
                        <a:srgbClr val="cbcbcb"/>
                      </a:solidFill>
                    </a:lnL>
                    <a:lnR w="2880">
                      <a:solidFill>
                        <a:srgbClr val="cbcbcb"/>
                      </a:solidFill>
                    </a:lnR>
                    <a:lnT w="2880">
                      <a:solidFill>
                        <a:srgbClr val="cbcbcb"/>
                      </a:solidFill>
                    </a:lnT>
                    <a:lnB w="2880">
                      <a:solidFill>
                        <a:srgbClr val="cbcbcb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584280"/>
                          <a:tab algn="l" pos="1168560"/>
                          <a:tab algn="l" pos="1752480"/>
                          <a:tab algn="l" pos="2336760"/>
                          <a:tab algn="l" pos="2921040"/>
                          <a:tab algn="l" pos="3505320"/>
                          <a:tab algn="l" pos="4089240"/>
                          <a:tab algn="l" pos="4673520"/>
                          <a:tab algn="l" pos="5257800"/>
                          <a:tab algn="l" pos="5842080"/>
                          <a:tab algn="l" pos="6426360"/>
                          <a:tab algn="l" pos="7010280"/>
                          <a:tab algn="l" pos="7594560"/>
                          <a:tab algn="l" pos="8178840"/>
                          <a:tab algn="l" pos="8763120"/>
                          <a:tab algn="l" pos="9347040"/>
                          <a:tab algn="l" pos="9931320"/>
                          <a:tab algn="l" pos="10515600"/>
                        </a:tabLst>
                      </a:pPr>
                      <a:r>
                        <a:rPr b="0" lang="ru-RU" sz="3000" spc="-1" strike="noStrike">
                          <a:solidFill>
                            <a:srgbClr val="000000"/>
                          </a:solidFill>
                          <a:latin typeface="Gill Sans Light"/>
                        </a:rPr>
                        <a:t>2,5</a:t>
                      </a:r>
                      <a:endParaRPr b="0" lang="en-US" sz="3000" spc="-1" strike="noStrike">
                        <a:solidFill>
                          <a:srgbClr val="535353"/>
                        </a:solidFill>
                        <a:latin typeface="Gill Sans Light"/>
                      </a:endParaRPr>
                    </a:p>
                  </a:txBody>
                  <a:tcPr anchor="ctr" marL="50760" marR="50760">
                    <a:lnL w="2880">
                      <a:solidFill>
                        <a:srgbClr val="cbcbcb"/>
                      </a:solidFill>
                    </a:lnL>
                    <a:lnR w="2880">
                      <a:solidFill>
                        <a:srgbClr val="cbcbcb"/>
                      </a:solidFill>
                    </a:lnR>
                    <a:lnT w="2880">
                      <a:solidFill>
                        <a:srgbClr val="cbcbcb"/>
                      </a:solidFill>
                    </a:lnT>
                    <a:lnB w="2880">
                      <a:solidFill>
                        <a:srgbClr val="cbcbcb"/>
                      </a:solidFill>
                    </a:lnB>
                    <a:noFill/>
                  </a:tcPr>
                </a:tc>
              </a:tr>
              <a:tr h="7146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584280"/>
                          <a:tab algn="l" pos="1168560"/>
                          <a:tab algn="l" pos="1752480"/>
                          <a:tab algn="l" pos="2336760"/>
                          <a:tab algn="l" pos="2921040"/>
                          <a:tab algn="l" pos="3505320"/>
                          <a:tab algn="l" pos="4089240"/>
                          <a:tab algn="l" pos="4673520"/>
                          <a:tab algn="l" pos="5257800"/>
                          <a:tab algn="l" pos="5842080"/>
                          <a:tab algn="l" pos="6426360"/>
                          <a:tab algn="l" pos="7010280"/>
                          <a:tab algn="l" pos="7594560"/>
                          <a:tab algn="l" pos="8178840"/>
                          <a:tab algn="l" pos="8763120"/>
                          <a:tab algn="l" pos="9347040"/>
                          <a:tab algn="l" pos="9931320"/>
                          <a:tab algn="l" pos="10515600"/>
                        </a:tabLst>
                      </a:pPr>
                      <a:r>
                        <a:rPr b="0" lang="ru-RU" sz="3000" spc="-1" strike="noStrike">
                          <a:solidFill>
                            <a:srgbClr val="000000"/>
                          </a:solidFill>
                          <a:latin typeface="Gill Sans Light"/>
                        </a:rPr>
                        <a:t>8</a:t>
                      </a:r>
                      <a:endParaRPr b="0" lang="en-US" sz="3000" spc="-1" strike="noStrike">
                        <a:solidFill>
                          <a:srgbClr val="535353"/>
                        </a:solidFill>
                        <a:latin typeface="Gill Sans Light"/>
                      </a:endParaRPr>
                    </a:p>
                  </a:txBody>
                  <a:tcPr anchor="ctr" marL="50760" marR="50760">
                    <a:lnL w="2880">
                      <a:solidFill>
                        <a:srgbClr val="cbcbcb"/>
                      </a:solidFill>
                    </a:lnL>
                    <a:lnR w="2880">
                      <a:solidFill>
                        <a:srgbClr val="cbcbcb"/>
                      </a:solidFill>
                    </a:lnR>
                    <a:lnT w="2880">
                      <a:solidFill>
                        <a:srgbClr val="cbcbcb"/>
                      </a:solidFill>
                    </a:lnT>
                    <a:lnB w="2880">
                      <a:solidFill>
                        <a:srgbClr val="cbcbcb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584280"/>
                          <a:tab algn="l" pos="1168560"/>
                          <a:tab algn="l" pos="1752480"/>
                          <a:tab algn="l" pos="2336760"/>
                          <a:tab algn="l" pos="2921040"/>
                          <a:tab algn="l" pos="3505320"/>
                          <a:tab algn="l" pos="4089240"/>
                          <a:tab algn="l" pos="4673520"/>
                          <a:tab algn="l" pos="5257800"/>
                          <a:tab algn="l" pos="5842080"/>
                          <a:tab algn="l" pos="6426360"/>
                          <a:tab algn="l" pos="7010280"/>
                          <a:tab algn="l" pos="7594560"/>
                          <a:tab algn="l" pos="8178840"/>
                          <a:tab algn="l" pos="8763120"/>
                          <a:tab algn="l" pos="9347040"/>
                          <a:tab algn="l" pos="9931320"/>
                          <a:tab algn="l" pos="10515600"/>
                        </a:tabLst>
                      </a:pPr>
                      <a:r>
                        <a:rPr b="0" lang="ru-RU" sz="3000" spc="-1" strike="noStrike">
                          <a:solidFill>
                            <a:srgbClr val="000000"/>
                          </a:solidFill>
                          <a:latin typeface="Gill Sans Light"/>
                        </a:rPr>
                        <a:t>Гражданская война</a:t>
                      </a:r>
                      <a:endParaRPr b="0" lang="en-US" sz="3000" spc="-1" strike="noStrike">
                        <a:solidFill>
                          <a:srgbClr val="535353"/>
                        </a:solidFill>
                        <a:latin typeface="Gill Sans Light"/>
                      </a:endParaRPr>
                    </a:p>
                  </a:txBody>
                  <a:tcPr anchor="ctr" marL="50760" marR="50760">
                    <a:lnL w="2880">
                      <a:solidFill>
                        <a:srgbClr val="cbcbcb"/>
                      </a:solidFill>
                    </a:lnL>
                    <a:lnR w="2880">
                      <a:solidFill>
                        <a:srgbClr val="cbcbcb"/>
                      </a:solidFill>
                    </a:lnR>
                    <a:lnT w="2880">
                      <a:solidFill>
                        <a:srgbClr val="cbcbcb"/>
                      </a:solidFill>
                    </a:lnT>
                    <a:lnB w="2880">
                      <a:solidFill>
                        <a:srgbClr val="cbcbcb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584280"/>
                          <a:tab algn="l" pos="1168560"/>
                          <a:tab algn="l" pos="1752480"/>
                          <a:tab algn="l" pos="2336760"/>
                          <a:tab algn="l" pos="2921040"/>
                          <a:tab algn="l" pos="3505320"/>
                          <a:tab algn="l" pos="4089240"/>
                          <a:tab algn="l" pos="4673520"/>
                          <a:tab algn="l" pos="5257800"/>
                          <a:tab algn="l" pos="5842080"/>
                          <a:tab algn="l" pos="6426360"/>
                          <a:tab algn="l" pos="7010280"/>
                          <a:tab algn="l" pos="7594560"/>
                          <a:tab algn="l" pos="8178840"/>
                          <a:tab algn="l" pos="8763120"/>
                          <a:tab algn="l" pos="9347040"/>
                          <a:tab algn="l" pos="9931320"/>
                          <a:tab algn="l" pos="10515600"/>
                        </a:tabLst>
                      </a:pPr>
                      <a:r>
                        <a:rPr b="0" lang="ru-RU" sz="3000" spc="-1" strike="noStrike">
                          <a:solidFill>
                            <a:srgbClr val="000000"/>
                          </a:solidFill>
                          <a:latin typeface="Gill Sans Light"/>
                        </a:rPr>
                        <a:t>2,1</a:t>
                      </a:r>
                      <a:endParaRPr b="0" lang="en-US" sz="3000" spc="-1" strike="noStrike">
                        <a:solidFill>
                          <a:srgbClr val="535353"/>
                        </a:solidFill>
                        <a:latin typeface="Gill Sans Light"/>
                      </a:endParaRPr>
                    </a:p>
                  </a:txBody>
                  <a:tcPr anchor="ctr" marL="50760" marR="50760">
                    <a:lnL w="2880">
                      <a:solidFill>
                        <a:srgbClr val="cbcbcb"/>
                      </a:solidFill>
                    </a:lnL>
                    <a:lnR w="2880">
                      <a:solidFill>
                        <a:srgbClr val="cbcbcb"/>
                      </a:solidFill>
                    </a:lnR>
                    <a:lnT w="2880">
                      <a:solidFill>
                        <a:srgbClr val="cbcbcb"/>
                      </a:solidFill>
                    </a:lnT>
                    <a:lnB w="2880">
                      <a:solidFill>
                        <a:srgbClr val="cbcbcb"/>
                      </a:solidFill>
                    </a:lnB>
                    <a:noFill/>
                  </a:tcPr>
                </a:tc>
              </a:tr>
              <a:tr h="7142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584280"/>
                          <a:tab algn="l" pos="1168560"/>
                          <a:tab algn="l" pos="1752480"/>
                          <a:tab algn="l" pos="2336760"/>
                          <a:tab algn="l" pos="2921040"/>
                          <a:tab algn="l" pos="3505320"/>
                          <a:tab algn="l" pos="4089240"/>
                          <a:tab algn="l" pos="4673520"/>
                          <a:tab algn="l" pos="5257800"/>
                          <a:tab algn="l" pos="5842080"/>
                          <a:tab algn="l" pos="6426360"/>
                          <a:tab algn="l" pos="7010280"/>
                          <a:tab algn="l" pos="7594560"/>
                          <a:tab algn="l" pos="8178840"/>
                          <a:tab algn="l" pos="8763120"/>
                          <a:tab algn="l" pos="9347040"/>
                          <a:tab algn="l" pos="9931320"/>
                          <a:tab algn="l" pos="10515600"/>
                        </a:tabLst>
                      </a:pPr>
                      <a:r>
                        <a:rPr b="0" lang="ru-RU" sz="3000" spc="-1" strike="noStrike">
                          <a:solidFill>
                            <a:srgbClr val="000000"/>
                          </a:solidFill>
                          <a:latin typeface="Gill Sans Light"/>
                        </a:rPr>
                        <a:t>9</a:t>
                      </a:r>
                      <a:endParaRPr b="0" lang="en-US" sz="3000" spc="-1" strike="noStrike">
                        <a:solidFill>
                          <a:srgbClr val="535353"/>
                        </a:solidFill>
                        <a:latin typeface="Gill Sans Light"/>
                      </a:endParaRPr>
                    </a:p>
                  </a:txBody>
                  <a:tcPr anchor="ctr" marL="50760" marR="50760">
                    <a:lnL w="2880">
                      <a:solidFill>
                        <a:srgbClr val="cbcbcb"/>
                      </a:solidFill>
                    </a:lnL>
                    <a:lnR w="2880">
                      <a:solidFill>
                        <a:srgbClr val="cbcbcb"/>
                      </a:solidFill>
                    </a:lnR>
                    <a:lnT w="2880">
                      <a:solidFill>
                        <a:srgbClr val="cbcbcb"/>
                      </a:solidFill>
                    </a:lnT>
                    <a:lnB w="2880">
                      <a:solidFill>
                        <a:srgbClr val="cbcbcb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584280"/>
                          <a:tab algn="l" pos="1168560"/>
                          <a:tab algn="l" pos="1752480"/>
                          <a:tab algn="l" pos="2336760"/>
                          <a:tab algn="l" pos="2921040"/>
                          <a:tab algn="l" pos="3505320"/>
                          <a:tab algn="l" pos="4089240"/>
                          <a:tab algn="l" pos="4673520"/>
                          <a:tab algn="l" pos="5257800"/>
                          <a:tab algn="l" pos="5842080"/>
                          <a:tab algn="l" pos="6426360"/>
                          <a:tab algn="l" pos="7010280"/>
                          <a:tab algn="l" pos="7594560"/>
                          <a:tab algn="l" pos="8178840"/>
                          <a:tab algn="l" pos="8763120"/>
                          <a:tab algn="l" pos="9347040"/>
                          <a:tab algn="l" pos="9931320"/>
                          <a:tab algn="l" pos="10515600"/>
                        </a:tabLst>
                      </a:pPr>
                      <a:r>
                        <a:rPr b="0" lang="ru-RU" sz="3000" spc="-1" strike="noStrike">
                          <a:solidFill>
                            <a:srgbClr val="000000"/>
                          </a:solidFill>
                          <a:latin typeface="Gill Sans Light"/>
                        </a:rPr>
                        <a:t>Другое</a:t>
                      </a:r>
                      <a:endParaRPr b="0" lang="en-US" sz="3000" spc="-1" strike="noStrike">
                        <a:solidFill>
                          <a:srgbClr val="535353"/>
                        </a:solidFill>
                        <a:latin typeface="Gill Sans Light"/>
                      </a:endParaRPr>
                    </a:p>
                  </a:txBody>
                  <a:tcPr anchor="ctr" marL="50760" marR="50760">
                    <a:lnL w="2880">
                      <a:solidFill>
                        <a:srgbClr val="cbcbcb"/>
                      </a:solidFill>
                    </a:lnL>
                    <a:lnR w="2880">
                      <a:solidFill>
                        <a:srgbClr val="cbcbcb"/>
                      </a:solidFill>
                    </a:lnR>
                    <a:lnT w="2880">
                      <a:solidFill>
                        <a:srgbClr val="cbcbcb"/>
                      </a:solidFill>
                    </a:lnT>
                    <a:lnB w="2880">
                      <a:solidFill>
                        <a:srgbClr val="cbcbcb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584280"/>
                          <a:tab algn="l" pos="1168560"/>
                          <a:tab algn="l" pos="1752480"/>
                          <a:tab algn="l" pos="2336760"/>
                          <a:tab algn="l" pos="2921040"/>
                          <a:tab algn="l" pos="3505320"/>
                          <a:tab algn="l" pos="4089240"/>
                          <a:tab algn="l" pos="4673520"/>
                          <a:tab algn="l" pos="5257800"/>
                          <a:tab algn="l" pos="5842080"/>
                          <a:tab algn="l" pos="6426360"/>
                          <a:tab algn="l" pos="7010280"/>
                          <a:tab algn="l" pos="7594560"/>
                          <a:tab algn="l" pos="8178840"/>
                          <a:tab algn="l" pos="8763120"/>
                          <a:tab algn="l" pos="9347040"/>
                          <a:tab algn="l" pos="9931320"/>
                          <a:tab algn="l" pos="10515600"/>
                        </a:tabLst>
                      </a:pPr>
                      <a:r>
                        <a:rPr b="0" lang="ru-RU" sz="3000" spc="-1" strike="noStrike">
                          <a:solidFill>
                            <a:srgbClr val="000000"/>
                          </a:solidFill>
                          <a:latin typeface="Gill Sans Light"/>
                        </a:rPr>
                        <a:t>2,5</a:t>
                      </a:r>
                      <a:endParaRPr b="0" lang="en-US" sz="3000" spc="-1" strike="noStrike">
                        <a:solidFill>
                          <a:srgbClr val="535353"/>
                        </a:solidFill>
                        <a:latin typeface="Gill Sans Light"/>
                      </a:endParaRPr>
                    </a:p>
                  </a:txBody>
                  <a:tcPr anchor="ctr" marL="50760" marR="50760">
                    <a:lnL w="2880">
                      <a:solidFill>
                        <a:srgbClr val="cbcbcb"/>
                      </a:solidFill>
                    </a:lnL>
                    <a:lnR w="2880">
                      <a:solidFill>
                        <a:srgbClr val="cbcbcb"/>
                      </a:solidFill>
                    </a:lnR>
                    <a:lnT w="2880">
                      <a:solidFill>
                        <a:srgbClr val="cbcbcb"/>
                      </a:solidFill>
                    </a:lnT>
                    <a:lnB w="2880">
                      <a:solidFill>
                        <a:srgbClr val="cbcbcb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358920" y="1662120"/>
          <a:ext cx="12358440" cy="7789680"/>
        </p:xfrm>
        <a:graphic>
          <a:graphicData uri="http://schemas.openxmlformats.org/drawingml/2006/table">
            <a:tbl>
              <a:tblPr/>
              <a:tblGrid>
                <a:gridCol w="707760"/>
                <a:gridCol w="3381480"/>
                <a:gridCol w="2819520"/>
                <a:gridCol w="2631960"/>
                <a:gridCol w="2817720"/>
              </a:tblGrid>
              <a:tr h="13129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584280"/>
                          <a:tab algn="l" pos="1168560"/>
                          <a:tab algn="l" pos="1752480"/>
                          <a:tab algn="l" pos="2336760"/>
                          <a:tab algn="l" pos="2921040"/>
                          <a:tab algn="l" pos="3505320"/>
                          <a:tab algn="l" pos="4089240"/>
                          <a:tab algn="l" pos="4673520"/>
                          <a:tab algn="l" pos="5257800"/>
                          <a:tab algn="l" pos="5842080"/>
                          <a:tab algn="l" pos="6426360"/>
                          <a:tab algn="l" pos="7010280"/>
                          <a:tab algn="l" pos="7594560"/>
                          <a:tab algn="l" pos="8178840"/>
                          <a:tab algn="l" pos="8763120"/>
                          <a:tab algn="l" pos="9347040"/>
                          <a:tab algn="l" pos="9931320"/>
                          <a:tab algn="l" pos="10515600"/>
                        </a:tabLst>
                      </a:pPr>
                      <a:r>
                        <a:rPr b="0" lang="ru-RU" sz="2800" spc="-1" strike="noStrike">
                          <a:solidFill>
                            <a:srgbClr val="535353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2800" spc="-1" strike="noStrike">
                        <a:solidFill>
                          <a:srgbClr val="535353"/>
                        </a:solidFill>
                        <a:latin typeface="Gill Sans Light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584280"/>
                          <a:tab algn="l" pos="1168560"/>
                          <a:tab algn="l" pos="1752480"/>
                          <a:tab algn="l" pos="2336760"/>
                          <a:tab algn="l" pos="2921040"/>
                          <a:tab algn="l" pos="3505320"/>
                          <a:tab algn="l" pos="4089240"/>
                          <a:tab algn="l" pos="4673520"/>
                          <a:tab algn="l" pos="5257800"/>
                          <a:tab algn="l" pos="5842080"/>
                          <a:tab algn="l" pos="6426360"/>
                          <a:tab algn="l" pos="7010280"/>
                          <a:tab algn="l" pos="7594560"/>
                          <a:tab algn="l" pos="8178840"/>
                          <a:tab algn="l" pos="8763120"/>
                          <a:tab algn="l" pos="9347040"/>
                          <a:tab algn="l" pos="9931320"/>
                          <a:tab algn="l" pos="10515600"/>
                        </a:tabLst>
                      </a:pPr>
                      <a:r>
                        <a:rPr b="0" lang="ru-RU" sz="2800" spc="-1" strike="noStrike">
                          <a:solidFill>
                            <a:srgbClr val="535353"/>
                          </a:solidFill>
                          <a:latin typeface="Times New Roman"/>
                          <a:ea typeface="Times New Roman"/>
                        </a:rPr>
                        <a:t>Политический деятель</a:t>
                      </a:r>
                      <a:endParaRPr b="0" lang="en-US" sz="2800" spc="-1" strike="noStrike">
                        <a:solidFill>
                          <a:srgbClr val="535353"/>
                        </a:solidFill>
                        <a:latin typeface="Gill Sans Light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584280"/>
                          <a:tab algn="l" pos="1168560"/>
                          <a:tab algn="l" pos="1752480"/>
                          <a:tab algn="l" pos="2336760"/>
                          <a:tab algn="l" pos="2921040"/>
                          <a:tab algn="l" pos="3505320"/>
                          <a:tab algn="l" pos="4089240"/>
                          <a:tab algn="l" pos="4673520"/>
                          <a:tab algn="l" pos="5257800"/>
                          <a:tab algn="l" pos="5842080"/>
                          <a:tab algn="l" pos="6426360"/>
                          <a:tab algn="l" pos="7010280"/>
                          <a:tab algn="l" pos="7594560"/>
                          <a:tab algn="l" pos="8178840"/>
                          <a:tab algn="l" pos="8763120"/>
                          <a:tab algn="l" pos="9347040"/>
                          <a:tab algn="l" pos="9931320"/>
                          <a:tab algn="l" pos="10515600"/>
                        </a:tabLst>
                      </a:pPr>
                      <a:r>
                        <a:rPr b="0" lang="ru-RU" sz="2800" spc="-1" strike="noStrike">
                          <a:solidFill>
                            <a:srgbClr val="535353"/>
                          </a:solidFill>
                          <a:latin typeface="Times New Roman"/>
                          <a:ea typeface="Times New Roman"/>
                        </a:rPr>
                        <a:t>Положительный</a:t>
                      </a:r>
                      <a:endParaRPr b="0" lang="en-US" sz="2800" spc="-1" strike="noStrike">
                        <a:solidFill>
                          <a:srgbClr val="535353"/>
                        </a:solidFill>
                        <a:latin typeface="Gill Sans Light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584280"/>
                          <a:tab algn="l" pos="1168560"/>
                          <a:tab algn="l" pos="1752480"/>
                          <a:tab algn="l" pos="2336760"/>
                          <a:tab algn="l" pos="2921040"/>
                          <a:tab algn="l" pos="3505320"/>
                          <a:tab algn="l" pos="4089240"/>
                          <a:tab algn="l" pos="4673520"/>
                          <a:tab algn="l" pos="5257800"/>
                          <a:tab algn="l" pos="5842080"/>
                          <a:tab algn="l" pos="6426360"/>
                          <a:tab algn="l" pos="7010280"/>
                          <a:tab algn="l" pos="7594560"/>
                          <a:tab algn="l" pos="8178840"/>
                          <a:tab algn="l" pos="8763120"/>
                          <a:tab algn="l" pos="9347040"/>
                          <a:tab algn="l" pos="9931320"/>
                          <a:tab algn="l" pos="10515600"/>
                        </a:tabLst>
                      </a:pPr>
                      <a:r>
                        <a:rPr b="0" lang="ru-RU" sz="2800" spc="-1" strike="noStrike">
                          <a:solidFill>
                            <a:srgbClr val="535353"/>
                          </a:solidFill>
                          <a:latin typeface="Times New Roman"/>
                          <a:ea typeface="Times New Roman"/>
                        </a:rPr>
                        <a:t>Нейтральный</a:t>
                      </a:r>
                      <a:endParaRPr b="0" lang="en-US" sz="2800" spc="-1" strike="noStrike">
                        <a:solidFill>
                          <a:srgbClr val="535353"/>
                        </a:solidFill>
                        <a:latin typeface="Gill Sans Light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584280"/>
                          <a:tab algn="l" pos="1168560"/>
                          <a:tab algn="l" pos="1752480"/>
                          <a:tab algn="l" pos="2336760"/>
                          <a:tab algn="l" pos="2921040"/>
                          <a:tab algn="l" pos="3505320"/>
                          <a:tab algn="l" pos="4089240"/>
                          <a:tab algn="l" pos="4673520"/>
                          <a:tab algn="l" pos="5257800"/>
                          <a:tab algn="l" pos="5842080"/>
                          <a:tab algn="l" pos="6426360"/>
                          <a:tab algn="l" pos="7010280"/>
                          <a:tab algn="l" pos="7594560"/>
                          <a:tab algn="l" pos="8178840"/>
                          <a:tab algn="l" pos="8763120"/>
                          <a:tab algn="l" pos="9347040"/>
                          <a:tab algn="l" pos="9931320"/>
                          <a:tab algn="l" pos="10515600"/>
                        </a:tabLst>
                      </a:pPr>
                      <a:r>
                        <a:rPr b="0" lang="ru-RU" sz="2800" spc="-1" strike="noStrike">
                          <a:solidFill>
                            <a:srgbClr val="535353"/>
                          </a:solidFill>
                          <a:latin typeface="Times New Roman"/>
                          <a:ea typeface="Times New Roman"/>
                        </a:rPr>
                        <a:t>Отрицательный</a:t>
                      </a:r>
                      <a:endParaRPr b="0" lang="en-US" sz="2800" spc="-1" strike="noStrike">
                        <a:solidFill>
                          <a:srgbClr val="535353"/>
                        </a:solidFill>
                        <a:latin typeface="Gill Sans Light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70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584280"/>
                          <a:tab algn="l" pos="1168560"/>
                          <a:tab algn="l" pos="1752480"/>
                          <a:tab algn="l" pos="2336760"/>
                          <a:tab algn="l" pos="2921040"/>
                          <a:tab algn="l" pos="3505320"/>
                          <a:tab algn="l" pos="4089240"/>
                          <a:tab algn="l" pos="4673520"/>
                          <a:tab algn="l" pos="5257800"/>
                          <a:tab algn="l" pos="5842080"/>
                          <a:tab algn="l" pos="6426360"/>
                          <a:tab algn="l" pos="7010280"/>
                          <a:tab algn="l" pos="7594560"/>
                          <a:tab algn="l" pos="8178840"/>
                          <a:tab algn="l" pos="8763120"/>
                          <a:tab algn="l" pos="9347040"/>
                          <a:tab algn="l" pos="9931320"/>
                          <a:tab algn="l" pos="10515600"/>
                        </a:tabLst>
                      </a:pPr>
                      <a:r>
                        <a:rPr b="0" lang="ru-RU" sz="2800" spc="-1" strike="noStrike">
                          <a:solidFill>
                            <a:srgbClr val="535353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535353"/>
                        </a:solidFill>
                        <a:latin typeface="Gill Sans Light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584280"/>
                          <a:tab algn="l" pos="1168560"/>
                          <a:tab algn="l" pos="1752480"/>
                          <a:tab algn="l" pos="2336760"/>
                          <a:tab algn="l" pos="2921040"/>
                          <a:tab algn="l" pos="3505320"/>
                          <a:tab algn="l" pos="4089240"/>
                          <a:tab algn="l" pos="4673520"/>
                          <a:tab algn="l" pos="5257800"/>
                          <a:tab algn="l" pos="5842080"/>
                          <a:tab algn="l" pos="6426360"/>
                          <a:tab algn="l" pos="7010280"/>
                          <a:tab algn="l" pos="7594560"/>
                          <a:tab algn="l" pos="8178840"/>
                          <a:tab algn="l" pos="8763120"/>
                          <a:tab algn="l" pos="9347040"/>
                          <a:tab algn="l" pos="9931320"/>
                          <a:tab algn="l" pos="10515600"/>
                        </a:tabLst>
                      </a:pPr>
                      <a:r>
                        <a:rPr b="0" lang="ru-RU" sz="2800" spc="-1" strike="noStrike">
                          <a:solidFill>
                            <a:srgbClr val="535353"/>
                          </a:solidFill>
                          <a:latin typeface="Times New Roman"/>
                          <a:ea typeface="Times New Roman"/>
                        </a:rPr>
                        <a:t>Николай </a:t>
                      </a:r>
                      <a:r>
                        <a:rPr b="0" lang="en-US" sz="2800" spc="-1" strike="noStrike">
                          <a:solidFill>
                            <a:srgbClr val="535353"/>
                          </a:solidFill>
                          <a:latin typeface="Times New Roman"/>
                          <a:ea typeface="Times New Roman"/>
                        </a:rPr>
                        <a:t>II</a:t>
                      </a:r>
                      <a:endParaRPr b="0" lang="en-US" sz="2800" spc="-1" strike="noStrike">
                        <a:solidFill>
                          <a:srgbClr val="535353"/>
                        </a:solidFill>
                        <a:latin typeface="Gill Sans Light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584280"/>
                          <a:tab algn="l" pos="1168560"/>
                          <a:tab algn="l" pos="1752480"/>
                          <a:tab algn="l" pos="2336760"/>
                          <a:tab algn="l" pos="2921040"/>
                          <a:tab algn="l" pos="3505320"/>
                          <a:tab algn="l" pos="4089240"/>
                          <a:tab algn="l" pos="4673520"/>
                          <a:tab algn="l" pos="5257800"/>
                          <a:tab algn="l" pos="5842080"/>
                          <a:tab algn="l" pos="6426360"/>
                          <a:tab algn="l" pos="7010280"/>
                          <a:tab algn="l" pos="7594560"/>
                          <a:tab algn="l" pos="8178840"/>
                          <a:tab algn="l" pos="8763120"/>
                          <a:tab algn="l" pos="9347040"/>
                          <a:tab algn="l" pos="9931320"/>
                          <a:tab algn="l" pos="10515600"/>
                        </a:tabLst>
                      </a:pPr>
                      <a:r>
                        <a:rPr b="0" lang="ru-RU" sz="2800" spc="-1" strike="noStrike">
                          <a:solidFill>
                            <a:srgbClr val="535353"/>
                          </a:solidFill>
                          <a:latin typeface="Times New Roman"/>
                          <a:ea typeface="Times New Roman"/>
                        </a:rPr>
                        <a:t>73,5</a:t>
                      </a:r>
                      <a:endParaRPr b="0" lang="en-US" sz="2800" spc="-1" strike="noStrike">
                        <a:solidFill>
                          <a:srgbClr val="535353"/>
                        </a:solidFill>
                        <a:latin typeface="Gill Sans Light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584280"/>
                          <a:tab algn="l" pos="1168560"/>
                          <a:tab algn="l" pos="1752480"/>
                          <a:tab algn="l" pos="2336760"/>
                          <a:tab algn="l" pos="2921040"/>
                          <a:tab algn="l" pos="3505320"/>
                          <a:tab algn="l" pos="4089240"/>
                          <a:tab algn="l" pos="4673520"/>
                          <a:tab algn="l" pos="5257800"/>
                          <a:tab algn="l" pos="5842080"/>
                          <a:tab algn="l" pos="6426360"/>
                          <a:tab algn="l" pos="7010280"/>
                          <a:tab algn="l" pos="7594560"/>
                          <a:tab algn="l" pos="8178840"/>
                          <a:tab algn="l" pos="8763120"/>
                          <a:tab algn="l" pos="9347040"/>
                          <a:tab algn="l" pos="9931320"/>
                          <a:tab algn="l" pos="10515600"/>
                        </a:tabLst>
                      </a:pPr>
                      <a:r>
                        <a:rPr b="0" lang="ru-RU" sz="2800" spc="-1" strike="noStrike">
                          <a:solidFill>
                            <a:srgbClr val="535353"/>
                          </a:solidFill>
                          <a:latin typeface="Times New Roman"/>
                          <a:ea typeface="Times New Roman"/>
                        </a:rPr>
                        <a:t>15,8</a:t>
                      </a:r>
                      <a:endParaRPr b="0" lang="en-US" sz="2800" spc="-1" strike="noStrike">
                        <a:solidFill>
                          <a:srgbClr val="535353"/>
                        </a:solidFill>
                        <a:latin typeface="Gill Sans Light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584280"/>
                          <a:tab algn="l" pos="1168560"/>
                          <a:tab algn="l" pos="1752480"/>
                          <a:tab algn="l" pos="2336760"/>
                          <a:tab algn="l" pos="2921040"/>
                          <a:tab algn="l" pos="3505320"/>
                          <a:tab algn="l" pos="4089240"/>
                          <a:tab algn="l" pos="4673520"/>
                          <a:tab algn="l" pos="5257800"/>
                          <a:tab algn="l" pos="5842080"/>
                          <a:tab algn="l" pos="6426360"/>
                          <a:tab algn="l" pos="7010280"/>
                          <a:tab algn="l" pos="7594560"/>
                          <a:tab algn="l" pos="8178840"/>
                          <a:tab algn="l" pos="8763120"/>
                          <a:tab algn="l" pos="9347040"/>
                          <a:tab algn="l" pos="9931320"/>
                          <a:tab algn="l" pos="10515600"/>
                        </a:tabLst>
                      </a:pPr>
                      <a:r>
                        <a:rPr b="0" lang="ru-RU" sz="2800" spc="-1" strike="noStrike">
                          <a:solidFill>
                            <a:srgbClr val="535353"/>
                          </a:solidFill>
                          <a:latin typeface="Times New Roman"/>
                          <a:ea typeface="Times New Roman"/>
                        </a:rPr>
                        <a:t>10,7</a:t>
                      </a:r>
                      <a:endParaRPr b="0" lang="en-US" sz="2800" spc="-1" strike="noStrike">
                        <a:solidFill>
                          <a:srgbClr val="535353"/>
                        </a:solidFill>
                        <a:latin typeface="Gill Sans Light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09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584280"/>
                          <a:tab algn="l" pos="1168560"/>
                          <a:tab algn="l" pos="1752480"/>
                          <a:tab algn="l" pos="2336760"/>
                          <a:tab algn="l" pos="2921040"/>
                          <a:tab algn="l" pos="3505320"/>
                          <a:tab algn="l" pos="4089240"/>
                          <a:tab algn="l" pos="4673520"/>
                          <a:tab algn="l" pos="5257800"/>
                          <a:tab algn="l" pos="5842080"/>
                          <a:tab algn="l" pos="6426360"/>
                          <a:tab algn="l" pos="7010280"/>
                          <a:tab algn="l" pos="7594560"/>
                          <a:tab algn="l" pos="8178840"/>
                          <a:tab algn="l" pos="8763120"/>
                          <a:tab algn="l" pos="9347040"/>
                          <a:tab algn="l" pos="9931320"/>
                          <a:tab algn="l" pos="10515600"/>
                        </a:tabLst>
                      </a:pPr>
                      <a:r>
                        <a:rPr b="0" lang="ru-RU" sz="2800" spc="-1" strike="noStrike">
                          <a:solidFill>
                            <a:srgbClr val="535353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535353"/>
                        </a:solidFill>
                        <a:latin typeface="Gill Sans Light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584280"/>
                          <a:tab algn="l" pos="1168560"/>
                          <a:tab algn="l" pos="1752480"/>
                          <a:tab algn="l" pos="2336760"/>
                          <a:tab algn="l" pos="2921040"/>
                          <a:tab algn="l" pos="3505320"/>
                          <a:tab algn="l" pos="4089240"/>
                          <a:tab algn="l" pos="4673520"/>
                          <a:tab algn="l" pos="5257800"/>
                          <a:tab algn="l" pos="5842080"/>
                          <a:tab algn="l" pos="6426360"/>
                          <a:tab algn="l" pos="7010280"/>
                          <a:tab algn="l" pos="7594560"/>
                          <a:tab algn="l" pos="8178840"/>
                          <a:tab algn="l" pos="8763120"/>
                          <a:tab algn="l" pos="9347040"/>
                          <a:tab algn="l" pos="9931320"/>
                          <a:tab algn="l" pos="10515600"/>
                        </a:tabLst>
                      </a:pPr>
                      <a:r>
                        <a:rPr b="0" lang="ru-RU" sz="2800" spc="-1" strike="noStrike">
                          <a:solidFill>
                            <a:srgbClr val="535353"/>
                          </a:solidFill>
                          <a:latin typeface="Times New Roman"/>
                          <a:ea typeface="Times New Roman"/>
                        </a:rPr>
                        <a:t>Ленин В.И.</a:t>
                      </a:r>
                      <a:endParaRPr b="0" lang="en-US" sz="2800" spc="-1" strike="noStrike">
                        <a:solidFill>
                          <a:srgbClr val="535353"/>
                        </a:solidFill>
                        <a:latin typeface="Gill Sans Light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584280"/>
                          <a:tab algn="l" pos="1168560"/>
                          <a:tab algn="l" pos="1752480"/>
                          <a:tab algn="l" pos="2336760"/>
                          <a:tab algn="l" pos="2921040"/>
                          <a:tab algn="l" pos="3505320"/>
                          <a:tab algn="l" pos="4089240"/>
                          <a:tab algn="l" pos="4673520"/>
                          <a:tab algn="l" pos="5257800"/>
                          <a:tab algn="l" pos="5842080"/>
                          <a:tab algn="l" pos="6426360"/>
                          <a:tab algn="l" pos="7010280"/>
                          <a:tab algn="l" pos="7594560"/>
                          <a:tab algn="l" pos="8178840"/>
                          <a:tab algn="l" pos="8763120"/>
                          <a:tab algn="l" pos="9347040"/>
                          <a:tab algn="l" pos="9931320"/>
                          <a:tab algn="l" pos="10515600"/>
                        </a:tabLst>
                      </a:pPr>
                      <a:r>
                        <a:rPr b="1" i="1" lang="ru-RU" sz="2800" spc="-1" strike="noStrike">
                          <a:solidFill>
                            <a:srgbClr val="535353"/>
                          </a:solidFill>
                          <a:latin typeface="Times New Roman"/>
                          <a:ea typeface="Times New Roman"/>
                        </a:rPr>
                        <a:t>80,5</a:t>
                      </a:r>
                      <a:endParaRPr b="0" lang="en-US" sz="2800" spc="-1" strike="noStrike">
                        <a:solidFill>
                          <a:srgbClr val="535353"/>
                        </a:solidFill>
                        <a:latin typeface="Gill Sans Light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584280"/>
                          <a:tab algn="l" pos="1168560"/>
                          <a:tab algn="l" pos="1752480"/>
                          <a:tab algn="l" pos="2336760"/>
                          <a:tab algn="l" pos="2921040"/>
                          <a:tab algn="l" pos="3505320"/>
                          <a:tab algn="l" pos="4089240"/>
                          <a:tab algn="l" pos="4673520"/>
                          <a:tab algn="l" pos="5257800"/>
                          <a:tab algn="l" pos="5842080"/>
                          <a:tab algn="l" pos="6426360"/>
                          <a:tab algn="l" pos="7010280"/>
                          <a:tab algn="l" pos="7594560"/>
                          <a:tab algn="l" pos="8178840"/>
                          <a:tab algn="l" pos="8763120"/>
                          <a:tab algn="l" pos="9347040"/>
                          <a:tab algn="l" pos="9931320"/>
                          <a:tab algn="l" pos="10515600"/>
                        </a:tabLst>
                      </a:pPr>
                      <a:r>
                        <a:rPr b="0" lang="ru-RU" sz="2800" spc="-1" strike="noStrike">
                          <a:solidFill>
                            <a:srgbClr val="535353"/>
                          </a:solidFill>
                          <a:latin typeface="Times New Roman"/>
                          <a:ea typeface="Times New Roman"/>
                        </a:rPr>
                        <a:t>5,2</a:t>
                      </a:r>
                      <a:endParaRPr b="0" lang="en-US" sz="2800" spc="-1" strike="noStrike">
                        <a:solidFill>
                          <a:srgbClr val="535353"/>
                        </a:solidFill>
                        <a:latin typeface="Gill Sans Light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584280"/>
                          <a:tab algn="l" pos="1168560"/>
                          <a:tab algn="l" pos="1752480"/>
                          <a:tab algn="l" pos="2336760"/>
                          <a:tab algn="l" pos="2921040"/>
                          <a:tab algn="l" pos="3505320"/>
                          <a:tab algn="l" pos="4089240"/>
                          <a:tab algn="l" pos="4673520"/>
                          <a:tab algn="l" pos="5257800"/>
                          <a:tab algn="l" pos="5842080"/>
                          <a:tab algn="l" pos="6426360"/>
                          <a:tab algn="l" pos="7010280"/>
                          <a:tab algn="l" pos="7594560"/>
                          <a:tab algn="l" pos="8178840"/>
                          <a:tab algn="l" pos="8763120"/>
                          <a:tab algn="l" pos="9347040"/>
                          <a:tab algn="l" pos="9931320"/>
                          <a:tab algn="l" pos="10515600"/>
                        </a:tabLst>
                      </a:pPr>
                      <a:r>
                        <a:rPr b="0" lang="ru-RU" sz="2800" spc="-1" strike="noStrike">
                          <a:solidFill>
                            <a:srgbClr val="535353"/>
                          </a:solidFill>
                          <a:latin typeface="Times New Roman"/>
                          <a:ea typeface="Times New Roman"/>
                        </a:rPr>
                        <a:t>14,3</a:t>
                      </a:r>
                      <a:endParaRPr b="0" lang="en-US" sz="2800" spc="-1" strike="noStrike">
                        <a:solidFill>
                          <a:srgbClr val="535353"/>
                        </a:solidFill>
                        <a:latin typeface="Gill Sans Light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09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584280"/>
                          <a:tab algn="l" pos="1168560"/>
                          <a:tab algn="l" pos="1752480"/>
                          <a:tab algn="l" pos="2336760"/>
                          <a:tab algn="l" pos="2921040"/>
                          <a:tab algn="l" pos="3505320"/>
                          <a:tab algn="l" pos="4089240"/>
                          <a:tab algn="l" pos="4673520"/>
                          <a:tab algn="l" pos="5257800"/>
                          <a:tab algn="l" pos="5842080"/>
                          <a:tab algn="l" pos="6426360"/>
                          <a:tab algn="l" pos="7010280"/>
                          <a:tab algn="l" pos="7594560"/>
                          <a:tab algn="l" pos="8178840"/>
                          <a:tab algn="l" pos="8763120"/>
                          <a:tab algn="l" pos="9347040"/>
                          <a:tab algn="l" pos="9931320"/>
                          <a:tab algn="l" pos="10515600"/>
                        </a:tabLst>
                      </a:pPr>
                      <a:r>
                        <a:rPr b="0" lang="ru-RU" sz="2800" spc="-1" strike="noStrike">
                          <a:solidFill>
                            <a:srgbClr val="535353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535353"/>
                        </a:solidFill>
                        <a:latin typeface="Gill Sans Light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584280"/>
                          <a:tab algn="l" pos="1168560"/>
                          <a:tab algn="l" pos="1752480"/>
                          <a:tab algn="l" pos="2336760"/>
                          <a:tab algn="l" pos="2921040"/>
                          <a:tab algn="l" pos="3505320"/>
                          <a:tab algn="l" pos="4089240"/>
                          <a:tab algn="l" pos="4673520"/>
                          <a:tab algn="l" pos="5257800"/>
                          <a:tab algn="l" pos="5842080"/>
                          <a:tab algn="l" pos="6426360"/>
                          <a:tab algn="l" pos="7010280"/>
                          <a:tab algn="l" pos="7594560"/>
                          <a:tab algn="l" pos="8178840"/>
                          <a:tab algn="l" pos="8763120"/>
                          <a:tab algn="l" pos="9347040"/>
                          <a:tab algn="l" pos="9931320"/>
                          <a:tab algn="l" pos="10515600"/>
                        </a:tabLst>
                      </a:pPr>
                      <a:r>
                        <a:rPr b="0" lang="ru-RU" sz="2800" spc="-1" strike="noStrike">
                          <a:solidFill>
                            <a:srgbClr val="535353"/>
                          </a:solidFill>
                          <a:latin typeface="Times New Roman"/>
                          <a:ea typeface="Times New Roman"/>
                        </a:rPr>
                        <a:t>Сталин И.В.</a:t>
                      </a:r>
                      <a:endParaRPr b="0" lang="en-US" sz="2800" spc="-1" strike="noStrike">
                        <a:solidFill>
                          <a:srgbClr val="535353"/>
                        </a:solidFill>
                        <a:latin typeface="Gill Sans Light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584280"/>
                          <a:tab algn="l" pos="1168560"/>
                          <a:tab algn="l" pos="1752480"/>
                          <a:tab algn="l" pos="2336760"/>
                          <a:tab algn="l" pos="2921040"/>
                          <a:tab algn="l" pos="3505320"/>
                          <a:tab algn="l" pos="4089240"/>
                          <a:tab algn="l" pos="4673520"/>
                          <a:tab algn="l" pos="5257800"/>
                          <a:tab algn="l" pos="5842080"/>
                          <a:tab algn="l" pos="6426360"/>
                          <a:tab algn="l" pos="7010280"/>
                          <a:tab algn="l" pos="7594560"/>
                          <a:tab algn="l" pos="8178840"/>
                          <a:tab algn="l" pos="8763120"/>
                          <a:tab algn="l" pos="9347040"/>
                          <a:tab algn="l" pos="9931320"/>
                          <a:tab algn="l" pos="10515600"/>
                        </a:tabLst>
                      </a:pPr>
                      <a:r>
                        <a:rPr b="1" i="1" lang="ru-RU" sz="2800" spc="-1" strike="noStrike">
                          <a:solidFill>
                            <a:srgbClr val="535353"/>
                          </a:solidFill>
                          <a:latin typeface="Times New Roman"/>
                          <a:ea typeface="Times New Roman"/>
                        </a:rPr>
                        <a:t>73,8</a:t>
                      </a:r>
                      <a:endParaRPr b="0" lang="en-US" sz="2800" spc="-1" strike="noStrike">
                        <a:solidFill>
                          <a:srgbClr val="535353"/>
                        </a:solidFill>
                        <a:latin typeface="Gill Sans Light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584280"/>
                          <a:tab algn="l" pos="1168560"/>
                          <a:tab algn="l" pos="1752480"/>
                          <a:tab algn="l" pos="2336760"/>
                          <a:tab algn="l" pos="2921040"/>
                          <a:tab algn="l" pos="3505320"/>
                          <a:tab algn="l" pos="4089240"/>
                          <a:tab algn="l" pos="4673520"/>
                          <a:tab algn="l" pos="5257800"/>
                          <a:tab algn="l" pos="5842080"/>
                          <a:tab algn="l" pos="6426360"/>
                          <a:tab algn="l" pos="7010280"/>
                          <a:tab algn="l" pos="7594560"/>
                          <a:tab algn="l" pos="8178840"/>
                          <a:tab algn="l" pos="8763120"/>
                          <a:tab algn="l" pos="9347040"/>
                          <a:tab algn="l" pos="9931320"/>
                          <a:tab algn="l" pos="10515600"/>
                        </a:tabLst>
                      </a:pPr>
                      <a:r>
                        <a:rPr b="0" lang="ru-RU" sz="2800" spc="-1" strike="noStrike">
                          <a:solidFill>
                            <a:srgbClr val="535353"/>
                          </a:solidFill>
                          <a:latin typeface="Times New Roman"/>
                          <a:ea typeface="Times New Roman"/>
                        </a:rPr>
                        <a:t>7,9</a:t>
                      </a:r>
                      <a:endParaRPr b="0" lang="en-US" sz="2800" spc="-1" strike="noStrike">
                        <a:solidFill>
                          <a:srgbClr val="535353"/>
                        </a:solidFill>
                        <a:latin typeface="Gill Sans Light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584280"/>
                          <a:tab algn="l" pos="1168560"/>
                          <a:tab algn="l" pos="1752480"/>
                          <a:tab algn="l" pos="2336760"/>
                          <a:tab algn="l" pos="2921040"/>
                          <a:tab algn="l" pos="3505320"/>
                          <a:tab algn="l" pos="4089240"/>
                          <a:tab algn="l" pos="4673520"/>
                          <a:tab algn="l" pos="5257800"/>
                          <a:tab algn="l" pos="5842080"/>
                          <a:tab algn="l" pos="6426360"/>
                          <a:tab algn="l" pos="7010280"/>
                          <a:tab algn="l" pos="7594560"/>
                          <a:tab algn="l" pos="8178840"/>
                          <a:tab algn="l" pos="8763120"/>
                          <a:tab algn="l" pos="9347040"/>
                          <a:tab algn="l" pos="9931320"/>
                          <a:tab algn="l" pos="10515600"/>
                        </a:tabLst>
                      </a:pPr>
                      <a:r>
                        <a:rPr b="0" lang="ru-RU" sz="2800" spc="-1" strike="noStrike">
                          <a:solidFill>
                            <a:srgbClr val="535353"/>
                          </a:solidFill>
                          <a:latin typeface="Times New Roman"/>
                          <a:ea typeface="Times New Roman"/>
                        </a:rPr>
                        <a:t>18,3</a:t>
                      </a:r>
                      <a:endParaRPr b="0" lang="en-US" sz="2800" spc="-1" strike="noStrike">
                        <a:solidFill>
                          <a:srgbClr val="535353"/>
                        </a:solidFill>
                        <a:latin typeface="Gill Sans Light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09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584280"/>
                          <a:tab algn="l" pos="1168560"/>
                          <a:tab algn="l" pos="1752480"/>
                          <a:tab algn="l" pos="2336760"/>
                          <a:tab algn="l" pos="2921040"/>
                          <a:tab algn="l" pos="3505320"/>
                          <a:tab algn="l" pos="4089240"/>
                          <a:tab algn="l" pos="4673520"/>
                          <a:tab algn="l" pos="5257800"/>
                          <a:tab algn="l" pos="5842080"/>
                          <a:tab algn="l" pos="6426360"/>
                          <a:tab algn="l" pos="7010280"/>
                          <a:tab algn="l" pos="7594560"/>
                          <a:tab algn="l" pos="8178840"/>
                          <a:tab algn="l" pos="8763120"/>
                          <a:tab algn="l" pos="9347040"/>
                          <a:tab algn="l" pos="9931320"/>
                          <a:tab algn="l" pos="10515600"/>
                        </a:tabLst>
                      </a:pPr>
                      <a:r>
                        <a:rPr b="0" lang="ru-RU" sz="2800" spc="-1" strike="noStrike">
                          <a:solidFill>
                            <a:srgbClr val="535353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535353"/>
                        </a:solidFill>
                        <a:latin typeface="Gill Sans Light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584280"/>
                          <a:tab algn="l" pos="1168560"/>
                          <a:tab algn="l" pos="1752480"/>
                          <a:tab algn="l" pos="2336760"/>
                          <a:tab algn="l" pos="2921040"/>
                          <a:tab algn="l" pos="3505320"/>
                          <a:tab algn="l" pos="4089240"/>
                          <a:tab algn="l" pos="4673520"/>
                          <a:tab algn="l" pos="5257800"/>
                          <a:tab algn="l" pos="5842080"/>
                          <a:tab algn="l" pos="6426360"/>
                          <a:tab algn="l" pos="7010280"/>
                          <a:tab algn="l" pos="7594560"/>
                          <a:tab algn="l" pos="8178840"/>
                          <a:tab algn="l" pos="8763120"/>
                          <a:tab algn="l" pos="9347040"/>
                          <a:tab algn="l" pos="9931320"/>
                          <a:tab algn="l" pos="10515600"/>
                        </a:tabLst>
                      </a:pPr>
                      <a:r>
                        <a:rPr b="0" lang="ru-RU" sz="2800" spc="-1" strike="noStrike">
                          <a:solidFill>
                            <a:srgbClr val="535353"/>
                          </a:solidFill>
                          <a:latin typeface="Times New Roman"/>
                          <a:ea typeface="Times New Roman"/>
                        </a:rPr>
                        <a:t>Хрущев Н.С.</a:t>
                      </a:r>
                      <a:endParaRPr b="0" lang="en-US" sz="2800" spc="-1" strike="noStrike">
                        <a:solidFill>
                          <a:srgbClr val="535353"/>
                        </a:solidFill>
                        <a:latin typeface="Gill Sans Light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584280"/>
                          <a:tab algn="l" pos="1168560"/>
                          <a:tab algn="l" pos="1752480"/>
                          <a:tab algn="l" pos="2336760"/>
                          <a:tab algn="l" pos="2921040"/>
                          <a:tab algn="l" pos="3505320"/>
                          <a:tab algn="l" pos="4089240"/>
                          <a:tab algn="l" pos="4673520"/>
                          <a:tab algn="l" pos="5257800"/>
                          <a:tab algn="l" pos="5842080"/>
                          <a:tab algn="l" pos="6426360"/>
                          <a:tab algn="l" pos="7010280"/>
                          <a:tab algn="l" pos="7594560"/>
                          <a:tab algn="l" pos="8178840"/>
                          <a:tab algn="l" pos="8763120"/>
                          <a:tab algn="l" pos="9347040"/>
                          <a:tab algn="l" pos="9931320"/>
                          <a:tab algn="l" pos="10515600"/>
                        </a:tabLst>
                      </a:pPr>
                      <a:r>
                        <a:rPr b="0" lang="ru-RU" sz="2800" spc="-1" strike="noStrike">
                          <a:solidFill>
                            <a:srgbClr val="535353"/>
                          </a:solidFill>
                          <a:latin typeface="Times New Roman"/>
                          <a:ea typeface="Times New Roman"/>
                        </a:rPr>
                        <a:t>54,6</a:t>
                      </a:r>
                      <a:endParaRPr b="0" lang="en-US" sz="2800" spc="-1" strike="noStrike">
                        <a:solidFill>
                          <a:srgbClr val="535353"/>
                        </a:solidFill>
                        <a:latin typeface="Gill Sans Light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584280"/>
                          <a:tab algn="l" pos="1168560"/>
                          <a:tab algn="l" pos="1752480"/>
                          <a:tab algn="l" pos="2336760"/>
                          <a:tab algn="l" pos="2921040"/>
                          <a:tab algn="l" pos="3505320"/>
                          <a:tab algn="l" pos="4089240"/>
                          <a:tab algn="l" pos="4673520"/>
                          <a:tab algn="l" pos="5257800"/>
                          <a:tab algn="l" pos="5842080"/>
                          <a:tab algn="l" pos="6426360"/>
                          <a:tab algn="l" pos="7010280"/>
                          <a:tab algn="l" pos="7594560"/>
                          <a:tab algn="l" pos="8178840"/>
                          <a:tab algn="l" pos="8763120"/>
                          <a:tab algn="l" pos="9347040"/>
                          <a:tab algn="l" pos="9931320"/>
                          <a:tab algn="l" pos="10515600"/>
                        </a:tabLst>
                      </a:pPr>
                      <a:r>
                        <a:rPr b="0" lang="ru-RU" sz="2800" spc="-1" strike="noStrike">
                          <a:solidFill>
                            <a:srgbClr val="535353"/>
                          </a:solidFill>
                          <a:latin typeface="Times New Roman"/>
                          <a:ea typeface="Times New Roman"/>
                        </a:rPr>
                        <a:t>21,5</a:t>
                      </a:r>
                      <a:endParaRPr b="0" lang="en-US" sz="2800" spc="-1" strike="noStrike">
                        <a:solidFill>
                          <a:srgbClr val="535353"/>
                        </a:solidFill>
                        <a:latin typeface="Gill Sans Light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584280"/>
                          <a:tab algn="l" pos="1168560"/>
                          <a:tab algn="l" pos="1752480"/>
                          <a:tab algn="l" pos="2336760"/>
                          <a:tab algn="l" pos="2921040"/>
                          <a:tab algn="l" pos="3505320"/>
                          <a:tab algn="l" pos="4089240"/>
                          <a:tab algn="l" pos="4673520"/>
                          <a:tab algn="l" pos="5257800"/>
                          <a:tab algn="l" pos="5842080"/>
                          <a:tab algn="l" pos="6426360"/>
                          <a:tab algn="l" pos="7010280"/>
                          <a:tab algn="l" pos="7594560"/>
                          <a:tab algn="l" pos="8178840"/>
                          <a:tab algn="l" pos="8763120"/>
                          <a:tab algn="l" pos="9347040"/>
                          <a:tab algn="l" pos="9931320"/>
                          <a:tab algn="l" pos="10515600"/>
                        </a:tabLst>
                      </a:pPr>
                      <a:r>
                        <a:rPr b="1" i="1" lang="ru-RU" sz="2800" spc="-1" strike="noStrike">
                          <a:solidFill>
                            <a:srgbClr val="535353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2800" spc="-1" strike="noStrike">
                        <a:solidFill>
                          <a:srgbClr val="535353"/>
                        </a:solidFill>
                        <a:latin typeface="Gill Sans Light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70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584280"/>
                          <a:tab algn="l" pos="1168560"/>
                          <a:tab algn="l" pos="1752480"/>
                          <a:tab algn="l" pos="2336760"/>
                          <a:tab algn="l" pos="2921040"/>
                          <a:tab algn="l" pos="3505320"/>
                          <a:tab algn="l" pos="4089240"/>
                          <a:tab algn="l" pos="4673520"/>
                          <a:tab algn="l" pos="5257800"/>
                          <a:tab algn="l" pos="5842080"/>
                          <a:tab algn="l" pos="6426360"/>
                          <a:tab algn="l" pos="7010280"/>
                          <a:tab algn="l" pos="7594560"/>
                          <a:tab algn="l" pos="8178840"/>
                          <a:tab algn="l" pos="8763120"/>
                          <a:tab algn="l" pos="9347040"/>
                          <a:tab algn="l" pos="9931320"/>
                          <a:tab algn="l" pos="10515600"/>
                        </a:tabLst>
                      </a:pPr>
                      <a:r>
                        <a:rPr b="0" lang="ru-RU" sz="2800" spc="-1" strike="noStrike">
                          <a:solidFill>
                            <a:srgbClr val="535353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535353"/>
                        </a:solidFill>
                        <a:latin typeface="Gill Sans Light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584280"/>
                          <a:tab algn="l" pos="1168560"/>
                          <a:tab algn="l" pos="1752480"/>
                          <a:tab algn="l" pos="2336760"/>
                          <a:tab algn="l" pos="2921040"/>
                          <a:tab algn="l" pos="3505320"/>
                          <a:tab algn="l" pos="4089240"/>
                          <a:tab algn="l" pos="4673520"/>
                          <a:tab algn="l" pos="5257800"/>
                          <a:tab algn="l" pos="5842080"/>
                          <a:tab algn="l" pos="6426360"/>
                          <a:tab algn="l" pos="7010280"/>
                          <a:tab algn="l" pos="7594560"/>
                          <a:tab algn="l" pos="8178840"/>
                          <a:tab algn="l" pos="8763120"/>
                          <a:tab algn="l" pos="9347040"/>
                          <a:tab algn="l" pos="9931320"/>
                          <a:tab algn="l" pos="10515600"/>
                        </a:tabLst>
                      </a:pPr>
                      <a:r>
                        <a:rPr b="0" lang="ru-RU" sz="2800" spc="-1" strike="noStrike">
                          <a:solidFill>
                            <a:srgbClr val="535353"/>
                          </a:solidFill>
                          <a:latin typeface="Times New Roman"/>
                          <a:ea typeface="Times New Roman"/>
                        </a:rPr>
                        <a:t>Брежнев Л.И.</a:t>
                      </a:r>
                      <a:endParaRPr b="0" lang="en-US" sz="2800" spc="-1" strike="noStrike">
                        <a:solidFill>
                          <a:srgbClr val="535353"/>
                        </a:solidFill>
                        <a:latin typeface="Gill Sans Light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584280"/>
                          <a:tab algn="l" pos="1168560"/>
                          <a:tab algn="l" pos="1752480"/>
                          <a:tab algn="l" pos="2336760"/>
                          <a:tab algn="l" pos="2921040"/>
                          <a:tab algn="l" pos="3505320"/>
                          <a:tab algn="l" pos="4089240"/>
                          <a:tab algn="l" pos="4673520"/>
                          <a:tab algn="l" pos="5257800"/>
                          <a:tab algn="l" pos="5842080"/>
                          <a:tab algn="l" pos="6426360"/>
                          <a:tab algn="l" pos="7010280"/>
                          <a:tab algn="l" pos="7594560"/>
                          <a:tab algn="l" pos="8178840"/>
                          <a:tab algn="l" pos="8763120"/>
                          <a:tab algn="l" pos="9347040"/>
                          <a:tab algn="l" pos="9931320"/>
                          <a:tab algn="l" pos="10515600"/>
                        </a:tabLst>
                      </a:pPr>
                      <a:r>
                        <a:rPr b="0" lang="ru-RU" sz="2800" spc="-1" strike="noStrike">
                          <a:solidFill>
                            <a:srgbClr val="535353"/>
                          </a:solidFill>
                          <a:latin typeface="Times New Roman"/>
                          <a:ea typeface="Times New Roman"/>
                        </a:rPr>
                        <a:t>53,2</a:t>
                      </a:r>
                      <a:endParaRPr b="0" lang="en-US" sz="2800" spc="-1" strike="noStrike">
                        <a:solidFill>
                          <a:srgbClr val="535353"/>
                        </a:solidFill>
                        <a:latin typeface="Gill Sans Light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584280"/>
                          <a:tab algn="l" pos="1168560"/>
                          <a:tab algn="l" pos="1752480"/>
                          <a:tab algn="l" pos="2336760"/>
                          <a:tab algn="l" pos="2921040"/>
                          <a:tab algn="l" pos="3505320"/>
                          <a:tab algn="l" pos="4089240"/>
                          <a:tab algn="l" pos="4673520"/>
                          <a:tab algn="l" pos="5257800"/>
                          <a:tab algn="l" pos="5842080"/>
                          <a:tab algn="l" pos="6426360"/>
                          <a:tab algn="l" pos="7010280"/>
                          <a:tab algn="l" pos="7594560"/>
                          <a:tab algn="l" pos="8178840"/>
                          <a:tab algn="l" pos="8763120"/>
                          <a:tab algn="l" pos="9347040"/>
                          <a:tab algn="l" pos="9931320"/>
                          <a:tab algn="l" pos="10515600"/>
                        </a:tabLst>
                      </a:pPr>
                      <a:r>
                        <a:rPr b="0" lang="ru-RU" sz="2800" spc="-1" strike="noStrike">
                          <a:solidFill>
                            <a:srgbClr val="535353"/>
                          </a:solidFill>
                          <a:latin typeface="Times New Roman"/>
                          <a:ea typeface="Times New Roman"/>
                        </a:rPr>
                        <a:t>27,2</a:t>
                      </a:r>
                      <a:endParaRPr b="0" lang="en-US" sz="2800" spc="-1" strike="noStrike">
                        <a:solidFill>
                          <a:srgbClr val="535353"/>
                        </a:solidFill>
                        <a:latin typeface="Gill Sans Light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584280"/>
                          <a:tab algn="l" pos="1168560"/>
                          <a:tab algn="l" pos="1752480"/>
                          <a:tab algn="l" pos="2336760"/>
                          <a:tab algn="l" pos="2921040"/>
                          <a:tab algn="l" pos="3505320"/>
                          <a:tab algn="l" pos="4089240"/>
                          <a:tab algn="l" pos="4673520"/>
                          <a:tab algn="l" pos="5257800"/>
                          <a:tab algn="l" pos="5842080"/>
                          <a:tab algn="l" pos="6426360"/>
                          <a:tab algn="l" pos="7010280"/>
                          <a:tab algn="l" pos="7594560"/>
                          <a:tab algn="l" pos="8178840"/>
                          <a:tab algn="l" pos="8763120"/>
                          <a:tab algn="l" pos="9347040"/>
                          <a:tab algn="l" pos="9931320"/>
                          <a:tab algn="l" pos="10515600"/>
                        </a:tabLst>
                      </a:pPr>
                      <a:r>
                        <a:rPr b="0" lang="ru-RU" sz="2800" spc="-1" strike="noStrike">
                          <a:solidFill>
                            <a:srgbClr val="535353"/>
                          </a:solidFill>
                          <a:latin typeface="Times New Roman"/>
                          <a:ea typeface="Times New Roman"/>
                        </a:rPr>
                        <a:t>19,5</a:t>
                      </a:r>
                      <a:endParaRPr b="0" lang="en-US" sz="2800" spc="-1" strike="noStrike">
                        <a:solidFill>
                          <a:srgbClr val="535353"/>
                        </a:solidFill>
                        <a:latin typeface="Gill Sans Light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09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584280"/>
                          <a:tab algn="l" pos="1168560"/>
                          <a:tab algn="l" pos="1752480"/>
                          <a:tab algn="l" pos="2336760"/>
                          <a:tab algn="l" pos="2921040"/>
                          <a:tab algn="l" pos="3505320"/>
                          <a:tab algn="l" pos="4089240"/>
                          <a:tab algn="l" pos="4673520"/>
                          <a:tab algn="l" pos="5257800"/>
                          <a:tab algn="l" pos="5842080"/>
                          <a:tab algn="l" pos="6426360"/>
                          <a:tab algn="l" pos="7010280"/>
                          <a:tab algn="l" pos="7594560"/>
                          <a:tab algn="l" pos="8178840"/>
                          <a:tab algn="l" pos="8763120"/>
                          <a:tab algn="l" pos="9347040"/>
                          <a:tab algn="l" pos="9931320"/>
                          <a:tab algn="l" pos="10515600"/>
                        </a:tabLst>
                      </a:pPr>
                      <a:r>
                        <a:rPr b="0" lang="ru-RU" sz="2800" spc="-1" strike="noStrike">
                          <a:solidFill>
                            <a:srgbClr val="535353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535353"/>
                        </a:solidFill>
                        <a:latin typeface="Gill Sans Light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584280"/>
                          <a:tab algn="l" pos="1168560"/>
                          <a:tab algn="l" pos="1752480"/>
                          <a:tab algn="l" pos="2336760"/>
                          <a:tab algn="l" pos="2921040"/>
                          <a:tab algn="l" pos="3505320"/>
                          <a:tab algn="l" pos="4089240"/>
                          <a:tab algn="l" pos="4673520"/>
                          <a:tab algn="l" pos="5257800"/>
                          <a:tab algn="l" pos="5842080"/>
                          <a:tab algn="l" pos="6426360"/>
                          <a:tab algn="l" pos="7010280"/>
                          <a:tab algn="l" pos="7594560"/>
                          <a:tab algn="l" pos="8178840"/>
                          <a:tab algn="l" pos="8763120"/>
                          <a:tab algn="l" pos="9347040"/>
                          <a:tab algn="l" pos="9931320"/>
                          <a:tab algn="l" pos="10515600"/>
                        </a:tabLst>
                      </a:pPr>
                      <a:r>
                        <a:rPr b="0" lang="ru-RU" sz="2800" spc="-1" strike="noStrike">
                          <a:solidFill>
                            <a:srgbClr val="535353"/>
                          </a:solidFill>
                          <a:latin typeface="Times New Roman"/>
                          <a:ea typeface="Times New Roman"/>
                        </a:rPr>
                        <a:t>Горбачев М.С.</a:t>
                      </a:r>
                      <a:endParaRPr b="0" lang="en-US" sz="2800" spc="-1" strike="noStrike">
                        <a:solidFill>
                          <a:srgbClr val="535353"/>
                        </a:solidFill>
                        <a:latin typeface="Gill Sans Light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584280"/>
                          <a:tab algn="l" pos="1168560"/>
                          <a:tab algn="l" pos="1752480"/>
                          <a:tab algn="l" pos="2336760"/>
                          <a:tab algn="l" pos="2921040"/>
                          <a:tab algn="l" pos="3505320"/>
                          <a:tab algn="l" pos="4089240"/>
                          <a:tab algn="l" pos="4673520"/>
                          <a:tab algn="l" pos="5257800"/>
                          <a:tab algn="l" pos="5842080"/>
                          <a:tab algn="l" pos="6426360"/>
                          <a:tab algn="l" pos="7010280"/>
                          <a:tab algn="l" pos="7594560"/>
                          <a:tab algn="l" pos="8178840"/>
                          <a:tab algn="l" pos="8763120"/>
                          <a:tab algn="l" pos="9347040"/>
                          <a:tab algn="l" pos="9931320"/>
                          <a:tab algn="l" pos="10515600"/>
                        </a:tabLst>
                      </a:pPr>
                      <a:r>
                        <a:rPr b="0" lang="ru-RU" sz="2800" spc="-1" strike="noStrike">
                          <a:solidFill>
                            <a:srgbClr val="535353"/>
                          </a:solidFill>
                          <a:latin typeface="Times New Roman"/>
                          <a:ea typeface="Times New Roman"/>
                        </a:rPr>
                        <a:t>40,1</a:t>
                      </a:r>
                      <a:endParaRPr b="0" lang="en-US" sz="2800" spc="-1" strike="noStrike">
                        <a:solidFill>
                          <a:srgbClr val="535353"/>
                        </a:solidFill>
                        <a:latin typeface="Gill Sans Light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584280"/>
                          <a:tab algn="l" pos="1168560"/>
                          <a:tab algn="l" pos="1752480"/>
                          <a:tab algn="l" pos="2336760"/>
                          <a:tab algn="l" pos="2921040"/>
                          <a:tab algn="l" pos="3505320"/>
                          <a:tab algn="l" pos="4089240"/>
                          <a:tab algn="l" pos="4673520"/>
                          <a:tab algn="l" pos="5257800"/>
                          <a:tab algn="l" pos="5842080"/>
                          <a:tab algn="l" pos="6426360"/>
                          <a:tab algn="l" pos="7010280"/>
                          <a:tab algn="l" pos="7594560"/>
                          <a:tab algn="l" pos="8178840"/>
                          <a:tab algn="l" pos="8763120"/>
                          <a:tab algn="l" pos="9347040"/>
                          <a:tab algn="l" pos="9931320"/>
                          <a:tab algn="l" pos="10515600"/>
                        </a:tabLst>
                      </a:pPr>
                      <a:r>
                        <a:rPr b="0" lang="ru-RU" sz="2800" spc="-1" strike="noStrike">
                          <a:solidFill>
                            <a:srgbClr val="535353"/>
                          </a:solidFill>
                          <a:latin typeface="Times New Roman"/>
                          <a:ea typeface="Times New Roman"/>
                        </a:rPr>
                        <a:t>21,2</a:t>
                      </a:r>
                      <a:endParaRPr b="0" lang="en-US" sz="2800" spc="-1" strike="noStrike">
                        <a:solidFill>
                          <a:srgbClr val="535353"/>
                        </a:solidFill>
                        <a:latin typeface="Gill Sans Light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584280"/>
                          <a:tab algn="l" pos="1168560"/>
                          <a:tab algn="l" pos="1752480"/>
                          <a:tab algn="l" pos="2336760"/>
                          <a:tab algn="l" pos="2921040"/>
                          <a:tab algn="l" pos="3505320"/>
                          <a:tab algn="l" pos="4089240"/>
                          <a:tab algn="l" pos="4673520"/>
                          <a:tab algn="l" pos="5257800"/>
                          <a:tab algn="l" pos="5842080"/>
                          <a:tab algn="l" pos="6426360"/>
                          <a:tab algn="l" pos="7010280"/>
                          <a:tab algn="l" pos="7594560"/>
                          <a:tab algn="l" pos="8178840"/>
                          <a:tab algn="l" pos="8763120"/>
                          <a:tab algn="l" pos="9347040"/>
                          <a:tab algn="l" pos="9931320"/>
                          <a:tab algn="l" pos="10515600"/>
                        </a:tabLst>
                      </a:pPr>
                      <a:r>
                        <a:rPr b="1" i="1" lang="ru-RU" sz="2800" spc="-1" strike="noStrike">
                          <a:solidFill>
                            <a:srgbClr val="535353"/>
                          </a:solidFill>
                          <a:latin typeface="Times New Roman"/>
                          <a:ea typeface="Times New Roman"/>
                        </a:rPr>
                        <a:t>38,9</a:t>
                      </a:r>
                      <a:endParaRPr b="0" lang="en-US" sz="2800" spc="-1" strike="noStrike">
                        <a:solidFill>
                          <a:srgbClr val="535353"/>
                        </a:solidFill>
                        <a:latin typeface="Gill Sans Light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09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584280"/>
                          <a:tab algn="l" pos="1168560"/>
                          <a:tab algn="l" pos="1752480"/>
                          <a:tab algn="l" pos="2336760"/>
                          <a:tab algn="l" pos="2921040"/>
                          <a:tab algn="l" pos="3505320"/>
                          <a:tab algn="l" pos="4089240"/>
                          <a:tab algn="l" pos="4673520"/>
                          <a:tab algn="l" pos="5257800"/>
                          <a:tab algn="l" pos="5842080"/>
                          <a:tab algn="l" pos="6426360"/>
                          <a:tab algn="l" pos="7010280"/>
                          <a:tab algn="l" pos="7594560"/>
                          <a:tab algn="l" pos="8178840"/>
                          <a:tab algn="l" pos="8763120"/>
                          <a:tab algn="l" pos="9347040"/>
                          <a:tab algn="l" pos="9931320"/>
                          <a:tab algn="l" pos="10515600"/>
                        </a:tabLst>
                      </a:pPr>
                      <a:r>
                        <a:rPr b="0" lang="ru-RU" sz="2800" spc="-1" strike="noStrike">
                          <a:solidFill>
                            <a:srgbClr val="535353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535353"/>
                        </a:solidFill>
                        <a:latin typeface="Gill Sans Light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584280"/>
                          <a:tab algn="l" pos="1168560"/>
                          <a:tab algn="l" pos="1752480"/>
                          <a:tab algn="l" pos="2336760"/>
                          <a:tab algn="l" pos="2921040"/>
                          <a:tab algn="l" pos="3505320"/>
                          <a:tab algn="l" pos="4089240"/>
                          <a:tab algn="l" pos="4673520"/>
                          <a:tab algn="l" pos="5257800"/>
                          <a:tab algn="l" pos="5842080"/>
                          <a:tab algn="l" pos="6426360"/>
                          <a:tab algn="l" pos="7010280"/>
                          <a:tab algn="l" pos="7594560"/>
                          <a:tab algn="l" pos="8178840"/>
                          <a:tab algn="l" pos="8763120"/>
                          <a:tab algn="l" pos="9347040"/>
                          <a:tab algn="l" pos="9931320"/>
                          <a:tab algn="l" pos="10515600"/>
                        </a:tabLst>
                      </a:pPr>
                      <a:r>
                        <a:rPr b="0" lang="ru-RU" sz="2800" spc="-1" strike="noStrike">
                          <a:solidFill>
                            <a:srgbClr val="535353"/>
                          </a:solidFill>
                          <a:latin typeface="Times New Roman"/>
                          <a:ea typeface="Times New Roman"/>
                        </a:rPr>
                        <a:t>Ельцин Б.Н.</a:t>
                      </a:r>
                      <a:endParaRPr b="0" lang="en-US" sz="2800" spc="-1" strike="noStrike">
                        <a:solidFill>
                          <a:srgbClr val="535353"/>
                        </a:solidFill>
                        <a:latin typeface="Gill Sans Light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584280"/>
                          <a:tab algn="l" pos="1168560"/>
                          <a:tab algn="l" pos="1752480"/>
                          <a:tab algn="l" pos="2336760"/>
                          <a:tab algn="l" pos="2921040"/>
                          <a:tab algn="l" pos="3505320"/>
                          <a:tab algn="l" pos="4089240"/>
                          <a:tab algn="l" pos="4673520"/>
                          <a:tab algn="l" pos="5257800"/>
                          <a:tab algn="l" pos="5842080"/>
                          <a:tab algn="l" pos="6426360"/>
                          <a:tab algn="l" pos="7010280"/>
                          <a:tab algn="l" pos="7594560"/>
                          <a:tab algn="l" pos="8178840"/>
                          <a:tab algn="l" pos="8763120"/>
                          <a:tab algn="l" pos="9347040"/>
                          <a:tab algn="l" pos="9931320"/>
                          <a:tab algn="l" pos="10515600"/>
                        </a:tabLst>
                      </a:pPr>
                      <a:r>
                        <a:rPr b="0" lang="ru-RU" sz="2800" spc="-1" strike="noStrike">
                          <a:solidFill>
                            <a:srgbClr val="535353"/>
                          </a:solidFill>
                          <a:latin typeface="Times New Roman"/>
                          <a:ea typeface="Times New Roman"/>
                        </a:rPr>
                        <a:t>38,3</a:t>
                      </a:r>
                      <a:endParaRPr b="0" lang="en-US" sz="2800" spc="-1" strike="noStrike">
                        <a:solidFill>
                          <a:srgbClr val="535353"/>
                        </a:solidFill>
                        <a:latin typeface="Gill Sans Light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584280"/>
                          <a:tab algn="l" pos="1168560"/>
                          <a:tab algn="l" pos="1752480"/>
                          <a:tab algn="l" pos="2336760"/>
                          <a:tab algn="l" pos="2921040"/>
                          <a:tab algn="l" pos="3505320"/>
                          <a:tab algn="l" pos="4089240"/>
                          <a:tab algn="l" pos="4673520"/>
                          <a:tab algn="l" pos="5257800"/>
                          <a:tab algn="l" pos="5842080"/>
                          <a:tab algn="l" pos="6426360"/>
                          <a:tab algn="l" pos="7010280"/>
                          <a:tab algn="l" pos="7594560"/>
                          <a:tab algn="l" pos="8178840"/>
                          <a:tab algn="l" pos="8763120"/>
                          <a:tab algn="l" pos="9347040"/>
                          <a:tab algn="l" pos="9931320"/>
                          <a:tab algn="l" pos="10515600"/>
                        </a:tabLst>
                      </a:pPr>
                      <a:r>
                        <a:rPr b="0" lang="ru-RU" sz="2800" spc="-1" strike="noStrike">
                          <a:solidFill>
                            <a:srgbClr val="535353"/>
                          </a:solidFill>
                          <a:latin typeface="Times New Roman"/>
                          <a:ea typeface="Times New Roman"/>
                        </a:rPr>
                        <a:t>17,3</a:t>
                      </a:r>
                      <a:endParaRPr b="0" lang="en-US" sz="2800" spc="-1" strike="noStrike">
                        <a:solidFill>
                          <a:srgbClr val="535353"/>
                        </a:solidFill>
                        <a:latin typeface="Gill Sans Light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584280"/>
                          <a:tab algn="l" pos="1168560"/>
                          <a:tab algn="l" pos="1752480"/>
                          <a:tab algn="l" pos="2336760"/>
                          <a:tab algn="l" pos="2921040"/>
                          <a:tab algn="l" pos="3505320"/>
                          <a:tab algn="l" pos="4089240"/>
                          <a:tab algn="l" pos="4673520"/>
                          <a:tab algn="l" pos="5257800"/>
                          <a:tab algn="l" pos="5842080"/>
                          <a:tab algn="l" pos="6426360"/>
                          <a:tab algn="l" pos="7010280"/>
                          <a:tab algn="l" pos="7594560"/>
                          <a:tab algn="l" pos="8178840"/>
                          <a:tab algn="l" pos="8763120"/>
                          <a:tab algn="l" pos="9347040"/>
                          <a:tab algn="l" pos="9931320"/>
                          <a:tab algn="l" pos="10515600"/>
                        </a:tabLst>
                      </a:pPr>
                      <a:r>
                        <a:rPr b="1" i="1" lang="ru-RU" sz="2800" spc="-1" strike="noStrike">
                          <a:solidFill>
                            <a:srgbClr val="535353"/>
                          </a:solidFill>
                          <a:latin typeface="Times New Roman"/>
                          <a:ea typeface="Times New Roman"/>
                        </a:rPr>
                        <a:t>44,3</a:t>
                      </a:r>
                      <a:endParaRPr b="0" lang="en-US" sz="2800" spc="-1" strike="noStrike">
                        <a:solidFill>
                          <a:srgbClr val="535353"/>
                        </a:solidFill>
                        <a:latin typeface="Gill Sans Light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09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584280"/>
                          <a:tab algn="l" pos="1168560"/>
                          <a:tab algn="l" pos="1752480"/>
                          <a:tab algn="l" pos="2336760"/>
                          <a:tab algn="l" pos="2921040"/>
                          <a:tab algn="l" pos="3505320"/>
                          <a:tab algn="l" pos="4089240"/>
                          <a:tab algn="l" pos="4673520"/>
                          <a:tab algn="l" pos="5257800"/>
                          <a:tab algn="l" pos="5842080"/>
                          <a:tab algn="l" pos="6426360"/>
                          <a:tab algn="l" pos="7010280"/>
                          <a:tab algn="l" pos="7594560"/>
                          <a:tab algn="l" pos="8178840"/>
                          <a:tab algn="l" pos="8763120"/>
                          <a:tab algn="l" pos="9347040"/>
                          <a:tab algn="l" pos="9931320"/>
                          <a:tab algn="l" pos="10515600"/>
                        </a:tabLst>
                      </a:pPr>
                      <a:r>
                        <a:rPr b="0" lang="ru-RU" sz="2800" spc="-1" strike="noStrike">
                          <a:solidFill>
                            <a:srgbClr val="535353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535353"/>
                        </a:solidFill>
                        <a:latin typeface="Gill Sans Light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584280"/>
                          <a:tab algn="l" pos="1168560"/>
                          <a:tab algn="l" pos="1752480"/>
                          <a:tab algn="l" pos="2336760"/>
                          <a:tab algn="l" pos="2921040"/>
                          <a:tab algn="l" pos="3505320"/>
                          <a:tab algn="l" pos="4089240"/>
                          <a:tab algn="l" pos="4673520"/>
                          <a:tab algn="l" pos="5257800"/>
                          <a:tab algn="l" pos="5842080"/>
                          <a:tab algn="l" pos="6426360"/>
                          <a:tab algn="l" pos="7010280"/>
                          <a:tab algn="l" pos="7594560"/>
                          <a:tab algn="l" pos="8178840"/>
                          <a:tab algn="l" pos="8763120"/>
                          <a:tab algn="l" pos="9347040"/>
                          <a:tab algn="l" pos="9931320"/>
                          <a:tab algn="l" pos="10515600"/>
                        </a:tabLst>
                      </a:pPr>
                      <a:r>
                        <a:rPr b="0" lang="ru-RU" sz="2800" spc="-1" strike="noStrike">
                          <a:solidFill>
                            <a:srgbClr val="535353"/>
                          </a:solidFill>
                          <a:latin typeface="Times New Roman"/>
                          <a:ea typeface="Times New Roman"/>
                        </a:rPr>
                        <a:t>Путин В.В.</a:t>
                      </a:r>
                      <a:endParaRPr b="0" lang="en-US" sz="2800" spc="-1" strike="noStrike">
                        <a:solidFill>
                          <a:srgbClr val="535353"/>
                        </a:solidFill>
                        <a:latin typeface="Gill Sans Light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584280"/>
                          <a:tab algn="l" pos="1168560"/>
                          <a:tab algn="l" pos="1752480"/>
                          <a:tab algn="l" pos="2336760"/>
                          <a:tab algn="l" pos="2921040"/>
                          <a:tab algn="l" pos="3505320"/>
                          <a:tab algn="l" pos="4089240"/>
                          <a:tab algn="l" pos="4673520"/>
                          <a:tab algn="l" pos="5257800"/>
                          <a:tab algn="l" pos="5842080"/>
                          <a:tab algn="l" pos="6426360"/>
                          <a:tab algn="l" pos="7010280"/>
                          <a:tab algn="l" pos="7594560"/>
                          <a:tab algn="l" pos="8178840"/>
                          <a:tab algn="l" pos="8763120"/>
                          <a:tab algn="l" pos="9347040"/>
                          <a:tab algn="l" pos="9931320"/>
                          <a:tab algn="l" pos="10515600"/>
                        </a:tabLst>
                      </a:pPr>
                      <a:r>
                        <a:rPr b="1" i="1" lang="ru-RU" sz="2800" spc="-1" strike="noStrike">
                          <a:solidFill>
                            <a:srgbClr val="535353"/>
                          </a:solidFill>
                          <a:latin typeface="Times New Roman"/>
                          <a:ea typeface="Times New Roman"/>
                        </a:rPr>
                        <a:t>92,2</a:t>
                      </a:r>
                      <a:endParaRPr b="0" lang="en-US" sz="2800" spc="-1" strike="noStrike">
                        <a:solidFill>
                          <a:srgbClr val="535353"/>
                        </a:solidFill>
                        <a:latin typeface="Gill Sans Light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584280"/>
                          <a:tab algn="l" pos="1168560"/>
                          <a:tab algn="l" pos="1752480"/>
                          <a:tab algn="l" pos="2336760"/>
                          <a:tab algn="l" pos="2921040"/>
                          <a:tab algn="l" pos="3505320"/>
                          <a:tab algn="l" pos="4089240"/>
                          <a:tab algn="l" pos="4673520"/>
                          <a:tab algn="l" pos="5257800"/>
                          <a:tab algn="l" pos="5842080"/>
                          <a:tab algn="l" pos="6426360"/>
                          <a:tab algn="l" pos="7010280"/>
                          <a:tab algn="l" pos="7594560"/>
                          <a:tab algn="l" pos="8178840"/>
                          <a:tab algn="l" pos="8763120"/>
                          <a:tab algn="l" pos="9347040"/>
                          <a:tab algn="l" pos="9931320"/>
                          <a:tab algn="l" pos="10515600"/>
                        </a:tabLst>
                      </a:pPr>
                      <a:r>
                        <a:rPr b="0" lang="ru-RU" sz="2800" spc="-1" strike="noStrike">
                          <a:solidFill>
                            <a:srgbClr val="535353"/>
                          </a:solidFill>
                          <a:latin typeface="Times New Roman"/>
                          <a:ea typeface="Times New Roman"/>
                        </a:rPr>
                        <a:t>2,2</a:t>
                      </a:r>
                      <a:endParaRPr b="0" lang="en-US" sz="2800" spc="-1" strike="noStrike">
                        <a:solidFill>
                          <a:srgbClr val="535353"/>
                        </a:solidFill>
                        <a:latin typeface="Gill Sans Light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584280"/>
                          <a:tab algn="l" pos="1168560"/>
                          <a:tab algn="l" pos="1752480"/>
                          <a:tab algn="l" pos="2336760"/>
                          <a:tab algn="l" pos="2921040"/>
                          <a:tab algn="l" pos="3505320"/>
                          <a:tab algn="l" pos="4089240"/>
                          <a:tab algn="l" pos="4673520"/>
                          <a:tab algn="l" pos="5257800"/>
                          <a:tab algn="l" pos="5842080"/>
                          <a:tab algn="l" pos="6426360"/>
                          <a:tab algn="l" pos="7010280"/>
                          <a:tab algn="l" pos="7594560"/>
                          <a:tab algn="l" pos="8178840"/>
                          <a:tab algn="l" pos="8763120"/>
                          <a:tab algn="l" pos="9347040"/>
                          <a:tab algn="l" pos="9931320"/>
                          <a:tab algn="l" pos="10515600"/>
                        </a:tabLst>
                      </a:pPr>
                      <a:r>
                        <a:rPr b="0" lang="ru-RU" sz="2800" spc="-1" strike="noStrike">
                          <a:solidFill>
                            <a:srgbClr val="535353"/>
                          </a:solidFill>
                          <a:latin typeface="Times New Roman"/>
                          <a:ea typeface="Times New Roman"/>
                        </a:rPr>
                        <a:t>5,5</a:t>
                      </a:r>
                      <a:endParaRPr b="0" lang="en-US" sz="2800" spc="-1" strike="noStrike">
                        <a:solidFill>
                          <a:srgbClr val="535353"/>
                        </a:solidFill>
                        <a:latin typeface="Gill Sans Light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70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584280"/>
                          <a:tab algn="l" pos="1168560"/>
                          <a:tab algn="l" pos="1752480"/>
                          <a:tab algn="l" pos="2336760"/>
                          <a:tab algn="l" pos="2921040"/>
                          <a:tab algn="l" pos="3505320"/>
                          <a:tab algn="l" pos="4089240"/>
                          <a:tab algn="l" pos="4673520"/>
                          <a:tab algn="l" pos="5257800"/>
                          <a:tab algn="l" pos="5842080"/>
                          <a:tab algn="l" pos="6426360"/>
                          <a:tab algn="l" pos="7010280"/>
                          <a:tab algn="l" pos="7594560"/>
                          <a:tab algn="l" pos="8178840"/>
                          <a:tab algn="l" pos="8763120"/>
                          <a:tab algn="l" pos="9347040"/>
                          <a:tab algn="l" pos="9931320"/>
                          <a:tab algn="l" pos="10515600"/>
                        </a:tabLst>
                      </a:pPr>
                      <a:r>
                        <a:rPr b="0" lang="ru-RU" sz="2800" spc="-1" strike="noStrike">
                          <a:solidFill>
                            <a:srgbClr val="535353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800" spc="-1" strike="noStrike">
                        <a:solidFill>
                          <a:srgbClr val="535353"/>
                        </a:solidFill>
                        <a:latin typeface="Gill Sans Light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584280"/>
                          <a:tab algn="l" pos="1168560"/>
                          <a:tab algn="l" pos="1752480"/>
                          <a:tab algn="l" pos="2336760"/>
                          <a:tab algn="l" pos="2921040"/>
                          <a:tab algn="l" pos="3505320"/>
                          <a:tab algn="l" pos="4089240"/>
                          <a:tab algn="l" pos="4673520"/>
                          <a:tab algn="l" pos="5257800"/>
                          <a:tab algn="l" pos="5842080"/>
                          <a:tab algn="l" pos="6426360"/>
                          <a:tab algn="l" pos="7010280"/>
                          <a:tab algn="l" pos="7594560"/>
                          <a:tab algn="l" pos="8178840"/>
                          <a:tab algn="l" pos="8763120"/>
                          <a:tab algn="l" pos="9347040"/>
                          <a:tab algn="l" pos="9931320"/>
                          <a:tab algn="l" pos="10515600"/>
                        </a:tabLst>
                      </a:pPr>
                      <a:r>
                        <a:rPr b="0" lang="ru-RU" sz="2800" spc="-1" strike="noStrike">
                          <a:solidFill>
                            <a:srgbClr val="535353"/>
                          </a:solidFill>
                          <a:latin typeface="Times New Roman"/>
                          <a:ea typeface="Times New Roman"/>
                        </a:rPr>
                        <a:t>Медведев Д.А.</a:t>
                      </a:r>
                      <a:endParaRPr b="0" lang="en-US" sz="2800" spc="-1" strike="noStrike">
                        <a:solidFill>
                          <a:srgbClr val="535353"/>
                        </a:solidFill>
                        <a:latin typeface="Gill Sans Light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584280"/>
                          <a:tab algn="l" pos="1168560"/>
                          <a:tab algn="l" pos="1752480"/>
                          <a:tab algn="l" pos="2336760"/>
                          <a:tab algn="l" pos="2921040"/>
                          <a:tab algn="l" pos="3505320"/>
                          <a:tab algn="l" pos="4089240"/>
                          <a:tab algn="l" pos="4673520"/>
                          <a:tab algn="l" pos="5257800"/>
                          <a:tab algn="l" pos="5842080"/>
                          <a:tab algn="l" pos="6426360"/>
                          <a:tab algn="l" pos="7010280"/>
                          <a:tab algn="l" pos="7594560"/>
                          <a:tab algn="l" pos="8178840"/>
                          <a:tab algn="l" pos="8763120"/>
                          <a:tab algn="l" pos="9347040"/>
                          <a:tab algn="l" pos="9931320"/>
                          <a:tab algn="l" pos="10515600"/>
                        </a:tabLst>
                      </a:pPr>
                      <a:r>
                        <a:rPr b="0" lang="ru-RU" sz="2800" spc="-1" strike="noStrike">
                          <a:solidFill>
                            <a:srgbClr val="535353"/>
                          </a:solidFill>
                          <a:latin typeface="Times New Roman"/>
                          <a:ea typeface="Times New Roman"/>
                        </a:rPr>
                        <a:t>66,3</a:t>
                      </a:r>
                      <a:endParaRPr b="0" lang="en-US" sz="2800" spc="-1" strike="noStrike">
                        <a:solidFill>
                          <a:srgbClr val="535353"/>
                        </a:solidFill>
                        <a:latin typeface="Gill Sans Light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584280"/>
                          <a:tab algn="l" pos="1168560"/>
                          <a:tab algn="l" pos="1752480"/>
                          <a:tab algn="l" pos="2336760"/>
                          <a:tab algn="l" pos="2921040"/>
                          <a:tab algn="l" pos="3505320"/>
                          <a:tab algn="l" pos="4089240"/>
                          <a:tab algn="l" pos="4673520"/>
                          <a:tab algn="l" pos="5257800"/>
                          <a:tab algn="l" pos="5842080"/>
                          <a:tab algn="l" pos="6426360"/>
                          <a:tab algn="l" pos="7010280"/>
                          <a:tab algn="l" pos="7594560"/>
                          <a:tab algn="l" pos="8178840"/>
                          <a:tab algn="l" pos="8763120"/>
                          <a:tab algn="l" pos="9347040"/>
                          <a:tab algn="l" pos="9931320"/>
                          <a:tab algn="l" pos="10515600"/>
                        </a:tabLst>
                      </a:pPr>
                      <a:r>
                        <a:rPr b="0" lang="ru-RU" sz="2800" spc="-1" strike="noStrike">
                          <a:solidFill>
                            <a:srgbClr val="535353"/>
                          </a:solidFill>
                          <a:latin typeface="Times New Roman"/>
                          <a:ea typeface="Times New Roman"/>
                        </a:rPr>
                        <a:t>25,2</a:t>
                      </a:r>
                      <a:endParaRPr b="0" lang="en-US" sz="2800" spc="-1" strike="noStrike">
                        <a:solidFill>
                          <a:srgbClr val="535353"/>
                        </a:solidFill>
                        <a:latin typeface="Gill Sans Light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584280"/>
                          <a:tab algn="l" pos="1168560"/>
                          <a:tab algn="l" pos="1752480"/>
                          <a:tab algn="l" pos="2336760"/>
                          <a:tab algn="l" pos="2921040"/>
                          <a:tab algn="l" pos="3505320"/>
                          <a:tab algn="l" pos="4089240"/>
                          <a:tab algn="l" pos="4673520"/>
                          <a:tab algn="l" pos="5257800"/>
                          <a:tab algn="l" pos="5842080"/>
                          <a:tab algn="l" pos="6426360"/>
                          <a:tab algn="l" pos="7010280"/>
                          <a:tab algn="l" pos="7594560"/>
                          <a:tab algn="l" pos="8178840"/>
                          <a:tab algn="l" pos="8763120"/>
                          <a:tab algn="l" pos="9347040"/>
                          <a:tab algn="l" pos="9931320"/>
                          <a:tab algn="l" pos="10515600"/>
                        </a:tabLst>
                      </a:pPr>
                      <a:r>
                        <a:rPr b="0" lang="ru-RU" sz="2800" spc="-1" strike="noStrike">
                          <a:solidFill>
                            <a:srgbClr val="535353"/>
                          </a:solidFill>
                          <a:latin typeface="Times New Roman"/>
                          <a:ea typeface="Times New Roman"/>
                        </a:rPr>
                        <a:t>8,4</a:t>
                      </a:r>
                      <a:endParaRPr b="0" lang="en-US" sz="2800" spc="-1" strike="noStrike">
                        <a:solidFill>
                          <a:srgbClr val="535353"/>
                        </a:solidFill>
                        <a:latin typeface="Gill Sans Light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Rectangle 1"/>
          <p:cNvSpPr/>
          <p:nvPr/>
        </p:nvSpPr>
        <p:spPr>
          <a:xfrm>
            <a:off x="573120" y="215280"/>
            <a:ext cx="11863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35353"/>
                </a:solidFill>
                <a:latin typeface="Times New Roman"/>
                <a:ea typeface="Times New Roman"/>
              </a:rPr>
              <a:t>Оценка учащимися вклада в развитие страны политическими деятелями ХХ века</a:t>
            </a:r>
            <a:endParaRPr b="0" lang="en-US" sz="4000" spc="-1" strike="noStrike">
              <a:solidFill>
                <a:srgbClr val="535353"/>
              </a:solidFill>
              <a:latin typeface="Gill Sans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35353"/>
              </a:solidFill>
              <a:latin typeface="Gill Sans Light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355320" y="228600"/>
            <a:ext cx="12293640" cy="880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79440" indent="0" algn="just">
              <a:lnSpc>
                <a:spcPct val="120000"/>
              </a:lnSpc>
              <a:spcBef>
                <a:spcPts val="3300"/>
              </a:spcBef>
              <a:buNone/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endParaRPr b="0" lang="en-US" sz="1800" spc="-1" strike="noStrike">
              <a:solidFill>
                <a:srgbClr val="535353"/>
              </a:solidFill>
              <a:latin typeface="Gill Sans Light"/>
            </a:endParaRPr>
          </a:p>
          <a:p>
            <a:pPr marL="379440" indent="0" algn="just">
              <a:lnSpc>
                <a:spcPct val="120000"/>
              </a:lnSpc>
              <a:spcBef>
                <a:spcPts val="3300"/>
              </a:spcBef>
              <a:buNone/>
              <a:tabLst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endParaRPr b="0" lang="en-US" sz="1800" spc="-1" strike="noStrike">
              <a:solidFill>
                <a:srgbClr val="535353"/>
              </a:solidFill>
              <a:latin typeface="Gill Sans Light"/>
            </a:endParaRPr>
          </a:p>
          <a:p>
            <a:pPr marL="379440" indent="0" algn="just">
              <a:lnSpc>
                <a:spcPct val="120000"/>
              </a:lnSpc>
              <a:spcBef>
                <a:spcPts val="3300"/>
              </a:spcBef>
              <a:buNone/>
              <a:tabLst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endParaRPr b="0" lang="en-US" sz="1800" spc="-1" strike="noStrike">
              <a:solidFill>
                <a:srgbClr val="535353"/>
              </a:solidFill>
              <a:latin typeface="Gill Sans Light"/>
            </a:endParaRPr>
          </a:p>
          <a:p>
            <a:pPr marL="379440" indent="0" algn="just">
              <a:lnSpc>
                <a:spcPct val="120000"/>
              </a:lnSpc>
              <a:spcBef>
                <a:spcPts val="3300"/>
              </a:spcBef>
              <a:buNone/>
              <a:tabLst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endParaRPr b="0" lang="en-US" sz="1800" spc="-1" strike="noStrike">
              <a:solidFill>
                <a:srgbClr val="535353"/>
              </a:solidFill>
              <a:latin typeface="Gill Sans Light"/>
            </a:endParaRPr>
          </a:p>
          <a:p>
            <a:pPr marL="379440" indent="0" algn="just">
              <a:lnSpc>
                <a:spcPct val="120000"/>
              </a:lnSpc>
              <a:spcBef>
                <a:spcPts val="3300"/>
              </a:spcBef>
              <a:buNone/>
              <a:tabLst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endParaRPr b="0" lang="en-US" sz="1800" spc="-1" strike="noStrike">
              <a:solidFill>
                <a:srgbClr val="535353"/>
              </a:solidFill>
              <a:latin typeface="Gill Sans Light"/>
            </a:endParaRPr>
          </a:p>
          <a:p>
            <a:pPr marL="379440" indent="0" algn="just">
              <a:lnSpc>
                <a:spcPct val="120000"/>
              </a:lnSpc>
              <a:spcBef>
                <a:spcPts val="3300"/>
              </a:spcBef>
              <a:buNone/>
              <a:tabLst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endParaRPr b="0" lang="en-US" sz="1800" spc="-1" strike="noStrike">
              <a:solidFill>
                <a:srgbClr val="535353"/>
              </a:solidFill>
              <a:latin typeface="Gill Sans Light"/>
            </a:endParaRPr>
          </a:p>
          <a:p>
            <a:pPr marL="379440" indent="0" algn="just">
              <a:lnSpc>
                <a:spcPct val="120000"/>
              </a:lnSpc>
              <a:spcBef>
                <a:spcPts val="3300"/>
              </a:spcBef>
              <a:buNone/>
              <a:tabLst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endParaRPr b="0" lang="en-US" sz="1800" spc="-1" strike="noStrike">
              <a:solidFill>
                <a:srgbClr val="535353"/>
              </a:solidFill>
              <a:latin typeface="Gill Sans Light"/>
            </a:endParaRPr>
          </a:p>
          <a:p>
            <a:pPr marL="379440" indent="0" algn="just">
              <a:lnSpc>
                <a:spcPct val="120000"/>
              </a:lnSpc>
              <a:spcBef>
                <a:spcPts val="3300"/>
              </a:spcBef>
              <a:buNone/>
              <a:tabLst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endParaRPr b="0" lang="en-US" sz="1800" spc="-1" strike="noStrike">
              <a:solidFill>
                <a:srgbClr val="535353"/>
              </a:solidFill>
              <a:latin typeface="Gill Sans Light"/>
            </a:endParaRPr>
          </a:p>
          <a:p>
            <a:pPr marL="379440" indent="0" algn="just">
              <a:lnSpc>
                <a:spcPct val="120000"/>
              </a:lnSpc>
              <a:spcBef>
                <a:spcPts val="3300"/>
              </a:spcBef>
              <a:buNone/>
              <a:tabLst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endParaRPr b="0" lang="en-US" sz="1800" spc="-1" strike="noStrike">
              <a:solidFill>
                <a:srgbClr val="535353"/>
              </a:solidFill>
              <a:latin typeface="Gill Sans Light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2073240" y="1663560"/>
          <a:ext cx="8783640" cy="2495520"/>
        </p:xfrm>
        <a:graphic>
          <a:graphicData uri="http://schemas.openxmlformats.org/drawingml/2006/table">
            <a:tbl>
              <a:tblPr/>
              <a:tblGrid>
                <a:gridCol w="673200"/>
                <a:gridCol w="4057560"/>
                <a:gridCol w="4052880"/>
              </a:tblGrid>
              <a:tr h="6238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84280"/>
                          <a:tab algn="l" pos="1168560"/>
                          <a:tab algn="l" pos="1752480"/>
                          <a:tab algn="l" pos="2336760"/>
                          <a:tab algn="l" pos="2921040"/>
                          <a:tab algn="l" pos="3505320"/>
                          <a:tab algn="l" pos="4089240"/>
                          <a:tab algn="l" pos="4673520"/>
                          <a:tab algn="l" pos="5257800"/>
                          <a:tab algn="l" pos="5842080"/>
                          <a:tab algn="l" pos="6426360"/>
                          <a:tab algn="l" pos="7010280"/>
                          <a:tab algn="l" pos="7594560"/>
                          <a:tab algn="l" pos="8178840"/>
                          <a:tab algn="l" pos="8763120"/>
                          <a:tab algn="l" pos="9347040"/>
                          <a:tab algn="l" pos="9931320"/>
                          <a:tab algn="l" pos="10515600"/>
                        </a:tabLst>
                      </a:pPr>
                      <a:endParaRPr b="0" lang="en-US" sz="3600" spc="-1" strike="noStrike">
                        <a:solidFill>
                          <a:srgbClr val="535353"/>
                        </a:solidFill>
                        <a:latin typeface="Gill Sans Light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84280"/>
                          <a:tab algn="l" pos="1168560"/>
                          <a:tab algn="l" pos="1752480"/>
                          <a:tab algn="l" pos="2336760"/>
                          <a:tab algn="l" pos="2921040"/>
                          <a:tab algn="l" pos="3505320"/>
                          <a:tab algn="l" pos="4089240"/>
                          <a:tab algn="l" pos="4673520"/>
                          <a:tab algn="l" pos="5257800"/>
                          <a:tab algn="l" pos="5842080"/>
                          <a:tab algn="l" pos="6426360"/>
                          <a:tab algn="l" pos="7010280"/>
                          <a:tab algn="l" pos="7594560"/>
                          <a:tab algn="l" pos="8178840"/>
                          <a:tab algn="l" pos="8763120"/>
                          <a:tab algn="l" pos="9347040"/>
                          <a:tab algn="l" pos="9931320"/>
                          <a:tab algn="l" pos="10515600"/>
                        </a:tabLst>
                      </a:pPr>
                      <a:r>
                        <a:rPr b="0" i="1" lang="ru-RU" sz="2800" spc="-1" strike="noStrike">
                          <a:solidFill>
                            <a:srgbClr val="535353"/>
                          </a:solidFill>
                          <a:latin typeface="Times New Roman"/>
                          <a:ea typeface="Times New Roman"/>
                        </a:rPr>
                        <a:t>Варианты ответа</a:t>
                      </a:r>
                      <a:endParaRPr b="0" lang="en-US" sz="2800" spc="-1" strike="noStrike">
                        <a:solidFill>
                          <a:srgbClr val="535353"/>
                        </a:solidFill>
                        <a:latin typeface="Gill Sans Light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84280"/>
                          <a:tab algn="l" pos="1168560"/>
                          <a:tab algn="l" pos="1752480"/>
                          <a:tab algn="l" pos="2336760"/>
                          <a:tab algn="l" pos="2921040"/>
                          <a:tab algn="l" pos="3505320"/>
                          <a:tab algn="l" pos="4089240"/>
                          <a:tab algn="l" pos="4673520"/>
                          <a:tab algn="l" pos="5257800"/>
                          <a:tab algn="l" pos="5842080"/>
                          <a:tab algn="l" pos="6426360"/>
                          <a:tab algn="l" pos="7010280"/>
                          <a:tab algn="l" pos="7594560"/>
                          <a:tab algn="l" pos="8178840"/>
                          <a:tab algn="l" pos="8763120"/>
                          <a:tab algn="l" pos="9347040"/>
                          <a:tab algn="l" pos="9931320"/>
                          <a:tab algn="l" pos="10515600"/>
                        </a:tabLst>
                      </a:pPr>
                      <a:r>
                        <a:rPr b="0" lang="ru-RU" sz="2800" spc="-1" strike="noStrike">
                          <a:solidFill>
                            <a:srgbClr val="535353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2800" spc="-1" strike="noStrike">
                        <a:solidFill>
                          <a:srgbClr val="535353"/>
                        </a:solidFill>
                        <a:latin typeface="Gill Sans Light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84280"/>
                          <a:tab algn="l" pos="1168560"/>
                          <a:tab algn="l" pos="1752480"/>
                          <a:tab algn="l" pos="2336760"/>
                          <a:tab algn="l" pos="2921040"/>
                          <a:tab algn="l" pos="3505320"/>
                          <a:tab algn="l" pos="4089240"/>
                          <a:tab algn="l" pos="4673520"/>
                          <a:tab algn="l" pos="5257800"/>
                          <a:tab algn="l" pos="5842080"/>
                          <a:tab algn="l" pos="6426360"/>
                          <a:tab algn="l" pos="7010280"/>
                          <a:tab algn="l" pos="7594560"/>
                          <a:tab algn="l" pos="8178840"/>
                          <a:tab algn="l" pos="8763120"/>
                          <a:tab algn="l" pos="9347040"/>
                          <a:tab algn="l" pos="9931320"/>
                          <a:tab algn="l" pos="10515600"/>
                        </a:tabLst>
                      </a:pPr>
                      <a:r>
                        <a:rPr b="0" lang="ru-RU" sz="2800" spc="-1" strike="noStrike">
                          <a:solidFill>
                            <a:srgbClr val="535353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535353"/>
                        </a:solidFill>
                        <a:latin typeface="Gill Sans Light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84280"/>
                          <a:tab algn="l" pos="1168560"/>
                          <a:tab algn="l" pos="1752480"/>
                          <a:tab algn="l" pos="2336760"/>
                          <a:tab algn="l" pos="2921040"/>
                          <a:tab algn="l" pos="3505320"/>
                          <a:tab algn="l" pos="4089240"/>
                          <a:tab algn="l" pos="4673520"/>
                          <a:tab algn="l" pos="5257800"/>
                          <a:tab algn="l" pos="5842080"/>
                          <a:tab algn="l" pos="6426360"/>
                          <a:tab algn="l" pos="7010280"/>
                          <a:tab algn="l" pos="7594560"/>
                          <a:tab algn="l" pos="8178840"/>
                          <a:tab algn="l" pos="8763120"/>
                          <a:tab algn="l" pos="9347040"/>
                          <a:tab algn="l" pos="9931320"/>
                          <a:tab algn="l" pos="10515600"/>
                        </a:tabLst>
                      </a:pPr>
                      <a:r>
                        <a:rPr b="0" lang="ru-RU" sz="2800" spc="-1" strike="noStrike">
                          <a:solidFill>
                            <a:srgbClr val="535353"/>
                          </a:solidFill>
                          <a:latin typeface="Times New Roman"/>
                          <a:ea typeface="Times New Roman"/>
                        </a:rPr>
                        <a:t>Да</a:t>
                      </a:r>
                      <a:endParaRPr b="0" lang="en-US" sz="2800" spc="-1" strike="noStrike">
                        <a:solidFill>
                          <a:srgbClr val="535353"/>
                        </a:solidFill>
                        <a:latin typeface="Gill Sans Light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84280"/>
                          <a:tab algn="l" pos="1168560"/>
                          <a:tab algn="l" pos="1752480"/>
                          <a:tab algn="l" pos="2336760"/>
                          <a:tab algn="l" pos="2921040"/>
                          <a:tab algn="l" pos="3505320"/>
                          <a:tab algn="l" pos="4089240"/>
                          <a:tab algn="l" pos="4673520"/>
                          <a:tab algn="l" pos="5257800"/>
                          <a:tab algn="l" pos="5842080"/>
                          <a:tab algn="l" pos="6426360"/>
                          <a:tab algn="l" pos="7010280"/>
                          <a:tab algn="l" pos="7594560"/>
                          <a:tab algn="l" pos="8178840"/>
                          <a:tab algn="l" pos="8763120"/>
                          <a:tab algn="l" pos="9347040"/>
                          <a:tab algn="l" pos="9931320"/>
                          <a:tab algn="l" pos="10515600"/>
                        </a:tabLst>
                      </a:pPr>
                      <a:r>
                        <a:rPr b="1" lang="ru-RU" sz="2800" spc="-1" strike="noStrike">
                          <a:solidFill>
                            <a:srgbClr val="535353"/>
                          </a:solidFill>
                          <a:latin typeface="Times New Roman"/>
                          <a:ea typeface="Times New Roman"/>
                        </a:rPr>
                        <a:t>53,6</a:t>
                      </a:r>
                      <a:endParaRPr b="0" lang="en-US" sz="2800" spc="-1" strike="noStrike">
                        <a:solidFill>
                          <a:srgbClr val="535353"/>
                        </a:solidFill>
                        <a:latin typeface="Gill Sans Light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84280"/>
                          <a:tab algn="l" pos="1168560"/>
                          <a:tab algn="l" pos="1752480"/>
                          <a:tab algn="l" pos="2336760"/>
                          <a:tab algn="l" pos="2921040"/>
                          <a:tab algn="l" pos="3505320"/>
                          <a:tab algn="l" pos="4089240"/>
                          <a:tab algn="l" pos="4673520"/>
                          <a:tab algn="l" pos="5257800"/>
                          <a:tab algn="l" pos="5842080"/>
                          <a:tab algn="l" pos="6426360"/>
                          <a:tab algn="l" pos="7010280"/>
                          <a:tab algn="l" pos="7594560"/>
                          <a:tab algn="l" pos="8178840"/>
                          <a:tab algn="l" pos="8763120"/>
                          <a:tab algn="l" pos="9347040"/>
                          <a:tab algn="l" pos="9931320"/>
                          <a:tab algn="l" pos="10515600"/>
                        </a:tabLst>
                      </a:pPr>
                      <a:r>
                        <a:rPr b="0" lang="ru-RU" sz="2800" spc="-1" strike="noStrike">
                          <a:solidFill>
                            <a:srgbClr val="535353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535353"/>
                        </a:solidFill>
                        <a:latin typeface="Gill Sans Light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84280"/>
                          <a:tab algn="l" pos="1168560"/>
                          <a:tab algn="l" pos="1752480"/>
                          <a:tab algn="l" pos="2336760"/>
                          <a:tab algn="l" pos="2921040"/>
                          <a:tab algn="l" pos="3505320"/>
                          <a:tab algn="l" pos="4089240"/>
                          <a:tab algn="l" pos="4673520"/>
                          <a:tab algn="l" pos="5257800"/>
                          <a:tab algn="l" pos="5842080"/>
                          <a:tab algn="l" pos="6426360"/>
                          <a:tab algn="l" pos="7010280"/>
                          <a:tab algn="l" pos="7594560"/>
                          <a:tab algn="l" pos="8178840"/>
                          <a:tab algn="l" pos="8763120"/>
                          <a:tab algn="l" pos="9347040"/>
                          <a:tab algn="l" pos="9931320"/>
                          <a:tab algn="l" pos="10515600"/>
                        </a:tabLst>
                      </a:pPr>
                      <a:r>
                        <a:rPr b="0" lang="ru-RU" sz="2800" spc="-1" strike="noStrike">
                          <a:solidFill>
                            <a:srgbClr val="535353"/>
                          </a:solidFill>
                          <a:latin typeface="Times New Roman"/>
                          <a:ea typeface="Times New Roman"/>
                        </a:rPr>
                        <a:t>Нет</a:t>
                      </a:r>
                      <a:endParaRPr b="0" lang="en-US" sz="2800" spc="-1" strike="noStrike">
                        <a:solidFill>
                          <a:srgbClr val="535353"/>
                        </a:solidFill>
                        <a:latin typeface="Gill Sans Light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84280"/>
                          <a:tab algn="l" pos="1168560"/>
                          <a:tab algn="l" pos="1752480"/>
                          <a:tab algn="l" pos="2336760"/>
                          <a:tab algn="l" pos="2921040"/>
                          <a:tab algn="l" pos="3505320"/>
                          <a:tab algn="l" pos="4089240"/>
                          <a:tab algn="l" pos="4673520"/>
                          <a:tab algn="l" pos="5257800"/>
                          <a:tab algn="l" pos="5842080"/>
                          <a:tab algn="l" pos="6426360"/>
                          <a:tab algn="l" pos="7010280"/>
                          <a:tab algn="l" pos="7594560"/>
                          <a:tab algn="l" pos="8178840"/>
                          <a:tab algn="l" pos="8763120"/>
                          <a:tab algn="l" pos="9347040"/>
                          <a:tab algn="l" pos="9931320"/>
                          <a:tab algn="l" pos="10515600"/>
                        </a:tabLst>
                      </a:pPr>
                      <a:r>
                        <a:rPr b="0" lang="ru-RU" sz="2800" spc="-1" strike="noStrike">
                          <a:solidFill>
                            <a:srgbClr val="535353"/>
                          </a:solidFill>
                          <a:latin typeface="Times New Roman"/>
                          <a:ea typeface="Times New Roman"/>
                        </a:rPr>
                        <a:t>43,6</a:t>
                      </a:r>
                      <a:endParaRPr b="0" lang="en-US" sz="2800" spc="-1" strike="noStrike">
                        <a:solidFill>
                          <a:srgbClr val="535353"/>
                        </a:solidFill>
                        <a:latin typeface="Gill Sans Light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84280"/>
                          <a:tab algn="l" pos="1168560"/>
                          <a:tab algn="l" pos="1752480"/>
                          <a:tab algn="l" pos="2336760"/>
                          <a:tab algn="l" pos="2921040"/>
                          <a:tab algn="l" pos="3505320"/>
                          <a:tab algn="l" pos="4089240"/>
                          <a:tab algn="l" pos="4673520"/>
                          <a:tab algn="l" pos="5257800"/>
                          <a:tab algn="l" pos="5842080"/>
                          <a:tab algn="l" pos="6426360"/>
                          <a:tab algn="l" pos="7010280"/>
                          <a:tab algn="l" pos="7594560"/>
                          <a:tab algn="l" pos="8178840"/>
                          <a:tab algn="l" pos="8763120"/>
                          <a:tab algn="l" pos="9347040"/>
                          <a:tab algn="l" pos="9931320"/>
                          <a:tab algn="l" pos="10515600"/>
                        </a:tabLst>
                      </a:pPr>
                      <a:r>
                        <a:rPr b="0" lang="ru-RU" sz="2800" spc="-1" strike="noStrike">
                          <a:solidFill>
                            <a:srgbClr val="535353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535353"/>
                        </a:solidFill>
                        <a:latin typeface="Gill Sans Light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84280"/>
                          <a:tab algn="l" pos="1168560"/>
                          <a:tab algn="l" pos="1752480"/>
                          <a:tab algn="l" pos="2336760"/>
                          <a:tab algn="l" pos="2921040"/>
                          <a:tab algn="l" pos="3505320"/>
                          <a:tab algn="l" pos="4089240"/>
                          <a:tab algn="l" pos="4673520"/>
                          <a:tab algn="l" pos="5257800"/>
                          <a:tab algn="l" pos="5842080"/>
                          <a:tab algn="l" pos="6426360"/>
                          <a:tab algn="l" pos="7010280"/>
                          <a:tab algn="l" pos="7594560"/>
                          <a:tab algn="l" pos="8178840"/>
                          <a:tab algn="l" pos="8763120"/>
                          <a:tab algn="l" pos="9347040"/>
                          <a:tab algn="l" pos="9931320"/>
                          <a:tab algn="l" pos="10515600"/>
                        </a:tabLst>
                      </a:pPr>
                      <a:r>
                        <a:rPr b="0" lang="ru-RU" sz="2800" spc="-1" strike="noStrike">
                          <a:solidFill>
                            <a:srgbClr val="535353"/>
                          </a:solidFill>
                          <a:latin typeface="Times New Roman"/>
                          <a:ea typeface="Times New Roman"/>
                        </a:rPr>
                        <a:t>Затруднились ответить</a:t>
                      </a:r>
                      <a:endParaRPr b="0" lang="en-US" sz="2800" spc="-1" strike="noStrike">
                        <a:solidFill>
                          <a:srgbClr val="535353"/>
                        </a:solidFill>
                        <a:latin typeface="Gill Sans Light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84280"/>
                          <a:tab algn="l" pos="1168560"/>
                          <a:tab algn="l" pos="1752480"/>
                          <a:tab algn="l" pos="2336760"/>
                          <a:tab algn="l" pos="2921040"/>
                          <a:tab algn="l" pos="3505320"/>
                          <a:tab algn="l" pos="4089240"/>
                          <a:tab algn="l" pos="4673520"/>
                          <a:tab algn="l" pos="5257800"/>
                          <a:tab algn="l" pos="5842080"/>
                          <a:tab algn="l" pos="6426360"/>
                          <a:tab algn="l" pos="7010280"/>
                          <a:tab algn="l" pos="7594560"/>
                          <a:tab algn="l" pos="8178840"/>
                          <a:tab algn="l" pos="8763120"/>
                          <a:tab algn="l" pos="9347040"/>
                          <a:tab algn="l" pos="9931320"/>
                          <a:tab algn="l" pos="10515600"/>
                        </a:tabLst>
                      </a:pPr>
                      <a:r>
                        <a:rPr b="0" lang="ru-RU" sz="2800" spc="-1" strike="noStrike">
                          <a:solidFill>
                            <a:srgbClr val="535353"/>
                          </a:solidFill>
                          <a:latin typeface="Times New Roman"/>
                          <a:ea typeface="Times New Roman"/>
                        </a:rPr>
                        <a:t>2,9</a:t>
                      </a:r>
                      <a:endParaRPr b="0" lang="en-US" sz="2800" spc="-1" strike="noStrike">
                        <a:solidFill>
                          <a:srgbClr val="535353"/>
                        </a:solidFill>
                        <a:latin typeface="Gill Sans Light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2073240" y="5591160"/>
          <a:ext cx="8783640" cy="2787840"/>
        </p:xfrm>
        <a:graphic>
          <a:graphicData uri="http://schemas.openxmlformats.org/drawingml/2006/table">
            <a:tbl>
              <a:tblPr/>
              <a:tblGrid>
                <a:gridCol w="673200"/>
                <a:gridCol w="4057560"/>
                <a:gridCol w="4052880"/>
              </a:tblGrid>
              <a:tr h="6969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84280"/>
                          <a:tab algn="l" pos="1168560"/>
                          <a:tab algn="l" pos="1752480"/>
                          <a:tab algn="l" pos="2336760"/>
                          <a:tab algn="l" pos="2921040"/>
                          <a:tab algn="l" pos="3505320"/>
                          <a:tab algn="l" pos="4089240"/>
                          <a:tab algn="l" pos="4673520"/>
                          <a:tab algn="l" pos="5257800"/>
                          <a:tab algn="l" pos="5842080"/>
                          <a:tab algn="l" pos="6426360"/>
                          <a:tab algn="l" pos="7010280"/>
                          <a:tab algn="l" pos="7594560"/>
                          <a:tab algn="l" pos="8178840"/>
                          <a:tab algn="l" pos="8763120"/>
                          <a:tab algn="l" pos="9347040"/>
                          <a:tab algn="l" pos="9931320"/>
                          <a:tab algn="l" pos="10515600"/>
                        </a:tabLst>
                      </a:pPr>
                      <a:endParaRPr b="0" lang="en-US" sz="3600" spc="-1" strike="noStrike">
                        <a:solidFill>
                          <a:srgbClr val="535353"/>
                        </a:solidFill>
                        <a:latin typeface="Gill Sans Light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84280"/>
                          <a:tab algn="l" pos="1168560"/>
                          <a:tab algn="l" pos="1752480"/>
                          <a:tab algn="l" pos="2336760"/>
                          <a:tab algn="l" pos="2921040"/>
                          <a:tab algn="l" pos="3505320"/>
                          <a:tab algn="l" pos="4089240"/>
                          <a:tab algn="l" pos="4673520"/>
                          <a:tab algn="l" pos="5257800"/>
                          <a:tab algn="l" pos="5842080"/>
                          <a:tab algn="l" pos="6426360"/>
                          <a:tab algn="l" pos="7010280"/>
                          <a:tab algn="l" pos="7594560"/>
                          <a:tab algn="l" pos="8178840"/>
                          <a:tab algn="l" pos="8763120"/>
                          <a:tab algn="l" pos="9347040"/>
                          <a:tab algn="l" pos="9931320"/>
                          <a:tab algn="l" pos="10515600"/>
                        </a:tabLst>
                      </a:pPr>
                      <a:r>
                        <a:rPr b="0" i="1" lang="ru-RU" sz="2800" spc="-1" strike="noStrike">
                          <a:solidFill>
                            <a:srgbClr val="535353"/>
                          </a:solidFill>
                          <a:latin typeface="Times New Roman"/>
                          <a:ea typeface="Times New Roman"/>
                        </a:rPr>
                        <a:t>Варианты ответа</a:t>
                      </a:r>
                      <a:endParaRPr b="0" lang="en-US" sz="2800" spc="-1" strike="noStrike">
                        <a:solidFill>
                          <a:srgbClr val="535353"/>
                        </a:solidFill>
                        <a:latin typeface="Gill Sans Light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84280"/>
                          <a:tab algn="l" pos="1168560"/>
                          <a:tab algn="l" pos="1752480"/>
                          <a:tab algn="l" pos="2336760"/>
                          <a:tab algn="l" pos="2921040"/>
                          <a:tab algn="l" pos="3505320"/>
                          <a:tab algn="l" pos="4089240"/>
                          <a:tab algn="l" pos="4673520"/>
                          <a:tab algn="l" pos="5257800"/>
                          <a:tab algn="l" pos="5842080"/>
                          <a:tab algn="l" pos="6426360"/>
                          <a:tab algn="l" pos="7010280"/>
                          <a:tab algn="l" pos="7594560"/>
                          <a:tab algn="l" pos="8178840"/>
                          <a:tab algn="l" pos="8763120"/>
                          <a:tab algn="l" pos="9347040"/>
                          <a:tab algn="l" pos="9931320"/>
                          <a:tab algn="l" pos="10515600"/>
                        </a:tabLst>
                      </a:pPr>
                      <a:r>
                        <a:rPr b="0" lang="ru-RU" sz="2800" spc="-1" strike="noStrike">
                          <a:solidFill>
                            <a:srgbClr val="535353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2800" spc="-1" strike="noStrike">
                        <a:solidFill>
                          <a:srgbClr val="535353"/>
                        </a:solidFill>
                        <a:latin typeface="Gill Sans Light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69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84280"/>
                          <a:tab algn="l" pos="1168560"/>
                          <a:tab algn="l" pos="1752480"/>
                          <a:tab algn="l" pos="2336760"/>
                          <a:tab algn="l" pos="2921040"/>
                          <a:tab algn="l" pos="3505320"/>
                          <a:tab algn="l" pos="4089240"/>
                          <a:tab algn="l" pos="4673520"/>
                          <a:tab algn="l" pos="5257800"/>
                          <a:tab algn="l" pos="5842080"/>
                          <a:tab algn="l" pos="6426360"/>
                          <a:tab algn="l" pos="7010280"/>
                          <a:tab algn="l" pos="7594560"/>
                          <a:tab algn="l" pos="8178840"/>
                          <a:tab algn="l" pos="8763120"/>
                          <a:tab algn="l" pos="9347040"/>
                          <a:tab algn="l" pos="9931320"/>
                          <a:tab algn="l" pos="10515600"/>
                        </a:tabLst>
                      </a:pPr>
                      <a:r>
                        <a:rPr b="0" lang="ru-RU" sz="2800" spc="-1" strike="noStrike">
                          <a:solidFill>
                            <a:srgbClr val="535353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535353"/>
                        </a:solidFill>
                        <a:latin typeface="Gill Sans Light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84280"/>
                          <a:tab algn="l" pos="1168560"/>
                          <a:tab algn="l" pos="1752480"/>
                          <a:tab algn="l" pos="2336760"/>
                          <a:tab algn="l" pos="2921040"/>
                          <a:tab algn="l" pos="3505320"/>
                          <a:tab algn="l" pos="4089240"/>
                          <a:tab algn="l" pos="4673520"/>
                          <a:tab algn="l" pos="5257800"/>
                          <a:tab algn="l" pos="5842080"/>
                          <a:tab algn="l" pos="6426360"/>
                          <a:tab algn="l" pos="7010280"/>
                          <a:tab algn="l" pos="7594560"/>
                          <a:tab algn="l" pos="8178840"/>
                          <a:tab algn="l" pos="8763120"/>
                          <a:tab algn="l" pos="9347040"/>
                          <a:tab algn="l" pos="9931320"/>
                          <a:tab algn="l" pos="10515600"/>
                        </a:tabLst>
                      </a:pPr>
                      <a:r>
                        <a:rPr b="0" lang="ru-RU" sz="2800" spc="-1" strike="noStrike">
                          <a:solidFill>
                            <a:srgbClr val="535353"/>
                          </a:solidFill>
                          <a:latin typeface="Times New Roman"/>
                          <a:ea typeface="Times New Roman"/>
                        </a:rPr>
                        <a:t>Да</a:t>
                      </a:r>
                      <a:endParaRPr b="0" lang="en-US" sz="2800" spc="-1" strike="noStrike">
                        <a:solidFill>
                          <a:srgbClr val="535353"/>
                        </a:solidFill>
                        <a:latin typeface="Gill Sans Light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84280"/>
                          <a:tab algn="l" pos="1168560"/>
                          <a:tab algn="l" pos="1752480"/>
                          <a:tab algn="l" pos="2336760"/>
                          <a:tab algn="l" pos="2921040"/>
                          <a:tab algn="l" pos="3505320"/>
                          <a:tab algn="l" pos="4089240"/>
                          <a:tab algn="l" pos="4673520"/>
                          <a:tab algn="l" pos="5257800"/>
                          <a:tab algn="l" pos="5842080"/>
                          <a:tab algn="l" pos="6426360"/>
                          <a:tab algn="l" pos="7010280"/>
                          <a:tab algn="l" pos="7594560"/>
                          <a:tab algn="l" pos="8178840"/>
                          <a:tab algn="l" pos="8763120"/>
                          <a:tab algn="l" pos="9347040"/>
                          <a:tab algn="l" pos="9931320"/>
                          <a:tab algn="l" pos="10515600"/>
                        </a:tabLst>
                      </a:pPr>
                      <a:r>
                        <a:rPr b="1" lang="ru-RU" sz="2800" spc="-1" strike="noStrike">
                          <a:solidFill>
                            <a:srgbClr val="535353"/>
                          </a:solidFill>
                          <a:latin typeface="Times New Roman"/>
                          <a:ea typeface="Times New Roman"/>
                        </a:rPr>
                        <a:t>12,3</a:t>
                      </a:r>
                      <a:endParaRPr b="0" lang="en-US" sz="2800" spc="-1" strike="noStrike">
                        <a:solidFill>
                          <a:srgbClr val="535353"/>
                        </a:solidFill>
                        <a:latin typeface="Gill Sans Light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69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84280"/>
                          <a:tab algn="l" pos="1168560"/>
                          <a:tab algn="l" pos="1752480"/>
                          <a:tab algn="l" pos="2336760"/>
                          <a:tab algn="l" pos="2921040"/>
                          <a:tab algn="l" pos="3505320"/>
                          <a:tab algn="l" pos="4089240"/>
                          <a:tab algn="l" pos="4673520"/>
                          <a:tab algn="l" pos="5257800"/>
                          <a:tab algn="l" pos="5842080"/>
                          <a:tab algn="l" pos="6426360"/>
                          <a:tab algn="l" pos="7010280"/>
                          <a:tab algn="l" pos="7594560"/>
                          <a:tab algn="l" pos="8178840"/>
                          <a:tab algn="l" pos="8763120"/>
                          <a:tab algn="l" pos="9347040"/>
                          <a:tab algn="l" pos="9931320"/>
                          <a:tab algn="l" pos="10515600"/>
                        </a:tabLst>
                      </a:pPr>
                      <a:r>
                        <a:rPr b="0" lang="ru-RU" sz="2800" spc="-1" strike="noStrike">
                          <a:solidFill>
                            <a:srgbClr val="535353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535353"/>
                        </a:solidFill>
                        <a:latin typeface="Gill Sans Light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84280"/>
                          <a:tab algn="l" pos="1168560"/>
                          <a:tab algn="l" pos="1752480"/>
                          <a:tab algn="l" pos="2336760"/>
                          <a:tab algn="l" pos="2921040"/>
                          <a:tab algn="l" pos="3505320"/>
                          <a:tab algn="l" pos="4089240"/>
                          <a:tab algn="l" pos="4673520"/>
                          <a:tab algn="l" pos="5257800"/>
                          <a:tab algn="l" pos="5842080"/>
                          <a:tab algn="l" pos="6426360"/>
                          <a:tab algn="l" pos="7010280"/>
                          <a:tab algn="l" pos="7594560"/>
                          <a:tab algn="l" pos="8178840"/>
                          <a:tab algn="l" pos="8763120"/>
                          <a:tab algn="l" pos="9347040"/>
                          <a:tab algn="l" pos="9931320"/>
                          <a:tab algn="l" pos="10515600"/>
                        </a:tabLst>
                      </a:pPr>
                      <a:r>
                        <a:rPr b="0" lang="ru-RU" sz="2800" spc="-1" strike="noStrike">
                          <a:solidFill>
                            <a:srgbClr val="535353"/>
                          </a:solidFill>
                          <a:latin typeface="Times New Roman"/>
                          <a:ea typeface="Times New Roman"/>
                        </a:rPr>
                        <a:t>Нет</a:t>
                      </a:r>
                      <a:endParaRPr b="0" lang="en-US" sz="2800" spc="-1" strike="noStrike">
                        <a:solidFill>
                          <a:srgbClr val="535353"/>
                        </a:solidFill>
                        <a:latin typeface="Gill Sans Light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84280"/>
                          <a:tab algn="l" pos="1168560"/>
                          <a:tab algn="l" pos="1752480"/>
                          <a:tab algn="l" pos="2336760"/>
                          <a:tab algn="l" pos="2921040"/>
                          <a:tab algn="l" pos="3505320"/>
                          <a:tab algn="l" pos="4089240"/>
                          <a:tab algn="l" pos="4673520"/>
                          <a:tab algn="l" pos="5257800"/>
                          <a:tab algn="l" pos="5842080"/>
                          <a:tab algn="l" pos="6426360"/>
                          <a:tab algn="l" pos="7010280"/>
                          <a:tab algn="l" pos="7594560"/>
                          <a:tab algn="l" pos="8178840"/>
                          <a:tab algn="l" pos="8763120"/>
                          <a:tab algn="l" pos="9347040"/>
                          <a:tab algn="l" pos="9931320"/>
                          <a:tab algn="l" pos="10515600"/>
                        </a:tabLst>
                      </a:pPr>
                      <a:r>
                        <a:rPr b="0" lang="ru-RU" sz="2800" spc="-1" strike="noStrike">
                          <a:solidFill>
                            <a:srgbClr val="535353"/>
                          </a:solidFill>
                          <a:latin typeface="Times New Roman"/>
                          <a:ea typeface="Times New Roman"/>
                        </a:rPr>
                        <a:t>60,3</a:t>
                      </a:r>
                      <a:endParaRPr b="0" lang="en-US" sz="2800" spc="-1" strike="noStrike">
                        <a:solidFill>
                          <a:srgbClr val="535353"/>
                        </a:solidFill>
                        <a:latin typeface="Gill Sans Light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69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84280"/>
                          <a:tab algn="l" pos="1168560"/>
                          <a:tab algn="l" pos="1752480"/>
                          <a:tab algn="l" pos="2336760"/>
                          <a:tab algn="l" pos="2921040"/>
                          <a:tab algn="l" pos="3505320"/>
                          <a:tab algn="l" pos="4089240"/>
                          <a:tab algn="l" pos="4673520"/>
                          <a:tab algn="l" pos="5257800"/>
                          <a:tab algn="l" pos="5842080"/>
                          <a:tab algn="l" pos="6426360"/>
                          <a:tab algn="l" pos="7010280"/>
                          <a:tab algn="l" pos="7594560"/>
                          <a:tab algn="l" pos="8178840"/>
                          <a:tab algn="l" pos="8763120"/>
                          <a:tab algn="l" pos="9347040"/>
                          <a:tab algn="l" pos="9931320"/>
                          <a:tab algn="l" pos="10515600"/>
                        </a:tabLst>
                      </a:pPr>
                      <a:r>
                        <a:rPr b="0" lang="ru-RU" sz="2800" spc="-1" strike="noStrike">
                          <a:solidFill>
                            <a:srgbClr val="535353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535353"/>
                        </a:solidFill>
                        <a:latin typeface="Gill Sans Light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84280"/>
                          <a:tab algn="l" pos="1168560"/>
                          <a:tab algn="l" pos="1752480"/>
                          <a:tab algn="l" pos="2336760"/>
                          <a:tab algn="l" pos="2921040"/>
                          <a:tab algn="l" pos="3505320"/>
                          <a:tab algn="l" pos="4089240"/>
                          <a:tab algn="l" pos="4673520"/>
                          <a:tab algn="l" pos="5257800"/>
                          <a:tab algn="l" pos="5842080"/>
                          <a:tab algn="l" pos="6426360"/>
                          <a:tab algn="l" pos="7010280"/>
                          <a:tab algn="l" pos="7594560"/>
                          <a:tab algn="l" pos="8178840"/>
                          <a:tab algn="l" pos="8763120"/>
                          <a:tab algn="l" pos="9347040"/>
                          <a:tab algn="l" pos="9931320"/>
                          <a:tab algn="l" pos="10515600"/>
                        </a:tabLst>
                      </a:pPr>
                      <a:r>
                        <a:rPr b="0" lang="ru-RU" sz="2800" spc="-1" strike="noStrike">
                          <a:solidFill>
                            <a:srgbClr val="535353"/>
                          </a:solidFill>
                          <a:latin typeface="Times New Roman"/>
                          <a:ea typeface="Times New Roman"/>
                        </a:rPr>
                        <a:t>Затруднились ответить</a:t>
                      </a:r>
                      <a:endParaRPr b="0" lang="en-US" sz="2800" spc="-1" strike="noStrike">
                        <a:solidFill>
                          <a:srgbClr val="535353"/>
                        </a:solidFill>
                        <a:latin typeface="Gill Sans Light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84280"/>
                          <a:tab algn="l" pos="1168560"/>
                          <a:tab algn="l" pos="1752480"/>
                          <a:tab algn="l" pos="2336760"/>
                          <a:tab algn="l" pos="2921040"/>
                          <a:tab algn="l" pos="3505320"/>
                          <a:tab algn="l" pos="4089240"/>
                          <a:tab algn="l" pos="4673520"/>
                          <a:tab algn="l" pos="5257800"/>
                          <a:tab algn="l" pos="5842080"/>
                          <a:tab algn="l" pos="6426360"/>
                          <a:tab algn="l" pos="7010280"/>
                          <a:tab algn="l" pos="7594560"/>
                          <a:tab algn="l" pos="8178840"/>
                          <a:tab algn="l" pos="8763120"/>
                          <a:tab algn="l" pos="9347040"/>
                          <a:tab algn="l" pos="9931320"/>
                          <a:tab algn="l" pos="10515600"/>
                        </a:tabLst>
                      </a:pPr>
                      <a:r>
                        <a:rPr b="1" lang="ru-RU" sz="2800" spc="-1" strike="noStrike">
                          <a:solidFill>
                            <a:srgbClr val="535353"/>
                          </a:solidFill>
                          <a:latin typeface="Times New Roman"/>
                          <a:ea typeface="Times New Roman"/>
                        </a:rPr>
                        <a:t>27,4</a:t>
                      </a:r>
                      <a:endParaRPr b="0" lang="en-US" sz="2800" spc="-1" strike="noStrike">
                        <a:solidFill>
                          <a:srgbClr val="535353"/>
                        </a:solidFill>
                        <a:latin typeface="Gill Sans Light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8" name="Rectangle 2"/>
          <p:cNvSpPr/>
          <p:nvPr/>
        </p:nvSpPr>
        <p:spPr>
          <a:xfrm>
            <a:off x="358920" y="343800"/>
            <a:ext cx="12287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535353"/>
                </a:solidFill>
                <a:latin typeface="Times New Roman"/>
                <a:ea typeface="Times New Roman"/>
              </a:rPr>
              <a:t>Распределение ответов на вопрос «Есть ли/ были ли у Вас отдельные уроки по краеведению?»</a:t>
            </a:r>
            <a:endParaRPr b="0" lang="en-US" sz="3600" spc="-1" strike="noStrike">
              <a:solidFill>
                <a:srgbClr val="535353"/>
              </a:solidFill>
              <a:latin typeface="Gill Sans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35353"/>
              </a:solidFill>
              <a:latin typeface="Gill Sans Light"/>
            </a:endParaRPr>
          </a:p>
        </p:txBody>
      </p:sp>
      <p:sp>
        <p:nvSpPr>
          <p:cNvPr id="59" name="Rectangle 2"/>
          <p:cNvSpPr/>
          <p:nvPr/>
        </p:nvSpPr>
        <p:spPr>
          <a:xfrm>
            <a:off x="573120" y="4174560"/>
            <a:ext cx="12072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535353"/>
                </a:solidFill>
                <a:latin typeface="Times New Roman"/>
                <a:ea typeface="Times New Roman"/>
              </a:rPr>
              <a:t>Распределение ответов на вопрос «Велись ли на территории Ульяновской области боевые действия?»</a:t>
            </a:r>
            <a:endParaRPr b="0" lang="en-US" sz="3600" spc="-1" strike="noStrike">
              <a:solidFill>
                <a:srgbClr val="535353"/>
              </a:solidFill>
              <a:latin typeface="Gill Sans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35353"/>
              </a:solidFill>
              <a:latin typeface="Gill Sans Light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355320" y="484200"/>
            <a:ext cx="12293640" cy="85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520560" indent="0" algn="just">
              <a:lnSpc>
                <a:spcPct val="100000"/>
              </a:lnSpc>
              <a:spcBef>
                <a:spcPts val="46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ru-RU" sz="3400" spc="-1" strike="noStrike">
                <a:solidFill>
                  <a:srgbClr val="340053"/>
                </a:solidFill>
                <a:latin typeface="Gill Sans Light"/>
              </a:rPr>
              <a:t>        </a:t>
            </a:r>
            <a:r>
              <a:rPr b="0" lang="ru-RU" sz="3400" spc="-1" strike="noStrike">
                <a:solidFill>
                  <a:srgbClr val="340053"/>
                </a:solidFill>
                <a:latin typeface="Gill Sans Light"/>
              </a:rPr>
              <a:t>Одной из задач данного исследования стало выявление образа войны в представлениях учащихся. Война ассоциируется у молодежи с бессмысленностью, смертью, горем, отчаянием, одиночеством, жертвам, злом, разрухой, страхом.                           </a:t>
            </a:r>
            <a:endParaRPr b="0" lang="en-US" sz="3400" spc="-1" strike="noStrike">
              <a:solidFill>
                <a:srgbClr val="535353"/>
              </a:solidFill>
              <a:latin typeface="Gill Sans Light"/>
            </a:endParaRPr>
          </a:p>
          <a:p>
            <a:pPr marL="520560" indent="0" algn="just">
              <a:lnSpc>
                <a:spcPct val="100000"/>
              </a:lnSpc>
              <a:spcBef>
                <a:spcPts val="46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ru-RU" sz="3400" spc="-1" strike="noStrike">
                <a:solidFill>
                  <a:srgbClr val="340053"/>
                </a:solidFill>
                <a:latin typeface="Gill Sans Light"/>
              </a:rPr>
              <a:t>          </a:t>
            </a:r>
            <a:r>
              <a:rPr b="0" lang="ru-RU" sz="3400" spc="-1" strike="noStrike">
                <a:solidFill>
                  <a:srgbClr val="340053"/>
                </a:solidFill>
                <a:latin typeface="Gill Sans Light"/>
              </a:rPr>
              <a:t>Молодые люди описывают войну как некоторое историческое событие, естественное состояние общества, конфликт интересов государств, национальную катастрофу, легальное убийство, большое испытание. Опрошенные отмечают эмоциональную составляющую образа войны: «та же самая жизнь, но такая жизнь, которую способны прожить не все», «то, что я никогда не видел, но то, о чём я много слышал, трагедия», «кровь невинных».  </a:t>
            </a:r>
            <a:endParaRPr b="0" lang="en-US" sz="3400" spc="-1" strike="noStrike">
              <a:solidFill>
                <a:srgbClr val="535353"/>
              </a:solidFill>
              <a:latin typeface="Gill Sans Light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355320" y="279000"/>
            <a:ext cx="12293640" cy="877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120000"/>
              </a:lnSpc>
              <a:spcBef>
                <a:spcPts val="46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ru-RU" sz="4600" spc="-1" strike="noStrike">
              <a:solidFill>
                <a:srgbClr val="535353"/>
              </a:solidFill>
              <a:latin typeface="Gill Sans Light"/>
            </a:endParaRPr>
          </a:p>
        </p:txBody>
      </p:sp>
      <p:sp>
        <p:nvSpPr>
          <p:cNvPr id="62" name="Rectangle 2"/>
          <p:cNvSpPr/>
          <p:nvPr/>
        </p:nvSpPr>
        <p:spPr>
          <a:xfrm>
            <a:off x="0" y="0"/>
            <a:ext cx="13004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535353"/>
              </a:solidFill>
              <a:latin typeface="Gill Sans Light"/>
            </a:endParaRPr>
          </a:p>
        </p:txBody>
      </p:sp>
      <p:pic>
        <p:nvPicPr>
          <p:cNvPr id="63" name="Object 1" descr=""/>
          <p:cNvPicPr/>
          <p:nvPr/>
        </p:nvPicPr>
        <p:blipFill>
          <a:blip r:embed="rId1"/>
          <a:stretch/>
        </p:blipFill>
        <p:spPr>
          <a:xfrm>
            <a:off x="106200" y="214200"/>
            <a:ext cx="12539880" cy="873468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3"/>
          <p:cNvSpPr/>
          <p:nvPr/>
        </p:nvSpPr>
        <p:spPr>
          <a:xfrm>
            <a:off x="0" y="2733840"/>
            <a:ext cx="13004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535353"/>
              </a:solidFill>
              <a:latin typeface="Gill Sans Light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Александр</dc:creator>
  <dc:description/>
  <dc:language>en-US</dc:language>
  <cp:lastModifiedBy>Пользователь</cp:lastModifiedBy>
  <dcterms:modified xsi:type="dcterms:W3CDTF">2016-03-14T10:02:44Z</dcterms:modified>
  <cp:revision>30</cp:revision>
  <dc:subject/>
  <dc:title>ОГБУ «НАУЧНО-ИССЛЕДОВАТЕЛЬСКИЙ ИНСТИТУТ ИСТОРИИ И КУЛЬТУРЫ УЛЬЯНОВСКОЙ ОБЛАСТИ ИМЕНИ Н.М.КАРАМЗИНА»  результаты социологического исследования  «Историческая память о великой отечественной войне учащейся молодежи г.Ульяновска»</dc:title>
</cp:coreProperties>
</file>